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81A-F926-4255-8ECD-C0306709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75A-6D51-49C5-B186-F603221A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BBA-D1C8-4766-8168-5C24974B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6B9-4AC2-41CC-A916-FBE6FC0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AF6C-6032-4240-A1DB-5DD7ACBD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7FA3-2EF9-40E3-8EF1-A516A49A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1356-E678-4C18-A60B-DCFCAEC6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202D-ED54-47C4-A009-2933AE66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3AD8-0608-4758-ABF7-3F744DA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25FE-F086-47AE-9171-577C0AE0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437-2938-4D19-BF80-EFB6A4D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508-19FC-4AE0-83A8-A1C510E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1F11-437A-4165-BAD3-D3AEF68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C42A-E8D9-4A8A-93BF-4046714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A17B-1593-4712-B2EA-D1DE5A3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B4A7-A675-49BA-B8D5-A8BD6E30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5C95-145B-40D9-8D7F-A45D2937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2E9-8DBC-4749-8681-0D3A871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8B4-A42F-40BB-BD43-96F7CB2D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97F-2ECE-4E45-966A-434B061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222-782E-4913-B113-DB1AA0AA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15E-F1E2-4487-84D2-5E5807D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CFD9-B69D-4141-A9BD-1FD4B2D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5FC-8B8C-4CFA-8639-53870C56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7430-AB77-4660-9C22-738F0D2685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52BD-B576-410A-8692-1C1CC83B62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,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4-11-16T15:44:36Z</dcterms:modified>
  <cp:revision>36</cp:revision>
  <dc:subject/>
  <dc:title>CC51A – Ingeniería de Software</dc:title>
</cp:coreProperties>
</file>