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E70-E1B5-45EC-9080-BFCACB00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B25-EB99-4002-8450-B5EBE2FE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8BA-8A8F-4B8E-8240-94035413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603-C0EC-456E-B69C-64B952EC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1BF-F73A-4DAA-B69A-C56DA4E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DC4-5B2E-490E-96DB-D701BF31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C79-445F-4CAB-8F6B-8C6E8AC0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BFF-E3EA-4579-80E4-3220C54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87A-7448-4933-8E09-0CBF9E0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4A4-1F2B-4C9B-A750-6A57BA9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5AC-781F-493F-BF58-09F0307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315-B4CC-4531-B9CA-D77E66C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712D-65D0-441B-8A8E-BFAB24D4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Rocas Sedimenta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Lutitas, fangolitas y limo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imo (limolitas):   0.0039-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cilla (fangolitas, lutitas):   &lt; 0.0039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atificación: Lutitas:             Sí (fi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Fangolitas:        No (no fisible)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2819520"/>
            <a:ext cx="2361960" cy="2286000"/>
            <a:chOff x="3505320" y="2819520"/>
            <a:chExt cx="2361960" cy="2286000"/>
          </a:xfrm>
        </p:grpSpPr>
        <p:sp>
          <p:nvSpPr>
            <p:cNvPr id="204" name=""/>
            <p:cNvSpPr/>
            <p:nvPr/>
          </p:nvSpPr>
          <p:spPr>
            <a:xfrm>
              <a:off x="3505320" y="2819520"/>
              <a:ext cx="2361960" cy="204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34960" y="2976480"/>
              <a:ext cx="629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22280" y="341028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37280" y="40284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39496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4960" y="4634640"/>
              <a:ext cx="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77640" y="37242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960" y="325764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9080" y="4251600"/>
              <a:ext cx="162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3784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4856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9080" y="3257640"/>
              <a:ext cx="0" cy="9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9080" y="375480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80760" y="32004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38098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petrol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640" y="41148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aprope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120" y="4952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bit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8000" y="4800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t.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7280" y="4800600"/>
            <a:ext cx="10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13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nerales de ar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6040" y="26668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ango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3505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M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880" y="41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Calcilut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4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88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960" y="3124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6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bio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izas bioclá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ut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uesta de fragmen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(conchas, huesos...)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Al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frag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ruditas  &gt;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arenitas 0.0625-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lutitas &lt; 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quina: roca con más del 80% de restos de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15000" y="205704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53352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Rocas Quí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calcáreos: Calizas, dolomita,  travertino, cal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erriferos: Hierro bandeado  (depósitos tipo 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silicios: Ch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osfáticos: Fosforita, colof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evaporíticos: Yeso, anhidrita, halita, silvita, polihalita, magnesita, carnal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l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Esfer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edon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Madurez textural Vs compos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295280" cy="3933720"/>
          </a:xfrm>
          <a:prstGeom prst="rect">
            <a:avLst/>
          </a:prstGeom>
          <a:ln w="0">
            <a:noFill/>
          </a:ln>
        </p:spPr>
      </p:pic>
      <p:pic>
        <p:nvPicPr>
          <p:cNvPr id="242" name="sorting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5160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esfericidad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2878200" cy="1888920"/>
          </a:xfrm>
          <a:prstGeom prst="rect">
            <a:avLst/>
          </a:prstGeom>
          <a:ln w="0">
            <a:noFill/>
          </a:ln>
        </p:spPr>
      </p:pic>
      <p:pic>
        <p:nvPicPr>
          <p:cNvPr id="244" name="redondez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5045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Estructuras sedimentari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Características morfológicas más grandes que un grano y lo suficientemente pequeña para ser vista en afl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ndu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ndulas%20con%20crestas%20rectas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4266720" y="3505320"/>
            <a:ext cx="68580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autas                                                    Surcos de arr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Flautas%20en%20turbidita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45080" cy="4267440"/>
          </a:xfrm>
          <a:prstGeom prst="rect">
            <a:avLst/>
          </a:prstGeom>
          <a:ln w="0">
            <a:noFill/>
          </a:ln>
        </p:spPr>
      </p:pic>
      <p:pic>
        <p:nvPicPr>
          <p:cNvPr id="251" name="Surcos%20de%20arrastre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76520" y="1523880"/>
            <a:ext cx="83808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omatolitos                                               Madrigu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Stromatolitos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255" name="Madrigueras%20Fodinichnia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00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ORI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ocas Sedi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ambios Químicos y Físicos durante y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brevemente después de su acumu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Soli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95680" y="1905120"/>
            <a:ext cx="45720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De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Clásticos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piclásticos: Meteorización y erosión de roc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ioclásticos: Remanentes de organ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iroclásticos: Derivados de erupciones volcánicas (tobas,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     brecha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Quím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ecipitación de sales disueltas y otros elementos en aguas (océanos, lagos, pantanos.....)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vaporación, sobresaturación, diagénesi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Grav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ídas y deslizamientos de rocas, flujos de det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gu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yor agente de transporte. Solución, tracción, saltación, 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racción, suspensión, sal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Hie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om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Componentes 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uarzo, feldespato, micas, arcillas, fragmentos de rocas, granos de caliz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Bi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crofósiles, microfó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Pir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loques, bombas, lapilli, ceniza, vi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rbonatos, sílice, silicatos, fosfatos, sulfuros, sulfatos, clor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ículas, matriz, cemento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iferencia entre matriz y partículas (g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 (arbitr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lena el espacio entre poros, li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icrita, esparita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325520" cy="285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9092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Conglomerados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: % Tamaño mayor a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isca      Arenisca     Conglomerado             Conglom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gruesa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0    5                        30               50                          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araconglomerados               Ortoconglo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ligomíctico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olimí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733920"/>
            <a:ext cx="2469960" cy="941400"/>
            <a:chOff x="685800" y="3733920"/>
            <a:chExt cx="2469960" cy="941400"/>
          </a:xfrm>
        </p:grpSpPr>
        <p:grpSp>
          <p:nvGrpSpPr>
            <p:cNvPr id="65" name=""/>
            <p:cNvGrpSpPr/>
            <p:nvPr/>
          </p:nvGrpSpPr>
          <p:grpSpPr>
            <a:xfrm>
              <a:off x="685800" y="3733920"/>
              <a:ext cx="1006200" cy="941400"/>
              <a:chOff x="685800" y="3733920"/>
              <a:chExt cx="1006200" cy="9414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733920"/>
                <a:ext cx="1006200" cy="941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77240" y="401616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02200">
                <a:off x="1051560" y="4110120"/>
                <a:ext cx="182880" cy="282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080400">
                <a:off x="1326240" y="3921840"/>
                <a:ext cx="274320" cy="18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1560" y="3827880"/>
                <a:ext cx="18288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" y="429840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26240" y="420480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3000" y="4393080"/>
                <a:ext cx="27432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870400">
                <a:off x="868680" y="4392720"/>
                <a:ext cx="182880" cy="188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624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868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149560" y="3733920"/>
              <a:ext cx="1006200" cy="941400"/>
              <a:chOff x="2149560" y="3733920"/>
              <a:chExt cx="1006200" cy="941400"/>
            </a:xfrm>
          </p:grpSpPr>
          <p:sp>
            <p:nvSpPr>
              <p:cNvPr id="78" name=""/>
              <p:cNvSpPr/>
              <p:nvPr/>
            </p:nvSpPr>
            <p:spPr>
              <a:xfrm>
                <a:off x="2149560" y="3733920"/>
                <a:ext cx="1006200" cy="941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3880" y="3827880"/>
                <a:ext cx="288720" cy="313560"/>
              </a:xfrm>
              <a:custGeom>
                <a:avLst/>
                <a:gdLst/>
                <a:ahLst/>
                <a:rect l="l" t="t" r="r" b="b"/>
                <a:pathLst>
                  <a:path w="455" h="480">
                    <a:moveTo>
                      <a:pt x="229" y="0"/>
                    </a:moveTo>
                    <a:cubicBezTo>
                      <a:pt x="205" y="68"/>
                      <a:pt x="165" y="108"/>
                      <a:pt x="122" y="160"/>
                    </a:cubicBezTo>
                    <a:cubicBezTo>
                      <a:pt x="112" y="172"/>
                      <a:pt x="108" y="190"/>
                      <a:pt x="95" y="200"/>
                    </a:cubicBezTo>
                    <a:cubicBezTo>
                      <a:pt x="84" y="209"/>
                      <a:pt x="68" y="209"/>
                      <a:pt x="55" y="213"/>
                    </a:cubicBezTo>
                    <a:cubicBezTo>
                      <a:pt x="46" y="240"/>
                      <a:pt x="0" y="319"/>
                      <a:pt x="55" y="347"/>
                    </a:cubicBezTo>
                    <a:cubicBezTo>
                      <a:pt x="87" y="363"/>
                      <a:pt x="126" y="356"/>
                      <a:pt x="162" y="360"/>
                    </a:cubicBezTo>
                    <a:cubicBezTo>
                      <a:pt x="180" y="378"/>
                      <a:pt x="199" y="394"/>
                      <a:pt x="215" y="413"/>
                    </a:cubicBezTo>
                    <a:cubicBezTo>
                      <a:pt x="225" y="425"/>
                      <a:pt x="229" y="443"/>
                      <a:pt x="242" y="453"/>
                    </a:cubicBezTo>
                    <a:cubicBezTo>
                      <a:pt x="253" y="462"/>
                      <a:pt x="328" y="478"/>
                      <a:pt x="335" y="480"/>
                    </a:cubicBezTo>
                    <a:cubicBezTo>
                      <a:pt x="348" y="476"/>
                      <a:pt x="365" y="477"/>
                      <a:pt x="375" y="467"/>
                    </a:cubicBezTo>
                    <a:cubicBezTo>
                      <a:pt x="398" y="444"/>
                      <a:pt x="429" y="387"/>
                      <a:pt x="429" y="387"/>
                    </a:cubicBezTo>
                    <a:cubicBezTo>
                      <a:pt x="433" y="374"/>
                      <a:pt x="440" y="361"/>
                      <a:pt x="442" y="347"/>
                    </a:cubicBezTo>
                    <a:cubicBezTo>
                      <a:pt x="449" y="281"/>
                      <a:pt x="455" y="214"/>
                      <a:pt x="455" y="147"/>
                    </a:cubicBezTo>
                    <a:cubicBezTo>
                      <a:pt x="455" y="41"/>
                      <a:pt x="331" y="98"/>
                      <a:pt x="269" y="53"/>
                    </a:cubicBezTo>
                    <a:cubicBezTo>
                      <a:pt x="251" y="40"/>
                      <a:pt x="242" y="18"/>
                      <a:pt x="229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71280" y="4366800"/>
                <a:ext cx="164520" cy="125280"/>
              </a:xfrm>
              <a:custGeom>
                <a:avLst/>
                <a:gdLst/>
                <a:ahLst/>
                <a:rect l="l" t="t" r="r" b="b"/>
                <a:pathLst>
                  <a:path w="259" h="192">
                    <a:moveTo>
                      <a:pt x="146" y="0"/>
                    </a:moveTo>
                    <a:cubicBezTo>
                      <a:pt x="86" y="40"/>
                      <a:pt x="39" y="87"/>
                      <a:pt x="0" y="147"/>
                    </a:cubicBezTo>
                    <a:cubicBezTo>
                      <a:pt x="61" y="186"/>
                      <a:pt x="61" y="192"/>
                      <a:pt x="133" y="173"/>
                    </a:cubicBezTo>
                    <a:cubicBezTo>
                      <a:pt x="179" y="143"/>
                      <a:pt x="201" y="106"/>
                      <a:pt x="240" y="67"/>
                    </a:cubicBezTo>
                    <a:cubicBezTo>
                      <a:pt x="244" y="54"/>
                      <a:pt x="259" y="40"/>
                      <a:pt x="253" y="27"/>
                    </a:cubicBezTo>
                    <a:cubicBezTo>
                      <a:pt x="247" y="14"/>
                      <a:pt x="227" y="16"/>
                      <a:pt x="213" y="13"/>
                    </a:cubicBezTo>
                    <a:cubicBezTo>
                      <a:pt x="191" y="7"/>
                      <a:pt x="168" y="4"/>
                      <a:pt x="146" y="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23880" y="4393080"/>
                <a:ext cx="195480" cy="226800"/>
              </a:xfrm>
              <a:custGeom>
                <a:avLst/>
                <a:gdLst/>
                <a:ahLst/>
                <a:rect l="l" t="t" r="r" b="b"/>
                <a:pathLst>
                  <a:path w="308" h="347">
                    <a:moveTo>
                      <a:pt x="288" y="0"/>
                    </a:moveTo>
                    <a:cubicBezTo>
                      <a:pt x="202" y="12"/>
                      <a:pt x="119" y="32"/>
                      <a:pt x="35" y="53"/>
                    </a:cubicBezTo>
                    <a:cubicBezTo>
                      <a:pt x="26" y="71"/>
                      <a:pt x="11" y="87"/>
                      <a:pt x="8" y="107"/>
                    </a:cubicBezTo>
                    <a:cubicBezTo>
                      <a:pt x="0" y="162"/>
                      <a:pt x="76" y="187"/>
                      <a:pt x="115" y="200"/>
                    </a:cubicBezTo>
                    <a:cubicBezTo>
                      <a:pt x="143" y="284"/>
                      <a:pt x="130" y="303"/>
                      <a:pt x="195" y="347"/>
                    </a:cubicBezTo>
                    <a:cubicBezTo>
                      <a:pt x="214" y="309"/>
                      <a:pt x="248" y="280"/>
                      <a:pt x="262" y="240"/>
                    </a:cubicBezTo>
                    <a:cubicBezTo>
                      <a:pt x="273" y="211"/>
                      <a:pt x="270" y="178"/>
                      <a:pt x="275" y="147"/>
                    </a:cubicBezTo>
                    <a:cubicBezTo>
                      <a:pt x="285" y="87"/>
                      <a:pt x="308" y="56"/>
                      <a:pt x="28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51560" y="3930480"/>
                <a:ext cx="173880" cy="253080"/>
              </a:xfrm>
              <a:custGeom>
                <a:avLst/>
                <a:gdLst/>
                <a:ahLst/>
                <a:rect l="l" t="t" r="r" b="b"/>
                <a:pathLst>
                  <a:path w="274" h="387">
                    <a:moveTo>
                      <a:pt x="127" y="0"/>
                    </a:moveTo>
                    <a:cubicBezTo>
                      <a:pt x="123" y="31"/>
                      <a:pt x="123" y="64"/>
                      <a:pt x="114" y="94"/>
                    </a:cubicBezTo>
                    <a:cubicBezTo>
                      <a:pt x="109" y="109"/>
                      <a:pt x="93" y="119"/>
                      <a:pt x="87" y="134"/>
                    </a:cubicBezTo>
                    <a:cubicBezTo>
                      <a:pt x="37" y="265"/>
                      <a:pt x="111" y="146"/>
                      <a:pt x="47" y="240"/>
                    </a:cubicBezTo>
                    <a:cubicBezTo>
                      <a:pt x="34" y="279"/>
                      <a:pt x="0" y="332"/>
                      <a:pt x="34" y="374"/>
                    </a:cubicBezTo>
                    <a:cubicBezTo>
                      <a:pt x="43" y="385"/>
                      <a:pt x="61" y="383"/>
                      <a:pt x="74" y="387"/>
                    </a:cubicBezTo>
                    <a:cubicBezTo>
                      <a:pt x="105" y="383"/>
                      <a:pt x="137" y="383"/>
                      <a:pt x="167" y="374"/>
                    </a:cubicBezTo>
                    <a:cubicBezTo>
                      <a:pt x="217" y="359"/>
                      <a:pt x="202" y="339"/>
                      <a:pt x="234" y="307"/>
                    </a:cubicBezTo>
                    <a:cubicBezTo>
                      <a:pt x="245" y="296"/>
                      <a:pt x="261" y="289"/>
                      <a:pt x="274" y="280"/>
                    </a:cubicBezTo>
                    <a:cubicBezTo>
                      <a:pt x="269" y="227"/>
                      <a:pt x="267" y="173"/>
                      <a:pt x="260" y="120"/>
                    </a:cubicBezTo>
                    <a:cubicBezTo>
                      <a:pt x="258" y="106"/>
                      <a:pt x="258" y="88"/>
                      <a:pt x="247" y="80"/>
                    </a:cubicBezTo>
                    <a:cubicBezTo>
                      <a:pt x="224" y="64"/>
                      <a:pt x="167" y="54"/>
                      <a:pt x="167" y="54"/>
                    </a:cubicBezTo>
                    <a:cubicBezTo>
                      <a:pt x="151" y="4"/>
                      <a:pt x="166" y="20"/>
                      <a:pt x="12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9560" y="4110480"/>
                <a:ext cx="274320" cy="255240"/>
              </a:xfrm>
              <a:custGeom>
                <a:avLst/>
                <a:gdLst/>
                <a:ahLst/>
                <a:rect l="l" t="t" r="r" b="b"/>
                <a:pathLst>
                  <a:path w="391" h="391">
                    <a:moveTo>
                      <a:pt x="297" y="23"/>
                    </a:moveTo>
                    <a:cubicBezTo>
                      <a:pt x="0" y="45"/>
                      <a:pt x="82" y="31"/>
                      <a:pt x="97" y="383"/>
                    </a:cubicBezTo>
                    <a:cubicBezTo>
                      <a:pt x="168" y="379"/>
                      <a:pt x="243" y="391"/>
                      <a:pt x="311" y="370"/>
                    </a:cubicBezTo>
                    <a:cubicBezTo>
                      <a:pt x="338" y="362"/>
                      <a:pt x="358" y="331"/>
                      <a:pt x="364" y="303"/>
                    </a:cubicBezTo>
                    <a:cubicBezTo>
                      <a:pt x="381" y="229"/>
                      <a:pt x="369" y="151"/>
                      <a:pt x="377" y="76"/>
                    </a:cubicBezTo>
                    <a:cubicBezTo>
                      <a:pt x="378" y="62"/>
                      <a:pt x="386" y="49"/>
                      <a:pt x="391" y="36"/>
                    </a:cubicBezTo>
                    <a:cubicBezTo>
                      <a:pt x="335" y="0"/>
                      <a:pt x="366" y="6"/>
                      <a:pt x="297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70760" y="4209480"/>
                <a:ext cx="153720" cy="11736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196" y="1"/>
                    </a:moveTo>
                    <a:cubicBezTo>
                      <a:pt x="156" y="5"/>
                      <a:pt x="114" y="0"/>
                      <a:pt x="76" y="14"/>
                    </a:cubicBezTo>
                    <a:cubicBezTo>
                      <a:pt x="61" y="19"/>
                      <a:pt x="60" y="43"/>
                      <a:pt x="49" y="54"/>
                    </a:cubicBezTo>
                    <a:cubicBezTo>
                      <a:pt x="38" y="65"/>
                      <a:pt x="22" y="72"/>
                      <a:pt x="9" y="81"/>
                    </a:cubicBezTo>
                    <a:cubicBezTo>
                      <a:pt x="13" y="103"/>
                      <a:pt x="0" y="141"/>
                      <a:pt x="22" y="148"/>
                    </a:cubicBezTo>
                    <a:cubicBezTo>
                      <a:pt x="125" y="180"/>
                      <a:pt x="159" y="149"/>
                      <a:pt x="222" y="108"/>
                    </a:cubicBezTo>
                    <a:cubicBezTo>
                      <a:pt x="242" y="51"/>
                      <a:pt x="237" y="44"/>
                      <a:pt x="196" y="1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257800" y="3657600"/>
            <a:ext cx="1006560" cy="914400"/>
            <a:chOff x="5257800" y="3657600"/>
            <a:chExt cx="1006560" cy="914400"/>
          </a:xfrm>
        </p:grpSpPr>
        <p:sp>
          <p:nvSpPr>
            <p:cNvPr id="86" name=""/>
            <p:cNvSpPr/>
            <p:nvPr/>
          </p:nvSpPr>
          <p:spPr>
            <a:xfrm>
              <a:off x="5257800" y="3657600"/>
              <a:ext cx="100656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212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402336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933000">
              <a:off x="5715360" y="393192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2120" y="41148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360" y="42062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30200">
              <a:off x="5623560" y="3748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8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9680" y="42062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3560" y="4389120"/>
              <a:ext cx="27432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0680" y="42976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8240" y="43891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9680" y="4023360"/>
              <a:ext cx="18288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202800">
              <a:off x="5486040" y="3703320"/>
              <a:ext cx="9144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8240" y="37490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980000">
              <a:off x="6081480" y="3840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0680" y="40233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680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2120" y="40233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356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24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9240" y="42976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92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5486400"/>
            <a:ext cx="1006560" cy="914400"/>
            <a:chOff x="1066680" y="5486400"/>
            <a:chExt cx="1006560" cy="914400"/>
          </a:xfrm>
        </p:grpSpPr>
        <p:sp>
          <p:nvSpPr>
            <p:cNvPr id="111" name=""/>
            <p:cNvSpPr/>
            <p:nvPr/>
          </p:nvSpPr>
          <p:spPr>
            <a:xfrm>
              <a:off x="1066680" y="5486400"/>
              <a:ext cx="100656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100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85216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33000">
              <a:off x="1524240" y="576072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1000" y="59436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6035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230200">
              <a:off x="1432440" y="55774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8560" y="60350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2440" y="621792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9560" y="6126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7120" y="62179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8560" y="585216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2800">
              <a:off x="1294920" y="5532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7120" y="55778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80000">
              <a:off x="1890360" y="56689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58521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568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1000" y="58521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244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712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8120" y="61264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80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5486400"/>
            <a:ext cx="1006560" cy="914400"/>
            <a:chOff x="5181480" y="5486400"/>
            <a:chExt cx="1006560" cy="914400"/>
          </a:xfrm>
        </p:grpSpPr>
        <p:sp>
          <p:nvSpPr>
            <p:cNvPr id="136" name=""/>
            <p:cNvSpPr/>
            <p:nvPr/>
          </p:nvSpPr>
          <p:spPr>
            <a:xfrm>
              <a:off x="5181480" y="5486400"/>
              <a:ext cx="100656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2920" y="576072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02200">
              <a:off x="5547240" y="5851800"/>
              <a:ext cx="182880" cy="274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80400">
              <a:off x="5821560" y="5668920"/>
              <a:ext cx="27432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47240" y="5577840"/>
              <a:ext cx="182880" cy="1828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920" y="60350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1920" y="594360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9040" y="6126480"/>
              <a:ext cx="274320" cy="1828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870400">
              <a:off x="5364000" y="6126120"/>
              <a:ext cx="182880" cy="182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92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36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reni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 &lt;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 &gt; 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(Folk, 196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2895480"/>
            <a:ext cx="3657600" cy="2520720"/>
            <a:chOff x="2590920" y="2895480"/>
            <a:chExt cx="3657600" cy="2520720"/>
          </a:xfrm>
        </p:grpSpPr>
        <p:sp>
          <p:nvSpPr>
            <p:cNvPr id="150" name=""/>
            <p:cNvSpPr/>
            <p:nvPr/>
          </p:nvSpPr>
          <p:spPr>
            <a:xfrm>
              <a:off x="2590920" y="2895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819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8480" y="3027240"/>
              <a:ext cx="2774520" cy="23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9920" y="3291480"/>
              <a:ext cx="2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7560" y="3687480"/>
              <a:ext cx="7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3760" y="3307680"/>
              <a:ext cx="6840" cy="210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1600" y="3670200"/>
              <a:ext cx="740880" cy="17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2160" y="3674520"/>
              <a:ext cx="625680" cy="171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45560" y="3027240"/>
              <a:ext cx="5043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3200" y="4347720"/>
              <a:ext cx="2520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84840" y="4743720"/>
              <a:ext cx="1135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040" y="4300920"/>
              <a:ext cx="649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98280" y="5007960"/>
              <a:ext cx="10087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02320" y="3516840"/>
              <a:ext cx="399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500720" y="3516480"/>
              <a:ext cx="54900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5840" y="28954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enita cuarci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581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41148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eldes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69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27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44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4114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3429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124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50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340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(Folk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523880"/>
            <a:ext cx="3200400" cy="2819160"/>
            <a:chOff x="2971800" y="1523880"/>
            <a:chExt cx="3200400" cy="2819160"/>
          </a:xfrm>
        </p:grpSpPr>
        <p:sp>
          <p:nvSpPr>
            <p:cNvPr id="181" name=""/>
            <p:cNvSpPr/>
            <p:nvPr/>
          </p:nvSpPr>
          <p:spPr>
            <a:xfrm>
              <a:off x="2971800" y="1523880"/>
              <a:ext cx="3200400" cy="27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1826280"/>
              <a:ext cx="0" cy="251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3680" y="1715040"/>
              <a:ext cx="578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3299760"/>
              <a:ext cx="103644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38280" y="3238200"/>
              <a:ext cx="8636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159440" y="2252880"/>
              <a:ext cx="8485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553560" y="2071440"/>
              <a:ext cx="8362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735440" y="2071440"/>
              <a:ext cx="70920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7800" y="18262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21160" y="106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39740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3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8600" y="152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cuarc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28600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feldesp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1240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arcó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0481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860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sub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5360" y="16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028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0:49:37Z</dcterms:created>
  <dc:creator>ariel.</dc:creator>
  <dc:description/>
  <dc:language>en-US</dc:language>
  <cp:lastModifiedBy>ariel.</cp:lastModifiedBy>
  <dcterms:modified xsi:type="dcterms:W3CDTF">2003-10-29T02:05:39Z</dcterms:modified>
  <cp:revision>13</cp:revision>
  <dc:subject/>
  <dc:title>Rocas Sedimentarias</dc:title>
</cp:coreProperties>
</file>