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31D0E-2BFC-4C05-9DFA-8BE963F7A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5257A-C6FD-4A77-B305-F193242AF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AF6C5-3F76-404F-8957-E28E6897D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F3BB8-E681-4485-8FC9-E9335ECDE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2C081-EB84-4460-A988-66158BF79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53867-D7BF-4812-9629-ABFE6DBA4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7D480-C5B6-4997-BECB-B92ADFC5F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EC20B-3C8C-4784-8251-D553DB8B7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86B13-F2B7-4B36-A8A8-B789F9BF2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BFCE8-2638-405A-B3D8-8B091A42F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34160-C53A-4238-B5B2-5C6E51AA7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F90C2-87D7-41AB-BE67-30B5E8DEE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93359-EF5B-4B6D-86B0-14BC00C433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odos de Costeo: Variable y Absorbente</a:t>
            </a:r>
            <a:endParaRPr b="0" lang="en-US" sz="32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métodos de costeo responden a la pregunt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costos se deben incluir como costos del produc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eo Variable (o directo o contribucion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steo Absorbente (o completo o funcion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bos métodos difieren en la forma de tratar los costos indirectos fij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Variable</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 sistema de valoración de inventarios en el cual se incluyen todos los costos de producción variables como costos inventariables.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xcluyen (no son inventariables) los costos fijos de producción, los que se tratan como costos (gastos) del periodo en el que se incurren, al igual que los costos no productivos (Marketing, I&amp;D).</a:t>
            </a:r>
            <a:r>
              <a:rPr b="0" lang="es-ES" sz="2400" spc="-1" strike="noStrike">
                <a:solidFill>
                  <a:srgbClr val="000000"/>
                </a:solidFill>
                <a:latin typeface="Arial"/>
              </a:rPr>
              <a:t>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damento: Los costos indirectos fijos se relacionan con la capacidad de producción, que es función de un período determinado.</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método es de uso interno y presta mucha utilidad a la toma de decisiones</a:t>
            </a: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Absorbente</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 sistema de valoración de inventarios en el cual se incluyen tanto los costos variables como los costos fijos de producción, es decir el inventario “absorbe” todo el costo de produc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ducto absorbe la totalidad de los costos de producción (fijos y variables), en tanto los costos no  productivos se consideran gastos del perío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damento: tanto los costos variables como los fijos son necesarios para producir bien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el único método aceptado para fines extern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Costeo</a:t>
            </a:r>
            <a:br>
              <a:rPr sz="3200"/>
            </a:br>
            <a:r>
              <a:rPr b="0" lang="es-CL" sz="3200" spc="-1" strike="noStrike">
                <a:solidFill>
                  <a:srgbClr val="000000"/>
                </a:solidFill>
                <a:latin typeface="Arial"/>
              </a:rPr>
              <a:t>Absorbente vs. Variable</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bos sistemas de costeo difieren sólo en un aspecto conceptual, si los costos fijos de producción son inventariabl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ambos sistemas, todos los costos no relacionados con la producción (ej. I&amp;D, Marketing) tanto variables como fijos, se registran como gastos cuando se incurre en ell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quema del Estado de Resultados con ambos métodos:</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 de Produc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 de Adm. y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Fij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 de Produc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C. de Adm. y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de Adm. y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jemplo: Costeo absorbente vs. Vari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unitarios de producción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P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Variable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Fijo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u="sng">
                <a:solidFill>
                  <a:srgbClr val="000000"/>
                </a:solidFill>
                <a:uFillTx/>
                <a:latin typeface="Arial"/>
              </a:rPr>
              <a:t>2.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 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6.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cio de Vent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7.500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Variable de Adm. y Ventas</a:t>
            </a:r>
            <a:r>
              <a:rPr b="0" lang="es-ES_tradnl" sz="2400" spc="-1" strike="noStrike">
                <a:solidFill>
                  <a:srgbClr val="000000"/>
                </a:solidFill>
                <a:latin typeface="Arial"/>
              </a:rPr>
              <a:t>	</a:t>
            </a:r>
            <a:r>
              <a:rPr b="0" lang="es-ES_tradnl" sz="2400" spc="-1" strike="noStrike">
                <a:solidFill>
                  <a:srgbClr val="000000"/>
                </a:solidFill>
                <a:latin typeface="Arial"/>
              </a:rPr>
              <a:t>     $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Fijo de Adm. y Venta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hay inventario inic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or Costeo Variabl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Producción (3000*50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Producción (2500*6000)</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or Costeo Absorbente</a:t>
            </a:r>
            <a:r>
              <a:rPr b="1"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Producción (6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Inventario Final (1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gen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Gast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6.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3.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840" y="1299600"/>
            <a:ext cx="707364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los inventarios fi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absorbente: 1.000 * 5.500 =  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variable:       1.000 * 3.000 =  3.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3:48:01Z</dcterms:created>
  <dc:creator>ivan.alvarez</dc:creator>
  <dc:description/>
  <dc:language>en-US</dc:language>
  <cp:lastModifiedBy>ivan.alvarez</cp:lastModifiedBy>
  <dcterms:modified xsi:type="dcterms:W3CDTF">2005-10-14T13:48:40Z</dcterms:modified>
  <cp:revision>1</cp:revision>
  <dc:subject/>
  <dc:title>Métodos de Costeo: Variable y Absorbente</dc:title>
</cp:coreProperties>
</file>