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C9522-741F-479B-BD72-024F27457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3FA84-01F2-4AB3-86D0-F9398F053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37429-AD06-4985-9377-7BE24B86B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32F76-B46E-4741-9443-3F4F976BE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BA626-A735-4194-BED7-C79FF8B6A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7846D-0040-4121-AAD7-51312F8D5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8E4E7-CA8C-4D8A-BA4A-0F90E1F9B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80DAA-8FC5-4103-8A15-598EDE0E4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138F6-309E-492E-9B86-2073EEA31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405EB-4261-4C74-BC29-CD4A91CA1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68ED-962B-4D53-8786-ECB7FA683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0B9C-E19F-460F-8484-5A5A211E1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0D88-4D88-47EA-9C55-0795F0E7F9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de Costeo: Variable y Absorbente</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étodos de costeo responden a la pregunt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costos se deben incluir como costos del produc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eo Variable (o directo o contribuc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steo Absorbente (o completo o funcion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métodos difieren en la forma de tratar los costos indirectos fij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odos los costos de producción variables como costos inventariables.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xcluyen (no son inventariables) los costos fijos de producción, los que se tratan como costos (gastos) del periodo en el que se incurren, al igual que los costos no productivos (Marketing, I&amp;D).</a:t>
            </a:r>
            <a:r>
              <a:rPr b="0" lang="es-ES" sz="2400" spc="-1" strike="noStrike">
                <a:solidFill>
                  <a:srgbClr val="000000"/>
                </a:solidFill>
                <a:latin typeface="Arial"/>
              </a:rPr>
              <a:t>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Los costos indirectos fijos se relacionan con la capacidad de producción, que es función de un período determinado.</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es de uso interno y presta mucha utilidad a la toma de decisiones</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anto los costos variables como los costos fijos de producción, es decir el inventario “absorbe” todo el costo de produ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ducto absorbe la totalidad de los costos de producción (fijos y variables), en tanto los costos no  productivos se consideran gastos del perí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tanto los costos variables como los fijos son necesarios para producir bien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único método aceptado para fines extern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sistemas de costeo difieren sólo en un aspecto conceptual, si los costos fijos de producción son inventariabl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Fij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inventario in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Absorbente</a:t>
            </a:r>
            <a:r>
              <a:rPr b="1"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840" y="1299600"/>
            <a:ext cx="707364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1.000 * 5.500 =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1.000 * 3.000 =  3.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alvarez</cp:lastModifiedBy>
  <dcterms:modified xsi:type="dcterms:W3CDTF">2005-10-14T13:48:40Z</dcterms:modified>
  <cp:revision>1</cp:revision>
  <dc:subject/>
  <dc:title>Métodos de Costeo: Variable y Absorbente</dc:title>
</cp:coreProperties>
</file>