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DAF7-2449-4484-96F0-36D67785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B767-76C3-461F-852C-C07FA927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0CE4-996F-4CE7-AD08-CF67F624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80DB-FE47-4E86-A0F0-402706BA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3509-79A4-4E77-808F-EFE559B3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5D60-5C2A-44C5-AEB6-68F5F911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80E2-552B-411E-8E52-161C25A7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ACE-464B-4088-8F4A-CDACDF8C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BD6E-40B3-4ACB-80B7-F9A7E012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04FE-3368-45F2-AD91-8A3BD984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8F7A-B634-458A-8979-B2ACCCD0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BC5B-56F4-4403-961F-F1912F1F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9DF7-156B-47B2-AD51-CBAAD3C58E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s de Cost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istema de costeo intenta responder a preguntas tales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uánto le cuesta a una fábrica de pintura producir una lata de pintu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uanto le cuesta a una empresa auditora auditar a un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uánto le cuesta a un supermercado vender un pack de seis bebida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s preguntas se formulan con múltiples propósitos, diseñar estrategias, tomar decisiones de fijación de precios y administración de costos, y cumplir con los requisitos de presentación de informes extern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umen de costos del producto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P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0*300 + 10*1.0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2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*200 + 100*4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8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7.143 + 166.667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223.81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28.8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Unita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5,76 $/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umen de costos del product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P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*300 + 5*1.0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6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00*200 + 50*4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2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42.857 + 83.33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26.19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11.1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Unita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11,19 $/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oniendo que no hay inventarios de productos en proceso, determine el valor del producto a la salida del primer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6028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Costeo por Proce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olu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de Convers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00.000 + 300.0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de Conversión Unita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00.000 / 3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0 $/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alor del Producto al salir del primer proces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$40 + $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70 $/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ignación de Costos Indirectos: Método Conven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Objetiv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signar todos los costos indirectos incurridos en el período a los productos fabricados. Para ello se debe seleccionar una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Base de Asign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 de Asignación: es un método sistemático de relacionar un determinado costo o grupo de costos con un objetivo de costos. La selección de la base de asignación debe ser guiada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pósito perseg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sto o esfuerzo necesario para la a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bases de asignación más utilizadas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 de mano de obr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de la  mano de obr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 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de la materia prima o costo pr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 o espacio uti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una fábrica exis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artamentos Produ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artamentos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emás se ti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 de Pl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 de Departamentos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 de Departament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conveniente departamentalizar los CI, puesto que un determin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ducto no necesariamente requiere de la participación de todos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arta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1413000"/>
            <a:ext cx="8153280" cy="51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dad que realiza una función específica, que es responsabl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terminados costos y que ocupa un espacio físico determi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cedimi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r CI a Departament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tribución Pri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565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tribución Secund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r CI de los Departamentos de Producción a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entro de C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631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 de Cost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un conjunto de registros, procedimientos y equipos utilizados para recopilar, en forma rutinaria, la información de los costos de un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de costeo acumulan costos para facilitar decisiones. Nos centraremos en particular en las decisiones relacionadas con el costeo de produ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esa medir los costos por objeto de costos (no en un saco). Típicamente, departamentos o produ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333360"/>
            <a:ext cx="8534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333360"/>
            <a:ext cx="8610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1413000"/>
            <a:ext cx="8534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907920"/>
            <a:ext cx="86104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765000"/>
            <a:ext cx="8534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765000"/>
            <a:ext cx="8610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692280"/>
            <a:ext cx="876312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s de costeo básicos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 dos sistemas de costeo básico para asignar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s a productos o servic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eo por Órdenes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eo por Proc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steo por Ordenes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Objeto del Cost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una unidad individual, un lote o un servicio individual denominado trabajo. Orde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usa en empresas que producen a pedido o cuando hay centros de producción que fabrican muchos productos (ej: imprentas, constructora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hoja de costos acompaña al lote de producción, y en ella se registran los costos incurridos en cada departamento (MPD, MOD, 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sto Unitario Lote i: MPDi + MODi + CIi / Tamaño Lo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steo por 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Objeto del Cost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l proceso, que fabrican un sólo producto en grandes cant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usa en empresas con producción en grandes cantidades y en forma continua   (Ej.: Productos químicos, textiles, acero, minerí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cada proceso se miden los costos de MPD, MOD, CI incurridos en un perí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uego se determina el costo promedio de pasar una unidad de producto a través d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Unitario Proceso i: MPD + MOD + CI / Nº de unidades proce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260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 de Costeo por Órdenes de Trabaj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fábrica recibe durante un determinado período dos órdenes de trabajo, para fabricar 5.000 unidades del producto X y 1.000 unidades del producto Y, respectiv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hojas de costos muestran la siguiente 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rden de Fabricación Producto 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to. A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50 kg de PVC (300$/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 hrs (200$/h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to. B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10 kg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átex (1.000$/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00 hrs (400$/h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rden de Fabricación Producto 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to. 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 kg de PVC (300$/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00 hrs (200$/h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to. B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5 kg de látex (1.000$/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0 hrs (400$/h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demás, los costos indirectos de los departamentos A y B son de $200 mil y $250 mil, respecti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pide determinar el costo unitario de los productos X e 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olu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distribuir los costos indirectos usaremos como base de asignación las horas de mano de ob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ribución de los Costos Indirectos del Depto.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ras de MOD utilizad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ota de Costos Indirec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/ Base   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.000 / 7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85,71 $/h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asignados a X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85,71*2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57.1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asignados a Y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85,71*5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42.8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ribución de los Costos Indirectos del Depto. 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ras de MOD utilizad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ota de Costos Indirec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/ Base   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50.000 / 15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666,7 $/h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asignados a X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666,7*1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66.6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asignados a Y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666,7*5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83.3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23:42:58Z</dcterms:created>
  <dc:creator>ivan.alvarez</dc:creator>
  <dc:description/>
  <dc:language>en-US</dc:language>
  <cp:lastModifiedBy>ivan.alvarez</cp:lastModifiedBy>
  <dcterms:modified xsi:type="dcterms:W3CDTF">2005-10-18T14:06:26Z</dcterms:modified>
  <cp:revision>18</cp:revision>
  <dc:subject/>
  <dc:title>Diapositiva 1</dc:title>
</cp:coreProperties>
</file>