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uan Carlos Lucero Larenas" initials="JCL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<Relationship Id="rId15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4-08-22T21:51:24.459000000" idx="1">
    <p:pos x="10" y="10"/>
    <p:text>ejemplo de profesión del mejor consultor de software del Silicon Valley.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8969-EBDA-4F6D-A3C9-4DB71984EBF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jemplo de la profesión del mejor consultor tecnológico del silicon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681-E120-4985-B756-1C27EA78A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875-AAB2-4EEC-8865-A0E168BC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DFCB-56C8-48DB-8588-E6ECD66CC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D939-77D0-40EB-84AF-69EA2BF1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C62F5-E92E-447C-BB12-302C72A6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FB203E-0CF7-411E-BB15-160FD7E4C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2594A-7ECF-4578-BCE3-3316EDBA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C7C0D6-A4FE-4543-85F2-B0D31E36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25BB1-84F6-4373-B20B-75F6009E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4D7A7-53EF-4279-B048-942C6AE7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F66CA-7469-42D5-A377-27974440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61A1-42F9-433F-B7E0-52DB90164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BC7008-075E-45A2-9A3F-A94D5769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85A12-2431-4D9E-AAF2-A5C13D5C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F2729-E4A1-42B6-ADB6-72DBBDC3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107CF-9C85-4060-A14E-0C0F5123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A683F-24EA-4FAA-8808-1A13B33C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DA0-2B67-4565-8D7A-E85B5B5D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3D8-32F8-4432-9AC0-D12B6967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BA2-C340-49FC-8A2D-F2968075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7D16-A9DC-4B90-99CF-91523506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6F4-324D-439E-89B8-AA982D26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81F1-0B4F-45DC-AB1C-B5D61686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86C1-7949-4B74-B76B-FA92C019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2FD2-6AA4-49FE-928E-31B8D8FCF00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1841-7EF6-441E-AA38-E04D3C66DF9F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e Nro 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entes de po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uentes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 la fuerz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car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roduc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del din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conocimien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ident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oder por articula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 la fuerz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secuencias en la integridad física o daños mater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n general se emplea en situaciones donde las otras fuentes de poder se agotaron o perdieron credibil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a ética que la sustenta dice relación con proteger integridad física o sobre viv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ay culturas donde se valida, llegando incluso a influir en otros domin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Carg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secuencias en dominios organizacionales. Contrataciones, despidos, ascensos, incentivos, pedidos, decis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 asociado a la responsabilidad que tiene el que lo ost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un instrumento del diseño organizacional, a veces asociado a las competencias de los individu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unque a veces hay espacios de ambigüedad, tiene límites y atribu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s culturas organizacionales van construyendo espacios éticos que se aplica en diversos estilos y con distintos grados de legitim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roductiv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el desempeño en un  mercado. Produce bienes valorados en un mercado por clientes. Es el poder de la ofer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grado de poder depende del grado de valor que genera a otros con capacidad de adquirirlo y de las alternativas que le compit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o sustenta es la del mercado y su validación so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poderes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erechos del 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distribución del ingre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del Diner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la capacidad de acceder a bienes y servicios. Poder de la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ambién lo sustenta la ética del mercado y de los negoc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enera consecuencias más allá del ámbito del mercado, lo que plantea dilemas éticos. Por ejemp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democracia y distribución del ingr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cc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Igualdad de oportunidad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mple la función de intermediar las relaciones de oferta y dem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Conocimiento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consecuencias en generar posibilidades a otros desde lo quiebres que tien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iste en articular discursos y habilidades que permiten actuar con mayor ef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que la sustenta dice relación con el suministro de servicios profesionales, incluso se habla de ética profes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fesionales que desarrollan oferta diferenciadora. Consultores en tecnología, gestión, finanzas , economía, abogados, médicos, arquitecto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Poder por Identidad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secuencias en la oferta o capacidad declarativa de personas o ent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iene que ver con el compromiso con lo que quiero “ser” y con como me “ ven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 ética tiene que ver con la integridad entre la imagen y el compromis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 liderazgo requiere este tipo de po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n los tiempos del desarrollo de las tecnologías de información y comunicación, este poder es vit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der por Articulació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iene consecuencias en facilitar coordinaciones entre personas sin relaciones  de confianza. Ejm A, B y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 clave el desarrollo de relaciones de confianza y la capacidad escuchar los intereses, quiebres y preocupaciones y las formas de ver de los articul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ética está dada por el compromiso con ambos , podría haber conflicto por no ser “bisagra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 velocidad de los cambios , hace de este tipo de poder un factor central en los negocios de ho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xxx</cp:lastModifiedBy>
  <dcterms:modified xsi:type="dcterms:W3CDTF">2005-08-30T16:54:49Z</dcterms:modified>
  <cp:revision>11</cp:revision>
  <dc:subject/>
  <dc:title>PODER ÉTICA Y GESTIÓN</dc:title>
</cp:coreProperties>
</file>