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A83-B580-4704-9AE9-65312754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36D2-B98E-4690-9399-EE045C0C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41BE-0174-4CD3-8EC6-7A74821B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6A6-C35E-4125-9120-DA79556A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96EC5-185E-4E30-961B-3F9E7D7F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DBAAF-B55E-4FD0-AF9A-13B1A3857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F1566-911B-4562-99FD-72828645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5C8F4-D343-4501-9A98-4EC95141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A48A38-DD42-4AFC-9417-FB9A37C2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03FA29-B60C-4292-AE01-D94AFC8DC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30787-48E4-4FD7-827C-20FFCB61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4AAE-481F-40B4-9694-76BCDC3D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553EB5-3ED0-4055-9F2D-AF51CABB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449A5-2111-4262-ACF3-DE5F967C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5AC65-0799-4AA2-B9F8-8FE7F705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A8CF7-783B-446F-9B82-DDA8E401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D03B2-CA85-4293-B950-41B1E6A7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6EF4-E81E-42BA-978F-D4298560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C5DE-8145-4DDC-8E9C-FBD1BC72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943-0F7D-4A92-8F08-8654B155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0138-36A8-4A60-A08F-867FE1E6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5618-E86A-4F24-A2C7-2B15C47E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12C5-83CC-49EF-870D-71F903BA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8B5D-F5DE-4740-8914-EA207E9E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0650-0969-4008-98BF-2E9F96E58C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9CFB2-840F-478C-A75C-19E78BE3DB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e Nro  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stión del cambio, poder y ét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¿Qué es el cambi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Ocurre en un observador, tanto en términos de hechos como de evalu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us consecuencias dependen del observador y de las destrezas de és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Genera, en diversos grados, conflictos de poder y ét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 el dominio del poder cambia la correlación de fuerz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En relación a la ética, emerge una nueva correlación de valores. Cambia lo permitido o deseado y no lo permitido o no dese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solo genera resultados o impactos  diferenciales, los que lo posibilitarán, si no emergen nuevas prácticas que lo sustenta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safío de aprendizaje; paradigmas, emociones frente a incertidumbre, observar oportunidades e incorporar  nuevas práctic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 valida por la estructura de poder de una comunidad. No necesariamente importan todas las consecuencias, si las que les importan a los con poder para hacerlos val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tapas vividas en un proceso de cambio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gación del cambio. Esconder la cabeza como el avestruz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ra y enojo. Posibilidad de resentimiento y resignación. Sensación de injusticia e impot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ena y tristeza, posible vícti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diseño de un nuevo futuro. Lo que requi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cerrar el pasado y aceptar el camb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ver posibilidades para si en el nuevo escen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tomar acción para construir poder, en base a las fortalezas y debilidades y amenazas y oport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evaluación y rediseño permanente del proceso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onflictos de poder en el cambi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 oponen  dos tipos de comunidad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os que ven amenazas , dado que tienen dominio y poder desde las prácticas cuestionadas. Estas amenazas pueden ser fundadas o infundad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os lideres de espacios éticos de una comunidad. A veces se entra en conflicto con creencias y valores en otros dominios, ejemplo; Galileo, clonación, “nuestra empresa no se creó para hacer esto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o siempre es tan claro mostrar los resultados del cambio plante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a comunidad es observadora de las prácticas, consecuencias y coherencias del paradigma anteri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veces el proyecto piloto para mostrar resultados es costoso y no hay dispuestos a experimenta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 siempre es trivial la relación de causalidad entre prácticas , cambios y resultad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uchas veces el cambio genera requerimientos de infraestructura y de aprendizaje disponibles solo en periodos  muy largos y a veces los lideres del cambio no son muy sensibles a es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flictos éticos en el cambi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flictos de intereses. Dilemas étic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eglas éticas para lidiar con adversarios y conflic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 saber que de lo anterior preservar y que quitar y como se acopla con lo nue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Que lugar de la escala ética ocupan los integrantes de una comunidad, el cambio lo hago con ellos o contra ello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strategias de procesos de cambio I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692280"/>
            <a:ext cx="83628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eño equipo de cambio. Primera red de ali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aluación de impacto en actores relevantes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lasificándolos por grado de relevancia. Malla de po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neficios y objeciones reconoci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ategorización de actores en : Aliados, adversarios, neutrales. En cada uno distinguiéndolos en  tres gr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eño cronograma de actividades, con hitos visibles. Debe considerarse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gir primero actividades de alto impacto y de bajos trastornos para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 la medida que los cambios se profundizan, se profundizan la incorporación de ali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os procesos identificados y los tiempos considerados deben ser producto de la capacidad de cambio de la org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be contemplar holguras y espacios de redise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50752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strategia de procesos de cambio I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eño comunica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ones de obje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exto de información de  respaldo a las nuevas formas de trabaj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tos de comunicación , coincidentes con los hitos del proyecto, “cacarear huevos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nejo de conflict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egociación. Postergación de activ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olpes de pod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eño Organizacional dinámico que sustentará el camb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evas responsabilidades, roles y equip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seño plan de aprendizaj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stema de seguimiento y rediseño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22:31:44Z</dcterms:created>
  <dc:creator>Juan Carlos Lucero Larenas</dc:creator>
  <dc:description/>
  <dc:language>en-US</dc:language>
  <cp:lastModifiedBy>Juan Carlos Lucero Larenas</cp:lastModifiedBy>
  <dcterms:modified xsi:type="dcterms:W3CDTF">2004-09-21T02:16:33Z</dcterms:modified>
  <cp:revision>18</cp:revision>
  <dc:subject/>
  <dc:title>PODER ÉTICA Y GESTIÓN</dc:title>
</cp:coreProperties>
</file>