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359E-F57A-4524-9DD5-0AEB4FDD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F59F-C408-4021-8CCB-676D9B1C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7E93-A2F1-4512-9577-6DE34FDB4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C674-195D-427F-9540-D3B9835C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0CEB2-796C-49E8-89C3-DB339EFA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D3B5F-6CE8-412F-9390-7AD27708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EF419-6539-44DE-9ADA-7F1B7893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89BEB-7ACF-4655-8EEF-6520C830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8BD06-9227-4DE0-AF8B-5F878FB5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786F4-8BFB-4104-889C-560A8E4E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BA57F-76AA-4AF3-AD00-B8DDC625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2205-652F-4EEA-A5A7-11EACFDB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45E05-D060-486C-9DF4-2E0900AD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6710E-954D-44BF-A567-D227C5E9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ED097-B955-464B-A1CE-9B166955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191CE-497D-4EBF-9316-4069C7B2A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B64FA-DDC5-47BC-A03B-8D9D7840E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CDC9-028B-48CB-8490-52FF1624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460A-F708-4DAD-93E5-A1C67D93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8D75-AFBC-4D71-84B6-78A0277D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2939-A05B-4C32-8721-57B63F17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0A82-61C9-4800-8AAC-162374E9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219D-6E8D-40D1-931D-81339BAA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02EC-FFA7-462E-83F1-325DA71B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4FE6-FB8E-4BD0-B25E-4BD824DE050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7A80-61ED-490E-BBCF-F7C3CBDB19F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clucero@dyg.cl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DER ÉTICA Y GESTIÓ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65120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lase Nro 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oder como juicio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-5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.:Juan Carlos Lucero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. Aux.:Günther kallina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uanclucero@dyg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cccc"/>
                </a:solidFill>
                <a:latin typeface="Arial"/>
              </a:rPr>
              <a:t>gkallina@gruposol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Como Juici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s válido en un dominio específ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orta por sus consecuencias evaluadas por un observador. En este sentido es siempre potenc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s de carácter temporal y dinám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uede tener o no fundament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iene estándar , en el sentido que hay grados de po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Reflexiones adicionales del poder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Poder en el área ch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cc"/>
                </a:solidFill>
                <a:latin typeface="Arial"/>
              </a:rPr>
              <a:t>Emociones; temor, osadía, ansiedad, confianza, ingenuidad, autoestima, focalización, otr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cc"/>
                </a:solidFill>
                <a:latin typeface="Arial"/>
              </a:rPr>
              <a:t>Interpretaciones; intereses , quiebres, preocupaciones, discursos y ética de los involucrado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cc"/>
                </a:solidFill>
                <a:latin typeface="Arial"/>
              </a:rPr>
              <a:t>Habilidades conversacionales;  conv. para la acción, conv. de especulación, conv. para tener conversaciones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Poder de las re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cc"/>
                </a:solidFill>
                <a:latin typeface="Arial"/>
              </a:rPr>
              <a:t>Individuos de la red y la relación que los une; intereses, aportes y ética que los convo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cc"/>
                </a:solidFill>
                <a:latin typeface="Arial"/>
              </a:rPr>
              <a:t>Prácticas y protocolos de relación; modos de ingresar a la red, como se desarrolla poder dentro de ella, conductas sancionadas y deseadas, modos de salir de la 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ffcc"/>
                </a:solidFill>
                <a:latin typeface="Arial"/>
              </a:rPr>
              <a:t>Identificación de otras redes y la relación con ellas. Puntos de encuentro y desencuentr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2T22:31:44Z</dcterms:created>
  <dc:creator>Juan Carlos Lucero Larenas</dc:creator>
  <dc:description/>
  <dc:language>en-US</dc:language>
  <cp:lastModifiedBy>xxx</cp:lastModifiedBy>
  <dcterms:modified xsi:type="dcterms:W3CDTF">2005-08-30T16:55:04Z</dcterms:modified>
  <cp:revision>17</cp:revision>
  <dc:subject/>
  <dc:title>PODER ÉTICA Y GESTIÓN</dc:title>
</cp:coreProperties>
</file>