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6386-6A36-488A-A582-A4DAEA57B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3B4-9A4E-479A-BB59-FB4ED241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2F42-187E-4F7C-BD52-1E8E48EF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2B30-7C48-4823-A6D7-C42F7895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DFE27-5F1A-4283-AC97-94D8BFFF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EBE4A-98EF-442E-90E9-E8725111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BE2D87-843A-48BB-8B59-0F4B4333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DE4B04-1EAA-414F-AA30-508C4679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D2953-B006-4750-9824-694E8EB4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3B37D-30AF-4D0E-86A8-B488EC7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F4F84-C2E8-4EC5-AE41-73328324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85D-9F1E-46D3-8D5D-8DEDE223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4CCE0-4EF0-4521-9C9F-C7F41F0F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54708-36CA-4E50-88FE-C9F4F50F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E2F3B-9D70-4A85-AFEC-84B6789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AC156-2288-442E-98E9-BB89332B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1D51E-9A5A-40F7-9D11-5339A56A0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60F-F17D-4420-9C33-6B8B9ADF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70C5-B460-482D-BE4E-62A17F380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D274-F475-49AA-86A8-63A285B7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B99-69E2-4B56-9685-8ABAA862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FEC9-A898-440D-B9AA-A8DC92C6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3EB-4165-4BD3-88B6-2695CA2F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D2D2-B660-4DCD-AD0B-01EAF233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4521-9144-423D-AF57-0ADFE530B80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A5E6-5264-441B-9411-09FD447739A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lase Nro  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Historia de Luis Paste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Historia de Luis Pasteu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articulan tres conversacion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la químic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l Microsco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ación de quiebres de la comun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 poder como la capacidad de producir mayor efectividad valorada por la comunidad relev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 es suficiente la capacidad de ser efectivo, es necesario generar un espacio para que sea reconoc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stados de ánimo centrales  para producir pod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ersever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taleza emo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ic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44:36Z</dcterms:created>
  <dc:creator>Juan Carlos Lucero Larenas</dc:creator>
  <dc:description/>
  <dc:language>en-US</dc:language>
  <cp:lastModifiedBy>xxx</cp:lastModifiedBy>
  <dcterms:modified xsi:type="dcterms:W3CDTF">2005-08-30T16:54:29Z</dcterms:modified>
  <cp:revision>3</cp:revision>
  <dc:subject/>
  <dc:title>PODER ÉTICA Y GESTIÓN</dc:title>
</cp:coreProperties>
</file>