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62D-4573-4E16-B9D5-CE871B99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6CD-C0B9-470D-98A3-080597AF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978-EE92-4454-930B-B29FBA58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1D5-74E4-495C-93EE-BD883366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BFDE-9D49-4843-A092-A60805B2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5B16-7678-4290-9E4D-F3B5742E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230E-5075-42B1-8B27-408FDB86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1F6F-65D3-49F6-A5DE-91AF7BB5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C0F7-902A-4180-9E9B-369CBB52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3CFB-D3C4-4F0F-A986-D11D0196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B084-EFD7-4FE5-AFBF-A49003F5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DC5-89CA-4FA5-9EDE-CD4E7A80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4337-706E-4DCF-AB2E-FFB04148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3285-C4A5-4B6C-90B6-3225F62E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DF4E-49C1-4405-B1D7-F067F593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D53C-8DDF-4F06-A38F-865CEE0B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027D-9775-4059-BD49-155E5F1C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FAF-3E62-4B12-B1E6-57D7694E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E14-E5E2-4E40-903C-CBAFDA26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132-120A-4FF8-ABE4-4E13C9F9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240-F3E6-4A0D-896B-94EABB9C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48B-CCFA-4A4D-8B2A-A4407DBB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FF5-8742-4148-AA57-B659D0F5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083E-0286-4A14-836D-EF52C065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75C2-E607-4DD1-AE86-628CFEF7726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E6D1-9373-4B64-8A0F-60FDD2EE8C7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ilusión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7211-4645-4009-A166-65E9815C3A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lógica de ir contra el sentimient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ntimiento del mercado es un indicador opuesto. El mercado sube a medida que los bears se convierten en bulls e invierten en el mercado. El mercado llega a su peak cuando no quedan bears y todos están invert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hartcraft recopila los pronósticos de las market newsletters y los publica en Investor Intelligence.Los clasifica en tres grupos: bulls, bears y chick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alcula el Bullish sentiment index: bulls/(bulls+bears). Dado que la mayoría de los consejeros son seguidores de tendencia, son bearish en los market bottoms y menos en los markets top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7C7-D678-42F6-A23E-6AA65BC878E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evidenci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jo bullish sentimiento es seguido en igual proporción por subidas y bajadas.No sirve como indicador acerca del rendimiento futuro del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igue usando por que los inversionistas solo buscan evidencia a favor e ignoran la contr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2D3-7ED6-43E1-9FC9-6608BA097D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Sesgo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mayoría de las afirmaciones son: si ocurre P sucede Q. La mayoría de la gente busca evidencia donde esto pasa, en vez de buscar evidencia contraria, es decir : si P ocurre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suce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Q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3EA-E704-4D94-87A2-851AD3B41B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Metodologí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01920" y="2292480"/>
          <a:ext cx="62704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2292480"/>
                    <a:ext cx="6270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84400" y="2235240"/>
          <a:ext cx="6083280" cy="390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2235240"/>
                    <a:ext cx="60832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57440" y="2225520"/>
          <a:ext cx="6270480" cy="406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7440" y="2225520"/>
                    <a:ext cx="627048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3880" y="1752480"/>
          <a:ext cx="7162920" cy="4572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sube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baja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ba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al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AE7-5CCE-428C-9361-A6A56BB0CE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Extrapolación ingenu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única conexión entre el sentimiento y el mercado es que bullishness aumenta después que el mercado ha subido y bearishness aumenta después que el mercado ha bajado. El índice hace un buen trabajo prediciendo el pasado. Es un espejo retrovisor y no un parabri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técnicos siguen creyendo en el por que su lógica es convincente ( la tendencia es su amigo), porque otros creen, porque la prensa perpetua el mito, porque son persuasivos y no validan sus opin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D4A-8163-4278-8C4A-D932C3A2B0DF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2-02-27T20:48:35Z</dcterms:modified>
  <cp:revision>31</cp:revision>
  <dc:subject/>
  <dc:title>Presentación de PowerPoint</dc:title>
</cp:coreProperties>
</file>