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891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3760" y="68544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266720"/>
            <a:ext cx="5029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4582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5840" y="84582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FE34-FDAE-4757-B930-048C6DAB1E6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85840" y="84582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82C0-1849-4575-92C1-8521F58FCAF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4582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00240" y="668160"/>
            <a:ext cx="4457520" cy="33433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235400"/>
            <a:ext cx="5486400" cy="40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885840" y="84582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5788-144E-42FB-87B1-4335AAF39C5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360" y="84582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00240" y="668160"/>
            <a:ext cx="4457520" cy="33433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235400"/>
            <a:ext cx="5486400" cy="40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85840" y="84582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E805-10A2-41EA-8968-DDA9C7A2F9C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-360" y="84582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00240" y="668160"/>
            <a:ext cx="4457520" cy="33433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235400"/>
            <a:ext cx="5486400" cy="40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885840" y="84582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7B23-CECB-42AB-AD3D-0BA74109200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360" y="84582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00240" y="668160"/>
            <a:ext cx="4457520" cy="33433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235400"/>
            <a:ext cx="5486400" cy="40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392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0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22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392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0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8763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II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               IN58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8458200" y="6172200"/>
          <a:ext cx="45576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6172200"/>
                    <a:ext cx="4557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COMPORTAMIENTO DEL CONSUMIDOR (1</a:t>
            </a:r>
            <a:r>
              <a:rPr b="1" lang="en-US" sz="4400" spc="-1" strike="noStrike" baseline="30000">
                <a:solidFill>
                  <a:srgbClr val="0033cc"/>
                </a:solidFill>
                <a:latin typeface="Comic Sans MS"/>
              </a:rPr>
              <a:t>a</a:t>
            </a: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 parte)</a:t>
            </a:r>
            <a:endParaRPr b="1" lang="en-US" sz="44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343080" y="838080"/>
            <a:ext cx="88009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182880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12193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NECE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21337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BUSQUE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INFORM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12408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FORMACIO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PERCE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411480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PRE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51055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38880" y="2286000"/>
            <a:ext cx="990720" cy="34290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548640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4800600"/>
            <a:ext cx="0" cy="30492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790960" y="350532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790960" y="449568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790960" y="259092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4" idx="2"/>
            <a:endCxn id="65" idx="0"/>
          </p:cNvCxnSpPr>
          <p:nvPr/>
        </p:nvCxnSpPr>
        <p:spPr>
          <a:xfrm>
            <a:off x="4419360" y="2819520"/>
            <a:ext cx="1080" cy="3052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2"/>
            <a:endCxn id="64" idx="0"/>
          </p:cNvCxnSpPr>
          <p:nvPr/>
        </p:nvCxnSpPr>
        <p:spPr>
          <a:xfrm>
            <a:off x="4419360" y="1904760"/>
            <a:ext cx="1080" cy="2293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76" name=""/>
          <p:cNvSpPr/>
          <p:nvPr/>
        </p:nvSpPr>
        <p:spPr>
          <a:xfrm>
            <a:off x="1447920" y="3048120"/>
            <a:ext cx="990360" cy="2743200"/>
          </a:xfrm>
          <a:custGeom>
            <a:avLst/>
            <a:gdLst>
              <a:gd name="textAreaLeft" fmla="*/ 632880 w 990360"/>
              <a:gd name="textAreaRight" fmla="*/ 990720 w 99036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320040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2895480"/>
            <a:ext cx="83808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65" idx="2"/>
            <a:endCxn id="66" idx="0"/>
          </p:cNvCxnSpPr>
          <p:nvPr/>
        </p:nvCxnSpPr>
        <p:spPr>
          <a:xfrm>
            <a:off x="4419360" y="3809520"/>
            <a:ext cx="1080" cy="30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80" name=""/>
          <p:cNvSpPr txBox="1"/>
          <p:nvPr/>
        </p:nvSpPr>
        <p:spPr>
          <a:xfrm>
            <a:off x="1219320" y="457200"/>
            <a:ext cx="5924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260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Proceso de Decisión de Compra</a:t>
            </a:r>
            <a:endParaRPr b="0" lang="en-US" sz="3200" spc="1" strike="noStrike">
              <a:ln cap="sq" w="1260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057400" y="1523880"/>
            <a:ext cx="6629400" cy="4267440"/>
          </a:xfrm>
          <a:prstGeom prst="rect">
            <a:avLst/>
          </a:prstGeom>
          <a:solidFill>
            <a:srgbClr val="ffffff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1523880"/>
            <a:ext cx="0" cy="4267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57400" y="3733920"/>
            <a:ext cx="662940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61960" y="99072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to Envolv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99072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jo Envolv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720" y="1752480"/>
            <a:ext cx="207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eren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Mar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90720" y="45370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90720" y="45370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0" y="4038480"/>
            <a:ext cx="211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eren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Marca po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1523880"/>
            <a:ext cx="355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ercepción- Preferenci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4960" y="1523880"/>
            <a:ext cx="300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ercepción- Decisió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8600" y="3733920"/>
            <a:ext cx="292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cisión-Percepció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5880" y="3809880"/>
            <a:ext cx="13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243828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243828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46483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38680" y="464832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3000" y="2438280"/>
            <a:ext cx="26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jo o de a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93520" y="247968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úsqueda de var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3048120"/>
            <a:ext cx="2666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705720" y="2895480"/>
            <a:ext cx="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048120"/>
            <a:ext cx="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53280" y="3048120"/>
            <a:ext cx="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42680" y="316224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 az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87680" y="32004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erimen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5280" y="4724280"/>
            <a:ext cx="24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 de dison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105520"/>
            <a:ext cx="28191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10280" y="4952880"/>
            <a:ext cx="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5105520"/>
            <a:ext cx="0" cy="75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1880" y="5105520"/>
            <a:ext cx="0" cy="75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6760" y="457200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r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41960" y="522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51814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ección 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z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774200" y="5181480"/>
            <a:ext cx="95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alt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pu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Adaptación del Proceso de Decisión de Comp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19320" y="685800"/>
            <a:ext cx="7010280" cy="54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INVESTIGACIÓN DE LAS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igen de las Inno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Wal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tergentes con 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uses para Ejecu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Córp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L'eg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INCO ESTRATEGIAS PARA LA BUSQUEDA DE OPORTUNIDADE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600200"/>
            <a:ext cx="8382240" cy="43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Búsqueda de oport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entificar Segmentos de Mercados “Maltrata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a vez alcanzado el éxito en estos segmentos “Avance al resto del Mercad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s Pequeños/ motos/ equipos TV bajo precio/ fotocopiadoras ch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ance al resto del Mercado” significa aprender, para ampliar la línea de produc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INCO ESTRATEGIAS PARA LA BUSQUEDA DE OPORTUNIDADE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828800"/>
            <a:ext cx="8001000" cy="28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Oportunidades Creadas por Desarrollo Tecnológ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idea es crear nuevos nichos, mediante nuevas dimensiones percep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desarrollo tecnológico es la herramie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: Industria de relojes, los de cuarz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INCO ESTRATEGIAS PARA LA BUSQUEDA DE OPORTUNIDADE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1337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828800"/>
            <a:ext cx="7620120" cy="30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Crear Oportunidades a través de la Creatividad en Mark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chos avances son “VERSIONES CREATIVAS DE PRODUCTOS CORRIEN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walkma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INCO ESTRATEGIAS PARA LA BUSQUEDA DE OPORTUNIDADE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1600200"/>
            <a:ext cx="7848720" cy="44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Adaptarse a las Preferencias de los Consumidores y Cambiar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 aspecto fundamental del aprovechamiento de oportunidades es comprender lo que el consumidor desea y lo que está dispuesto a pagar por el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japoneses no se han dejado seducir por “las preferencias reveladas”.”Las oportunidades yacen en las preferencias no atendida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INCO ESTRATEGIAS PARA LA BUSQUEDA DE OPORTUNIDADE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295280"/>
            <a:ext cx="822960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. Aprender de la Compet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japoneses se han concentrado en comprender mejor a la compet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ómo hace sus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productos que v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 estrategias que empl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s procesos produ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 modo de aprender e identificar sus vulnerabil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182880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8120" y="12193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NECE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8120" y="21337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BUSQUE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INFORM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312408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FORMACIO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PERCE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411480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PRE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51055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38880" y="2286000"/>
            <a:ext cx="990720" cy="34290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548640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19720" y="4800600"/>
            <a:ext cx="0" cy="30492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790960" y="350532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790960" y="449568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790960" y="259092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0" idx="2"/>
            <a:endCxn id="131" idx="0"/>
          </p:cNvCxnSpPr>
          <p:nvPr/>
        </p:nvCxnSpPr>
        <p:spPr>
          <a:xfrm>
            <a:off x="4419360" y="2819520"/>
            <a:ext cx="1080" cy="3052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41" name=""/>
          <p:cNvCxnSpPr>
            <a:stCxn id="129" idx="2"/>
            <a:endCxn id="130" idx="0"/>
          </p:cNvCxnSpPr>
          <p:nvPr/>
        </p:nvCxnSpPr>
        <p:spPr>
          <a:xfrm>
            <a:off x="4419360" y="1904760"/>
            <a:ext cx="1080" cy="2293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2" name=""/>
          <p:cNvSpPr/>
          <p:nvPr/>
        </p:nvSpPr>
        <p:spPr>
          <a:xfrm>
            <a:off x="1447920" y="3048120"/>
            <a:ext cx="990360" cy="2743200"/>
          </a:xfrm>
          <a:custGeom>
            <a:avLst/>
            <a:gdLst>
              <a:gd name="textAreaLeft" fmla="*/ 632880 w 990360"/>
              <a:gd name="textAreaRight" fmla="*/ 990720 w 99036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320040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2895480"/>
            <a:ext cx="83808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31" idx="2"/>
            <a:endCxn id="132" idx="0"/>
          </p:cNvCxnSpPr>
          <p:nvPr/>
        </p:nvCxnSpPr>
        <p:spPr>
          <a:xfrm>
            <a:off x="4419360" y="3809520"/>
            <a:ext cx="1080" cy="30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6" name=""/>
          <p:cNvSpPr txBox="1"/>
          <p:nvPr/>
        </p:nvSpPr>
        <p:spPr>
          <a:xfrm>
            <a:off x="1219320" y="457200"/>
            <a:ext cx="5924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260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Proceso de Decisión de Compra</a:t>
            </a:r>
            <a:endParaRPr b="0" lang="en-US" sz="3200" spc="1" strike="noStrike">
              <a:ln cap="sq" w="1260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457200"/>
            <a:ext cx="8077320" cy="52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OMPORTAMIENTO DEL CONSUMI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12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GUNAS ACLARACIONES INICIA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1224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¿CONSUMIDOR Ó COMPRAD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ADO A ESTUDIO DE ACCIONES OBSERV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12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O AUMENTAR EL AMBITO DE OBSERV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33520" y="762120"/>
            <a:ext cx="7619760" cy="43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BUSQUEDA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sgo Percep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04920" y="182880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8120" y="12193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NECE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21337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BUSQUE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INFORM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312408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FORMACIO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PERCE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411480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PRE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8120" y="51055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38880" y="2286000"/>
            <a:ext cx="990720" cy="34290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1320" y="548640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4800600"/>
            <a:ext cx="0" cy="30492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790960" y="350532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790960" y="449568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790960" y="259092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stCxn id="150" idx="2"/>
            <a:endCxn id="151" idx="0"/>
          </p:cNvCxnSpPr>
          <p:nvPr/>
        </p:nvCxnSpPr>
        <p:spPr>
          <a:xfrm>
            <a:off x="4419360" y="2819520"/>
            <a:ext cx="1080" cy="3052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61" name=""/>
          <p:cNvCxnSpPr>
            <a:stCxn id="149" idx="2"/>
            <a:endCxn id="150" idx="0"/>
          </p:cNvCxnSpPr>
          <p:nvPr/>
        </p:nvCxnSpPr>
        <p:spPr>
          <a:xfrm>
            <a:off x="4419360" y="1904760"/>
            <a:ext cx="1080" cy="2293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2" name=""/>
          <p:cNvSpPr/>
          <p:nvPr/>
        </p:nvSpPr>
        <p:spPr>
          <a:xfrm>
            <a:off x="1447920" y="3048120"/>
            <a:ext cx="990360" cy="2743200"/>
          </a:xfrm>
          <a:custGeom>
            <a:avLst/>
            <a:gdLst>
              <a:gd name="textAreaLeft" fmla="*/ 632880 w 990360"/>
              <a:gd name="textAreaRight" fmla="*/ 990720 w 99036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320040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2895480"/>
            <a:ext cx="83808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51" idx="2"/>
            <a:endCxn id="152" idx="0"/>
          </p:cNvCxnSpPr>
          <p:nvPr/>
        </p:nvCxnSpPr>
        <p:spPr>
          <a:xfrm>
            <a:off x="4419360" y="3809520"/>
            <a:ext cx="1080" cy="30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6" name=""/>
          <p:cNvSpPr txBox="1"/>
          <p:nvPr/>
        </p:nvSpPr>
        <p:spPr>
          <a:xfrm>
            <a:off x="1219320" y="457200"/>
            <a:ext cx="5924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260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Proceso de Decisión de Compra</a:t>
            </a:r>
            <a:endParaRPr b="0" lang="en-US" sz="3200" spc="1" strike="noStrike">
              <a:ln cap="sq" w="1260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33520" y="304920"/>
            <a:ext cx="822960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DEC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relación entre Preferencias y Decisión de Compra es afectada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iables Situaci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Influencia del V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 quien comp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isplay/Merchand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azón de la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ara m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ara Reg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supuesta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SATISFACCIÓ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676520"/>
            <a:ext cx="8001000" cy="40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isten distintos modelos para explicar Satisfa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modelo preponderante hoy es el  DESCONFIRMACIÓN (lo veremos más adelan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Satisfacció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 un estado psicológico que se produce cuando la emoción que resulta de expectativas que no se cumplen (“desconfirman”) se juntan con los sentimientos a priori del cliente respecto del consumo del bien o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4920" y="304920"/>
            <a:ext cx="838188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SATISF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 un mercado maduro, la forma más eficiente de aumentar la venta por parte de los productores es l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ALT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Lealtad está directamente ligada a l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ATISFACC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el grado d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UTIVERIO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logre el productor sobre el consumi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 los Servicios, Satisfacción se asocia  a un nuevo concepto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LIDAD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SATISFACCIÓ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2362320"/>
            <a:ext cx="80010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ECT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tisfac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3809880"/>
            <a:ext cx="1676160" cy="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5880" y="3657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248520" y="37339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600200"/>
            <a:ext cx="769608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Lo que queremos es intuir/predecir como se comportará un cliente ante un estímulo nuestro o de la compet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0"/>
            <a:ext cx="8305920" cy="63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TEORIAS CON INFLUENCIA EN LA COMPRENSION DEL CONSUMI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) TEORIAS MOTIV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sión Clásica .  “Determinis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) TEORIAS DE APRENDIZ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Los estímulos y el aprendiz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) TEORIA SICOANALI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La “restricción”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El EGO y el Súper 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) MODELO GESTAL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ortancia de la Per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14400" y="762120"/>
            <a:ext cx="746748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TEORIAS DE INFLUENCIA 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RUPOS DE 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LASES SO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 DIFUSION DE INNO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2280" y="1066680"/>
            <a:ext cx="8686800" cy="38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Distintas Perspectivas                 Distintas Teorías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Sin embargo, existen ciertos conceptos generalizados que se expresan en el proceso de decisión de comp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12193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762120"/>
            <a:ext cx="830556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3320" indent="-103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ONCEP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TIVACION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Predisposición general y básica que dirige el comportamiento hacia la obtención de lo que se desea (meta)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TIVO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NECESIDADE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NHE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CEPC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Proceso de selección, organización e integración de los estímulos sensoriales recibidos a través de los sen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380880"/>
            <a:ext cx="838188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ONCEP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CTITUD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Predisposición aprendida para responder consistentemente de modo favorable o desfavorable a un objeto. Esta constituida por tres compon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 creencias (C. Cognosci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valoración (C. Afec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tendencia a actuar (C. Ac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encia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ce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loració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refer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ció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cis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219320" y="914400"/>
            <a:ext cx="662940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6T21:01:13Z</dcterms:created>
  <dc:creator>Dii</dc:creator>
  <dc:description/>
  <dc:language>en-US</dc:language>
  <cp:lastModifiedBy>Williams Young</cp:lastModifiedBy>
  <cp:lastPrinted>2000-09-11T22:03:08Z</cp:lastPrinted>
  <dcterms:modified xsi:type="dcterms:W3CDTF">2005-08-09T17:34:56Z</dcterms:modified>
  <cp:revision>190</cp:revision>
  <dc:subject/>
  <dc:title>Sin título de diapositiva</dc:title>
</cp:coreProperties>
</file>