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A00-6D78-44E7-8AA7-7182AC84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BF2-634D-43F9-80FB-7748020F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37F-D6D4-44C0-8296-BA32B0BD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E89-B467-4B98-88C0-B5129058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209-7851-446A-9E35-1840C121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769-5A88-40EB-BCB6-4CC9B16C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9E1-3F1B-4DA1-9941-EAE7A5EE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EE6-2912-4358-AB8D-991DD5EB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1C4-F545-4C56-AFCD-54DE8B2E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518-7744-433A-8169-D9990CB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D16-DBF1-4803-B348-0BCC3665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28D-6152-4F09-94C8-36C6BF73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70DD-FEC6-4CED-8863-41FE59B3B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IN58A/calendario_tito.xls" TargetMode="External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A01-6A72-4391-BF07-ABC7F352C2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51240" y="37162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6BA-2EA6-4ADC-83E1-F816D223CA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9D3-4482-4D3A-BEA7-E6D986D7DE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96A-D07A-43FE-B61D-449C965947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D5E-B10F-4897-983B-E74096C717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A11-41D1-4EC0-9AB7-A860151577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994040" y="2514600"/>
            <a:ext cx="565128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479-9399-474D-8C8F-1FF658F835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819-5B31-4E48-95EF-282B8F1D0A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EC1-8AE3-42E8-881E-5402D72B78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850-3931-4CAE-ABC7-1BEBF6723D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3A6-F6DD-4B20-B9D1-1A24C77231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71A-96D0-45F8-BD17-C5174D7A58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02F-8251-4765-ADE3-0E58FF7587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3280" y="3860640"/>
            <a:ext cx="76212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F68-AEFC-475F-859D-03DD0EABB9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EE4-8BEF-4FD5-AC09-E1713325CE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299-F0F3-46E1-892E-0A7B22CE7C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DB0-C4C0-485B-8B9F-4D88739054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35640" y="3068640"/>
            <a:ext cx="3240000" cy="1326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tapa 0: Jugada Bru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tapa 1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BF8-18F3-443D-9F8D-E7A5028BD7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-0.01087 0 -0.037 -0.01111 -0.03607 C -0.02222 -0.03515 -0.07725 -0.02544 -0.06666 0.00624 C -0.05607 0.03791 0.00903 0.19144 0.05243 0.15422 C 0.09584 0.11699 0.17448 -0.15446 0.19375 -0.21781 C 0.21303 -0.28116 0.19566 -0.21735 0.16841 -0.22613 C 0.14115 -0.23492 0.08785 -0.27191 0.03021 -0.27052 C -0.02743 -0.26914 -0.13385 -0.25804 -0.17777 -0.21781 C -0.2217 -0.17758 -0.22829 -0.09827 -0.23333 -0.0296 C -0.23836 0.03907 -0.23142 0.13387 -0.20781 0.19445 C -0.1842 0.25502 -0.13888 0.31514 -0.09201 0.33387 C -0.04513 0.3526 0.03264 0.34312 0.07309 0.30659 C 0.11355 0.27005 0.14844 0.19144 0.15087 0.11422 C 0.1533 0.03699 0.12257 -0.11607 0.08733 -0.15654 C 0.05209 -0.197 -0.03333 -0.16255 -0.06024 -0.12902 C -0.08715 -0.0955 -0.08507 0.00786 -0.07447 0.04439 C -0.06388 0.08092 -0.01128 0.09341 0.0033 0.09086 C 0.01789 0.08832 0.01233 0.04393 0.01285 0.02959 C 0.01337 0.01526 0.004 0.01086 0 0 Z">
                                      <p:cBhvr>
                                        <p:cTn id="428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48360" y="4221000"/>
            <a:ext cx="2952720" cy="2558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ERCERA JUGADA SE HABIL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C01-83B6-4436-A45E-B2BFA0B075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BEA-20C3-4500-B87D-3F28989EBA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DA1-2A88-4DE7-A3B3-C5E20AA911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10C-3D5F-4E0A-9B19-04E5E6EEB1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957-485C-4F70-9E47-A9FD1F3F88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899-2AF0-47C0-AB60-8AE7832AA9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170028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B82-BA0A-4C77-AB2D-41092D899C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B91-F908-4D88-9745-7E32DC20E8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F93-4321-4A01-B772-1AAF4E74F9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9C3-28DE-428C-8A39-2CBF7F9464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2F1-995D-439E-B935-0B1522F486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29320" y="2590920"/>
            <a:ext cx="73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erde el nombre de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C25-E283-4D02-93D2-DF9C944AF5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A42-326D-41E1-8492-41F3E18FDD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1900080" cy="236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79280" y="3213000"/>
            <a:ext cx="182736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EEC-42B6-4253-BC86-548CBA18AC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1374E-006 L 0.25 2.21374E-006 E">
                                      <p:cBhvr>
                                        <p:cTn id="5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505E-006 L 0.43108 -0.01041 E">
                                      <p:cBhvr>
                                        <p:cTn id="5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71432E-006 L 0.37621 -0.00741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8068E-006 L 0.80903 -4.48068E-006 E">
                                      <p:cBhvr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8776E-006 L 0.07083 -2.28776E-006 E">
                                      <p:cBhvr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172-9EE2-44B7-8AB5-905853B9C2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E5C-B9F5-4349-ACE6-43FCD06FD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64F-7FF7-40F0-8174-0045F3FF93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FD8-2569-4688-88C7-E60F168560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 </cp:lastModifiedBy>
  <cp:lastPrinted>1999-12-21T19:58:19Z</cp:lastPrinted>
  <dcterms:modified xsi:type="dcterms:W3CDTF">2005-04-20T14:39:17Z</dcterms:modified>
  <cp:revision>26</cp:revision>
  <dc:subject/>
  <dc:title>The Markstrat Challenge I</dc:title>
</cp:coreProperties>
</file>