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1F1-8914-420D-A8A3-1BF428B2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F3C-B88E-4D2B-8766-44868E8D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ACE-3DA0-42E0-97AC-090061F9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DA3-E1EE-4D40-8CC8-9411E056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DC8-F3EB-4CE0-A3D0-9B7EAC6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1A5-A83B-450B-86A2-FA8C34D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2CC-9F6F-4E25-9F1C-9150522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B90-14B6-4318-82B5-8D1BB797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CE7-AF25-4E09-BB31-770E901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D1F-B36E-4ED6-A750-D1B6F7D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F74-DF01-482D-8B10-B2053F4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7E1-3863-415D-8568-8E6FB50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DF7-DF2F-4BE6-BCB6-3B6AD3D9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18T15:01:25Z</dcterms:modified>
  <cp:revision>46</cp:revision>
  <dc:subject/>
  <dc:title>Sin título de diapositiva</dc:title>
</cp:coreProperties>
</file>