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              Bosch &amp; Yo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OSICIONAMIENTO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95360" y="0"/>
            <a:ext cx="8153280" cy="62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¿Cual es la Solu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ar 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ner Mensajes Ef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saje Sobre-simplifi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14600" y="228600"/>
            <a:ext cx="3962520" cy="83808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1447920"/>
            <a:ext cx="3962520" cy="83808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A,B,C,D,E,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2743200"/>
            <a:ext cx="3962520" cy="76212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ercados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A,D,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962520"/>
            <a:ext cx="3962520" cy="83808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osicionamiento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ducto en cada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5181480"/>
            <a:ext cx="3962520" cy="91440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lan de Marketing Objeti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ara cada Seg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066680"/>
            <a:ext cx="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89640" y="236232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350532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8006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380880"/>
            <a:ext cx="82296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ETERMINACIÓN DEL MERCADO 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 de la Estrategia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l Atractivo de cada Seg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cción de Segmento 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272736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El Proceso de Posicion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Que examinar para la elección de un Posicionamiento en un Segmento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371600"/>
            <a:ext cx="78487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uales son las características distintivas de una marca a la que los compradores reaccionan favorablem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ómo son percibidas las distintas marcas en competencia en relación a esas características distintiv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uál es la mejor posición a ocupar teniendo en cuenta las preferencias de los compradores y las posiciones ya ocupadas por la competenc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uáles son los medios de marketing más apropiados para defender esa posi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47920" y="175248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amos ahora como distintos aspectos del estudio de mercados apoya las distintas etapas del proceso de POSIC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4120" y="220968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0"/>
            <a:ext cx="4495680" cy="60948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dentificar el conjunto relevante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roductos Competi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838080"/>
            <a:ext cx="4495680" cy="53352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Determinar si existe Concienci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1600200"/>
            <a:ext cx="4495680" cy="60948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Determinar atributos que for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l espacio d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2438280"/>
            <a:ext cx="4495680" cy="60984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Recoger información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una muestra del mercado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3276720"/>
            <a:ext cx="4495680" cy="60948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álisis de la Situación Competiti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n cada Segmento(PERCEPC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4114800"/>
            <a:ext cx="4495680" cy="53352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stimar las Prefer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n cada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4876920"/>
            <a:ext cx="4495680" cy="60948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Definir los Segmentos de Interés y 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cionamiento  en cada uno de el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5715000"/>
            <a:ext cx="4495680" cy="533520"/>
          </a:xfrm>
          <a:prstGeom prst="rect">
            <a:avLst/>
          </a:prstGeom>
          <a:solidFill>
            <a:srgbClr val="66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Defina las 4 P que apoyará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ese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8080" y="762120"/>
            <a:ext cx="1419480" cy="38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Etapas</a:t>
            </a:r>
            <a:endParaRPr b="1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del </a:t>
            </a:r>
            <a:endParaRPr b="1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roceso</a:t>
            </a:r>
            <a:endParaRPr b="1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de</a:t>
            </a:r>
            <a:endParaRPr b="1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osicionar</a:t>
            </a:r>
            <a:endParaRPr b="1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60948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137160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304812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388620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464832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5486400"/>
            <a:ext cx="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860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EFINICIÓN DE POSICIO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3960" y="1374840"/>
            <a:ext cx="7696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ocos conceptos son tan importantes en la teoría y la práctica del Market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finición de un POSICIONAMIENTO es la decisión más estratégica que una empresa puede realizar respecto de cómo va a competir en un determinado Producto-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 Ries y Jack Trout definieron en 1972 el concep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685800"/>
            <a:ext cx="853416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EFINICIÓN DE POSICIO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oncepción de un producto y su imagen con el objetivo de imprimir en la mente del comprador un lugar apreciado y diferente del que ocupa la competencia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posicionamiento comienza en un “producto”.  Pero el posicionamiento NO se refiere al producto, sino a como se ubica el producto en la mente de los compr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685800"/>
            <a:ext cx="853416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EFINICIÓN DE POSICIO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proceso de Posicionar un producto es un sistema organizado para encontrar una VENTANA en la mente de los consumidore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basa en el concepto que la COMUNICACIÓN puede tomar lugar sólo en el momento adecuado y en las circunstancias adecu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71680" y="838080"/>
            <a:ext cx="800100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tema central en POSICIONAMIENTO es cómo me ubico primero en la mente de los consumidores, o de algunos de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rchez le creneau”. Busque el “nicho”, y OCÚP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ótese que es un Nicho M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hacerlo, se debe pensar en “Reversa”. Ir contra la corriente. (e.g. Si todos están haciendo algo, yo debería hacer lo contrario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28800" y="685800"/>
            <a:ext cx="447372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CAS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Goldstar/L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lub 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Guc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lto Las Con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ams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2120" y="609480"/>
            <a:ext cx="8076960" cy="38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a percepción es la Real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 Lo único posible es centrarse en el cliente y no en 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o en las características del producto que son capaces de “reordenar las conexiones existente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07880" y="990720"/>
            <a:ext cx="832644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ducir cambios de opinión es casi impo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 En general el consumidor sólo acepta aquello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uerda con los conocimientos y experiencia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 El consumidor acepta que le digan algo sobre l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desconoce complet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 No permite que le digan que está equivo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838080"/>
            <a:ext cx="79246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n embar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msung, Ripley, han mostrado que 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ece que el costo de crear una marca desde 0, es mucho mayor que el de reposic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ece que el reposicionar depende del tipo de relaciones mentales que se han construído, en los segmentos de inter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22:08:22Z</dcterms:created>
  <dc:creator>Dii</dc:creator>
  <dc:description/>
  <dc:language>en-US</dc:language>
  <cp:lastModifiedBy>Williams Young</cp:lastModifiedBy>
  <cp:lastPrinted>2001-04-23T20:51:21Z</cp:lastPrinted>
  <dcterms:modified xsi:type="dcterms:W3CDTF">2005-09-27T13:36:30Z</dcterms:modified>
  <cp:revision>95</cp:revision>
  <dc:subject/>
  <dc:title>Sin título de diapositiva</dc:title>
</cp:coreProperties>
</file>