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E7E-51B5-4C88-A259-E175F800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2EA-B4C1-41C1-8997-45C760EF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FFD-48A9-46C0-A649-F3AD2300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E30-902F-4183-BDB8-B6A30F6E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BCD-979E-475A-A13B-B02B1E61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C05-D325-4BB8-BED5-7F980336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F64-0D0A-41FE-939C-CF5FE38F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4FA-3267-4A45-A86E-30A22165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B1A-54B7-4C45-889E-67CC7D1F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42D-D2A9-44BA-9716-9CD7524E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005-D5D3-4340-9604-0784F079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D3D-C072-43FF-BD80-DFA342D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57D2-BF4C-4867-95C2-A5BD445C0EF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PRICING</a:t>
            </a:r>
            <a:br>
              <a:rPr sz="4800"/>
            </a:br>
            <a:r>
              <a:rPr b="0" lang="es-ES_tradnl" sz="4000" spc="-1" strike="noStrike">
                <a:solidFill>
                  <a:srgbClr val="0033cc"/>
                </a:solidFill>
                <a:latin typeface="Times New Roman"/>
              </a:rPr>
              <a:t>Comportamiento, valor y deci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09680"/>
            <a:ext cx="6172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 una línea de Productos siempre más vale tener 3 que dos 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819160" cy="211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568680" cy="2681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6200" y="12016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3640" y="11890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5640" y="492300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 piés cúb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09.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1160" y="4881600"/>
            <a:ext cx="25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8 piés cúb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7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1371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31920" y="13413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560" y="487692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 piés cúb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09.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4876920"/>
            <a:ext cx="26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8 piés cúb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7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239724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2397240"/>
            <a:ext cx="2992680" cy="224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895480" y="2397240"/>
            <a:ext cx="2746440" cy="2063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935760" y="13413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4876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1 piés cúbicos  $19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ACTUAL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31840" y="2438280"/>
          <a:ext cx="687852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2438280"/>
                    <a:ext cx="68785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LASTICIDADES ASIMÉT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465200"/>
            <a:ext cx="80769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hay tres productos en una linea                              (e.g pañales bebés 0-5 kg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.200     La elasticidad del B es as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724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l A baja de 5.000 a 4.800,   entonces muchos que compraban B comprarán A. Si baja el C a 3.000, casi nadie que compraba el B se cambiará al 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LASTICIDADES ASIMÉT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133720"/>
            <a:ext cx="807732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conviene hacer promociones de los precios más bajos, sí de los superiores e intermedios,...... salvo que queramos convertir no compradores en compradores.......o por generar imagen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FECTOS DE ORDEN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76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e presentan los precios en orden Ascendente o Descendente, la mayoría de las personas no reaccionan i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3200400"/>
            <a:ext cx="7315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lusas en un Catálogo de una Tienda de D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500, 5.600, 9.900.,15.800, 21.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1.350, 15.800, 9.900, 5.600, 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ventas promedio serán mayores en el segundo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FECTOS DE ORDEN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757520"/>
            <a:ext cx="73152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o lo usan no sólo los Catálogos, también los vendedores (siempre empiezan por un valor más alto que lo que creen el comprador puede compr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os pasillos de un supermercado, una categoría debiera ordenarse de mayor precio a menor, en el sentido del fluj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ÚLTIMO PRECIO PAG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680" y="1600200"/>
            <a:ext cx="800100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yoría de las veces los consumidores ”recordamos” el precio pagado por un artí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óxima compra lo usamos de precio de referenc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veces no es que lo recordemo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ublicidad trata de hacer referencia al pasado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lía   4.100.000, ahora 3.800.000.... Aproveche!!!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PRICING</a:t>
            </a:r>
            <a:br>
              <a:rPr sz="4800"/>
            </a:b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Visión Estratég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2514600"/>
            <a:ext cx="66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Comic Sans MS"/>
              </a:rPr>
              <a:t>Comportamiento del Consumidor ante los Preci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6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6" idx="2"/>
            <a:endCxn id="109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2" name=""/>
          <p:cNvGrpSpPr/>
          <p:nvPr/>
        </p:nvGrpSpPr>
        <p:grpSpPr>
          <a:xfrm>
            <a:off x="6095880" y="1905120"/>
            <a:ext cx="2819520" cy="2401560"/>
            <a:chOff x="6095880" y="1905120"/>
            <a:chExt cx="2819520" cy="2401560"/>
          </a:xfrm>
        </p:grpSpPr>
        <p:sp>
          <p:nvSpPr>
            <p:cNvPr id="107" name=""/>
            <p:cNvSpPr/>
            <p:nvPr/>
          </p:nvSpPr>
          <p:spPr>
            <a:xfrm>
              <a:off x="6400800" y="3505320"/>
              <a:ext cx="220968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peti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4" idx="2"/>
              <a:endCxn id="107" idx="0"/>
            </p:cNvCxnSpPr>
            <p:nvPr/>
          </p:nvCxnSpPr>
          <p:spPr>
            <a:xfrm>
              <a:off x="7505280" y="2755440"/>
              <a:ext cx="1080" cy="731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" name=""/>
            <p:cNvSpPr/>
            <p:nvPr/>
          </p:nvSpPr>
          <p:spPr>
            <a:xfrm>
              <a:off x="6095880" y="1905120"/>
              <a:ext cx="281952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den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e Competenc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" name=""/>
          <p:cNvCxnSpPr>
            <a:stCxn id="103" idx="3"/>
            <a:endCxn id="106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Medición de Cos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costos incrementales, los evitables, involucrados en esta decisión de pre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costo de ventas variable incremental (no el prom) (incluido todo: fabricación, servicio y so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A qué niveles de ventas se requerirán gastos semifijos adicionales y cuántos será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CF asociados a este producto se pueden evit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2"/>
            <a:endCxn id="124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7" idx="3"/>
            <a:endCxn id="128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27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7" idx="2"/>
            <a:endCxn id="130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3" name=""/>
          <p:cNvGrpSpPr/>
          <p:nvPr/>
        </p:nvGrpSpPr>
        <p:grpSpPr>
          <a:xfrm>
            <a:off x="6095880" y="1905120"/>
            <a:ext cx="2819520" cy="2401560"/>
            <a:chOff x="6095880" y="1905120"/>
            <a:chExt cx="2819520" cy="2401560"/>
          </a:xfrm>
        </p:grpSpPr>
        <p:sp>
          <p:nvSpPr>
            <p:cNvPr id="128" name=""/>
            <p:cNvSpPr/>
            <p:nvPr/>
          </p:nvSpPr>
          <p:spPr>
            <a:xfrm>
              <a:off x="6400800" y="3505320"/>
              <a:ext cx="220968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peti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5" idx="2"/>
              <a:endCxn id="128" idx="0"/>
            </p:cNvCxnSpPr>
            <p:nvPr/>
          </p:nvCxnSpPr>
          <p:spPr>
            <a:xfrm>
              <a:off x="7505280" y="2755440"/>
              <a:ext cx="1080" cy="731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6095880" y="1905120"/>
              <a:ext cx="281952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den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e Competenc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6" name=""/>
          <p:cNvCxnSpPr>
            <a:stCxn id="124" idx="3"/>
            <a:endCxn id="127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Identific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otenciales clientes y por qué comprarán este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Valor Económico de este producto para los consumidores o cl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otros factores (prestigio, dificultad de encontrar alternativas, ppto, etc) limitan la sensibilidad del cliente al pre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n qué se diferencian los distintos clientes respecto a las dos pregunta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una estrategia de mktg puede alterar la voluntad a pagar de los consumidores respecto de este produc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2"/>
            <a:endCxn id="14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3"/>
            <a:endCxn id="14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2"/>
            <a:endCxn id="14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8" idx="2"/>
            <a:endCxn id="15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5" idx="2"/>
            <a:endCxn id="14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5" idx="3"/>
            <a:endCxn id="14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Identificación de Co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iénes son los actuales o futuros competidores que podrían afectar la rentabilidad de este merc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iénes son los competidores actuales y potenci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 que realmente cobran los competidores actu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demos dar una hipótesis de cuales son las estrategias de precios de cada uno? Utilidad o Vent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as Fortalezas y Debilidades de ellos respecto a nos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2"/>
            <a:endCxn id="16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8" idx="3"/>
            <a:endCxn id="16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0" idx="2"/>
            <a:endCxn id="16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8" idx="2"/>
            <a:endCxn id="17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5" idx="2"/>
            <a:endCxn id="16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5" idx="3"/>
            <a:endCxn id="16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Financi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variaciones en las ventas se necesitan dar para distintos cambios en el producto, los precios, y la promoción? Para productos nuevos ¿Qué nivel de ventas se requiere para justificar el aumento del C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margen de contribución del producto en el precio punto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nta venta adicional se reuqiere para que una disminución del precio signifique ganar má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la máxima pérdida de ventas tolerable antes que una subida del precio surta efec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volumen de ventas adicional se requiere para cubrir incrementos en los CF que el nuevo producto puede gener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2"/>
            <a:endCxn id="18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8" idx="3"/>
            <a:endCxn id="18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2"/>
            <a:endCxn id="18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8" idx="2"/>
            <a:endCxn id="19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5" idx="2"/>
            <a:endCxn id="18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5" idx="3"/>
            <a:endCxn id="18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de Segm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uede la empresa diferenciar el precio a distintos segmentos de modo de reflejar diferencias en sensibilidad de precio y el costo incremental de servirlos a el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se pueden identificar miembros de segmentos distintos previo a la ven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construir “vallas” entre segmentos para evitar que las ventas de precio bajo no minen la rentabilidad de los sectores de precio al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as restricciones legales que podrían afectar nuestra política de precios discrimina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urante los años 70 se realizó mucha investigación referente al comportamiento de los consumidores frente al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mayoría de estas investigaciones fue del tipo “experimen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resultados de estas investigaciones han tenido impacto en Retailing , en la función de Ventas y en el Pricing de productos nue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4" idx="2"/>
            <a:endCxn id="20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8" idx="3"/>
            <a:endCxn id="20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0" idx="2"/>
            <a:endCxn id="20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8" idx="2"/>
            <a:endCxn id="21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0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5" idx="3"/>
            <a:endCxn id="20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creemos que reaccionarán los competidores ante distintas estrategias nuestras? ¿Cómo afecta eso nuestras decis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metas realistas se pueden establecer dadas las capacidades e intenciones de los competido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usar información para influenciar a los competidores de modo que nuestros objetivos sean más alcanzables y menos riesgos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usar el targeting de nichos muy específicos para evitar confrontaciones y aumentar nuestra rentabilid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qué mercados conviene “sacar” recuersos de modo de concentralos donde la rentabilidad sea may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4" idx="2"/>
            <a:endCxn id="22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8" idx="3"/>
            <a:endCxn id="22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0" idx="2"/>
            <a:endCxn id="22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8" idx="2"/>
            <a:endCxn id="23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5" idx="2"/>
            <a:endCxn id="22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25" idx="3"/>
            <a:endCxn id="22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scremar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Precio Alto en la introducción que tiende a bajar co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65760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librar Demanda con Capacidad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r Efecto De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scremar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2895480"/>
            <a:ext cx="8153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trae rápidamente a los 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uede desposicionar a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uerte inversión en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enetración de Merc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Precio Bajo en la introducción que tiende a subir co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365760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sanima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fianza rápidamente una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grar una base de vetnas amplia para alcanzar economías de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enetr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895480"/>
            <a:ext cx="8153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nos equivocamos, podemos arruina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aconsejable en mercados d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co rentable, sobretodo si el ciclo de vida es c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133720"/>
            <a:ext cx="792504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unos de los comportamientos cuestionan fuertemente lo que se ha llamado el supuesto  del “comportamiento racional” de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incipales investigadores han sido Kahneman y Tversky, los que han desarrollado una teoría que se llama “Teoría de Prospecto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44792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unos de los comportamientos descrit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rcepciones sobre las diferencia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número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ecios de la línea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asi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s de 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último precio pagado como precio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las para “enmarcar” pre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LOS NÚMEROS IMPAR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6240" y="167652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or ejempl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os barras de chocolate se ofrece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arra A  a:    $894          y   la barra B   a:   $  7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1480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ce un descuento y queda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$888                              y           a         $7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tiene mayor descuento?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4479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personas evalúan las diferencias de precios entre dos alternativas en forma porcentual. Esto es, en función del precio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429000"/>
            <a:ext cx="723888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persona quiere comprar  azúcar en una tienda. Sabe que en otra tienda a 3 cuadras vale 450 el kg. En la tienda en que se encuentra la azúcar vale 550 por lo que  No la com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n embargo, esa misma persona, en la misma tienda, compra una botella de aceite de oliva a $2,500 sabiendo que en la otra tienda está a $2,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2849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ERCEPCIÓN DE DIFERENCIAS DE 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ERCEPCIÓN DE DIFERENCIAS DE 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37484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ambos casos la diferencia era $100, sin embargo pareciera que el valor de esos 100 pesos es RELATIVO al valor del bi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a azúcar es un 20% del precio, en el aceite es 4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 nos pasa como consumidores cuando el PORCENTAJE de diferencia es muy grande, aunque el valor sea po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68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to se llama la Ley de Weber-Fech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DE RE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83808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consumidores siempre requerimos precios de REFERENCIA. Algo...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car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barat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á en su prec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pecto a alguna REFERENCIA que tenemos en nuestras cabez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809880"/>
            <a:ext cx="7772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tres tipos de Re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i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TUALES  (visibles)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R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dependientes del CONTEXTO en qu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c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2:50:27Z</dcterms:created>
  <dc:creator>Máximo Bosch P.</dc:creator>
  <dc:description/>
  <dc:language>en-US</dc:language>
  <cp:lastModifiedBy>Williams Young</cp:lastModifiedBy>
  <dcterms:modified xsi:type="dcterms:W3CDTF">2005-11-10T16:51:01Z</dcterms:modified>
  <cp:revision>26</cp:revision>
  <dc:subject/>
  <dc:title>PRICING</dc:title>
</cp:coreProperties>
</file>