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69CF1-7921-4349-8E4A-7CE3901D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272CAB-8005-4C6D-B273-A52774B5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3FC2F-51FE-469E-A2D1-720F037E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49A04-C44D-49FD-B1BD-A7D118FB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8AA96-5ABA-45E8-A070-56DE8582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E62B9-7387-4496-BB9F-B0F23C93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C4965-391F-43DB-8D33-16F775E6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CF42D-B46A-42B7-B267-9A648C01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D832A-4938-4AAC-AB01-8126988B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C54FA-316A-4B6F-A449-ECAEF932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B5E47-83A1-4ADF-91AF-001B93E8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AD20B-115E-4D9A-89FB-84D03A6B4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73N, Tecnologías de Información II                                         Primavera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4814-1048-4F40-A613-527048786B5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990720"/>
            <a:ext cx="8424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El Impacto de las Tecnologías de Información</a:t>
            </a:r>
            <a:br>
              <a:rPr sz="3600"/>
            </a:b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(Basado en: “Three Measures for IT Impact” Brynjolfson (MIT)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4000" y="2707920"/>
            <a:ext cx="81356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fes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Ángel Jiménez Mol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gíster en Ingeniería de Negocios con TI (MB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gíster en Gestión y Dirección de Empresas (MBA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73N – Tecnologías de Información I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eguntas a Estudi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TI´s han incrementado la productividad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TI´s han mejorado la rentabilidad de los negocio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TI´s han creado valor a los consumidor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3600" y="1750680"/>
            <a:ext cx="3834000" cy="42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Teoría de produc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Teoría de las estrategias competitiv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Teoría del consumid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660240" y="5794200"/>
            <a:ext cx="68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tudio: Three measures for IT impact, Brynjolfson et 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reación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rea directam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distribu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roductividad crea valor al mejorar la relación entre outputs e input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ntabilidad y excedente del consumidor redistribuyen val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riables a Consider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15920"/>
            <a:ext cx="791856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Stock de TI´s: </a:t>
            </a: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es una medida de las tecnologías de información, compuesta por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Valor de Equipos: valor de los equipos (TI´s) de la empres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Mano de obra de TI´s: proporción del presupuesto de las TI´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Capital de Computadores + 3 Personal de 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Valor Agregado: </a:t>
            </a: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ventas totales menos gastos no laborales (gastos totales menos interés, impuesto y depreciación, menos la mano de obra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ano de Obr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eoría de Produc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66764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La empresa posee un método para transformar varios inputs en outputs llamada </a:t>
            </a:r>
            <a:r>
              <a:rPr b="0" i="1" lang="es-ES_tradnl" sz="2200" spc="-1" strike="noStrike">
                <a:solidFill>
                  <a:srgbClr val="000000"/>
                </a:solidFill>
                <a:latin typeface="Verdana"/>
              </a:rPr>
              <a:t>función de producción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050920" y="3068640"/>
            <a:ext cx="489744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Producto Marginal Net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736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roducto marginal: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la cantidad de producto (output) adicional lograda por incrementar marginalmente una unidad de recurso (input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132000" y="4292640"/>
                <a:ext cx="23274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acional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6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nvertir en aquellos inputs que proporcionen mayor val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quilibrio: el producto marginal neto para cada input deberá ser cero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Si es &gt; 0, debería invertir en aquellos input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952560" y="486900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17640" y="458136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las TI´s tienen un producto marginal net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ositivo, la inversión en ellas generará valor, y por ende incrementarán la productiv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videncia Empíric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792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Usando una función de producción del tip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sulta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533880" y="3379680"/>
            <a:ext cx="15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alor agre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676520" y="315072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414180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alor de las TI´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489480" y="3319560"/>
            <a:ext cx="228600" cy="74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77080" y="3776760"/>
            <a:ext cx="1761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alor del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in TI´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4495320" y="331956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4520" y="357012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ano de o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5937120" y="3379320"/>
            <a:ext cx="10670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90200" y="4724280"/>
            <a:ext cx="242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1   0.088  (0.0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2   0.212  (0.0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3   0.663  (0.0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05520" y="4724280"/>
            <a:ext cx="139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2 = 0.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 = 11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666880" y="2637000"/>
                <a:ext cx="327348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sSup>
                      <m:e>
                        <m:r>
                          <m:t xml:space="preserve">K</m:t>
                        </m:r>
                      </m:e>
                      <m: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p>
                    <m:sSup>
                      <m:e>
                        <m:r>
                          <m:t xml:space="preserve">L</m:t>
                        </m:r>
                      </m:e>
                      <m: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periencia chilen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Dos estudios realizados: análisis del SII (Carlos Martínez) tesis del MGPP, impacto de las TI en sectores construcción y plástico en Chile (Vargas y Recabaren) memorias de títul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xisten indicios de un impacto positivo de las la TI, pero las conclusiones de Brynjolfson se mantien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ntecedent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e estudió el SII desde el punto de vista de las declaraciones de renta y otras vía Internet para los años 1996 a 2000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Costos de declaración por Internet bajan desde US$ 1,10 en papel, US$ 0,40 en diskette a US$ 0,13 por Intern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e estudió el impacto de excedente en los años 1990 a 2001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ced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4436640"/>
            <a:ext cx="841536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s posible observar que el ahorro de costos marginales (productividad) es positivo y esto genera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yor excedente del consumi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joras en productiv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35040" y="1797120"/>
          <a:ext cx="7461360" cy="1958760"/>
        </p:xfrm>
        <a:graphic>
          <a:graphicData uri="http://schemas.openxmlformats.org/drawingml/2006/table">
            <a:tbl>
              <a:tblPr/>
              <a:tblGrid>
                <a:gridCol w="1233360"/>
                <a:gridCol w="889200"/>
                <a:gridCol w="684000"/>
                <a:gridCol w="1095480"/>
                <a:gridCol w="684360"/>
                <a:gridCol w="1095120"/>
                <a:gridCol w="685800"/>
                <a:gridCol w="1094040"/>
              </a:tblGrid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ΔCMg (US$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tida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dente (US$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tida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dente (US$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tida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dente (US$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laración 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4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00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laración Ren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3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8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70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0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86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74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laración Jurad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0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11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92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97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8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7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ductiv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relación entre outputs e input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étricas de medi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Unidades física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Unidades monetaria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roblem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Recursos productivos compartido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Servicio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ntecedent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studio realizado en base a sectores de la actividad económica (plástico y construcción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 desarrollaron encuestas, con un bajo número de ellas contestad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69138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ctores de la incorporación de las T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403280" y="1628640"/>
          <a:ext cx="6553440" cy="4697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1628640"/>
                    <a:ext cx="655344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entajas generadas por las 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042920" y="1655640"/>
            <a:ext cx="6624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incipales TI en las empres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187280" y="1700280"/>
            <a:ext cx="698508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rado de Automatiz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692360" y="1773360"/>
          <a:ext cx="5616360" cy="4375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1773360"/>
                    <a:ext cx="5616360" cy="43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sultad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000" y="3068640"/>
            <a:ext cx="828036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l ajuste fue de 92% y las variables son representativas en un 60% o má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oblemas de pocos datos en la muestr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l parecer los resultados obtenidos en EE.UU. se confirma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s necesario mejorar y sistematizar métodos de medidas de resultados en los diferentes sectores naciona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50960" y="1873080"/>
          <a:ext cx="4040280" cy="818640"/>
        </p:xfrm>
        <a:graphic>
          <a:graphicData uri="http://schemas.openxmlformats.org/drawingml/2006/table">
            <a:tbl>
              <a:tblPr/>
              <a:tblGrid>
                <a:gridCol w="4040280"/>
              </a:tblGrid>
              <a:tr h="81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</a:t>
                      </a:r>
                      <a:r>
                        <a:rPr b="1" i="1" lang="es-ES_tradnl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 0.051 C</a:t>
                      </a:r>
                      <a:r>
                        <a:rPr b="1" i="1" lang="es-ES_tradnl" sz="15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25</a:t>
                      </a:r>
                      <a:r>
                        <a:rPr b="1" i="1" lang="es-ES_tradnl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K</a:t>
                      </a:r>
                      <a:r>
                        <a:rPr b="1" i="1" lang="es-ES_tradnl" sz="15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78</a:t>
                      </a:r>
                      <a:r>
                        <a:rPr b="1" i="1" lang="es-ES_tradnl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L</a:t>
                      </a:r>
                      <a:r>
                        <a:rPr b="1" i="1" lang="es-ES_tradnl" sz="15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334E-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nclus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a inversión en TI´s ha tenido un importante efecto en el output de la empres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No existe evidencia clara que las TI´s produzcan mayores rentabilidad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xiste una clara evidencia que el excedente del consumidor ha aumentad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2360" y="547560"/>
            <a:ext cx="7667640" cy="9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nclusiones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5238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438280" y="188604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1007600">
            <a:off x="2889000" y="-114120"/>
            <a:ext cx="8686080" cy="487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-456120" y="-858240"/>
            <a:ext cx="7009200" cy="563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-151920" y="-476640"/>
            <a:ext cx="7009920" cy="563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65840" y="16984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fe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75680" y="45180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910640" y="5127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67040" y="169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52880" y="432432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62720" y="4552920"/>
            <a:ext cx="0" cy="685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2437920" y="4324320"/>
            <a:ext cx="2514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437920" y="4476600"/>
            <a:ext cx="3124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6200" y="5203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95680" y="5203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66680" y="39844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66680" y="42894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4172040"/>
            <a:ext cx="30456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2040" y="5516640"/>
            <a:ext cx="875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rtir en TI´s permite que a las empresas mantener la PARIDAD competitiva, pero no necesariamente ganar ventaj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gradecimien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or Samuel Var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or Óscar Barr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or Juan Velásquez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79292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aradoja de la Productiv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Alta inversión en TI´s y baja en la tasa de cambio de la productivida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11280" y="2852640"/>
            <a:ext cx="4105440" cy="2160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19280" y="5445000"/>
            <a:ext cx="8424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</a:rPr>
              <a:t>Robert Solow: </a:t>
            </a:r>
            <a:r>
              <a:rPr b="0" lang="es-ES_tradnl" sz="2000" spc="-1" strike="noStrike">
                <a:solidFill>
                  <a:srgbClr val="cc0000"/>
                </a:solidFill>
                <a:latin typeface="Times New Roman"/>
              </a:rPr>
              <a:t>“vemos computadores por todas partes menos en las estadísticas de productivida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0360" y="5013360"/>
            <a:ext cx="373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recimiento de la Productividad entregado por el departamento de estadísticas de trabajo EE. U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xplica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Mal medición de factor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Demoras en obtener resultado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Redistribución de los beneficio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Mala Gestión (problema agente-principal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 busca de Evidenc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7989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sto de Administración y Ventas (CAV):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s el costo de coordinar, controlar, guiar, motivar, entrenar y administrar personal, consumidores y proveedores para producir y distribuir bienes y servici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sto de Bienes Vendidos (CBV):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s el costo en materiales y mano de obra asociado a los bienes o servici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AV es una “buena” aproximación de los costos de gestionar la inform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846080"/>
            <a:ext cx="80773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a empresa gasta $100 MM en materiales y mano de obr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Necesita $40 MM en CAV (ventas y administración para gestionar la producción, distribución y ventas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vierte en una nueva TI que requiere sólo $30 MM en CAV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275440"/>
            <a:ext cx="762120" cy="761760"/>
          </a:xfrm>
          <a:prstGeom prst="rightArrow">
            <a:avLst>
              <a:gd name="adj1" fmla="val 50000"/>
              <a:gd name="adj2" fmla="val 2501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8000" y="4941720"/>
            <a:ext cx="61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productividad en la gestión de la información mejora la situación de la empr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videncia: Sector Industri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494136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¿TI´s ha mejorado los proceso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stos de gestión de la información han subid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124000" y="1916280"/>
            <a:ext cx="4772160" cy="2700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700360" y="4508640"/>
            <a:ext cx="374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roductividad de los recursos de información en grandes corporaciones industriales en EE. U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videncia: Sector Bancar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4597560"/>
            <a:ext cx="80010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sperar disminuir el costo del staff por incorporar TI´s es razonabl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l sector bancario ha invertido gran cantidad en TI´s pero no se ha observado tal mejor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63640" y="1844640"/>
            <a:ext cx="4191120" cy="2827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019920" y="2514600"/>
            <a:ext cx="283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roductividad del Staff para grandes corporaciones bancarias en EE. U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06160"/>
            <a:ext cx="77040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i no es Productividad, debe ser Benefi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5229000"/>
            <a:ext cx="8001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lación no es clara, en general no existe tal rel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133720" y="1814400"/>
            <a:ext cx="4271760" cy="2828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666880" y="464832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torno para grandes corporaciones bancarias en EE. U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1T19:10:11Z</dcterms:created>
  <dc:creator>Samuel</dc:creator>
  <dc:description/>
  <dc:language>en-US</dc:language>
  <cp:lastModifiedBy>Ángel Jiménez</cp:lastModifiedBy>
  <dcterms:modified xsi:type="dcterms:W3CDTF">2005-11-15T19:14:26Z</dcterms:modified>
  <cp:revision>153</cp:revision>
  <dc:subject/>
  <dc:title>Diapositiva 1</dc:title>
</cp:coreProperties>
</file>