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2.png" ContentType="image/png"/>
  <Override PartName="/ppt/media/image26.png" ContentType="image/png"/>
  <Override PartName="/ppt/media/image11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AA43-3679-47AF-8459-3BC59D2921B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0D4-525C-4929-9833-69055649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50D-D81B-4E19-8A36-8AE3C397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C84-5AC7-4E09-BEEC-386A7D37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343-14AA-4738-A58E-3A703AB9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FA0-7685-47DD-9C03-C99F038F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F48-810C-4D04-9532-4A58FBC6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33E-5C20-4D17-8324-15E29CB5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FA4-5BCD-44A8-82C2-A4562FBB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960-52DD-4B21-9021-D83B5670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91E-0413-4977-8FE4-547CB772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F22-CCEC-4396-B570-C888C8D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AD2-B6B4-484C-9824-54B2CA66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24C-FD5D-4932-9FAF-30326DA0B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4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9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3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2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3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08-05T15:47:18Z</dcterms:modified>
  <cp:revision>109</cp:revision>
  <dc:subject/>
  <dc:title>Cobertura, densidad y pensiones en Chile:  Proyecciones a 30 años plazo</dc:title>
</cp:coreProperties>
</file>