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png" ContentType="image/png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A230-A289-4626-A035-AC4AF98397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3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9AA-FCC7-45EA-A55E-5178AF0D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38B8-0FA9-4F32-80A6-0E11EE71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C837-874D-4250-8FD4-6130D9A5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9B2-ABD8-4FBF-B27E-87B18C9A5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D58-5545-4A93-AE0C-0068D89F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1E3-E6A6-42D3-A326-101F033A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681-CF0A-4555-B350-C7F2D8EA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7A3C-B9CE-4E42-AD69-9A982BBD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913-5EC3-4695-AEB8-6FE219FB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B54A-A69A-4E37-AC2D-FF438A3C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CF1-9841-4AFA-8F2C-A5273879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E0F-D3BF-4BD8-BB1D-1A7A5A04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279B-EB3E-4D0E-BC68-A84FE65BD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692360" y="1080"/>
            <a:ext cx="745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versificación de activos: 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nstrumentos corpora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Los Fondos de Pensiones son los principales inversionistas de letras hipoteca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"/>
              </a:rPr>
              <a:t>Acceso a la vivienda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Efectos de los Fondos de Pensiones en el financiamiento de viviendas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63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observan mayores plazos para créditos hipotecarios y disminución de las tasas de interés de los préstam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3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a de interés real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1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 + 13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 + 5,3</a:t>
                      </a: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ás de  20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zo máxim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7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ertificados con respaldo hipotecari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ñ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"/>
              </a:rPr>
              <a:t>La gran mayoría de los adultos mayores viven en casa prop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 pesar de eso, hay problemas de dos t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-4428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s de arras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onos de reconocimiento: calculados sobre una “mala base” porque el desempleo entre 1975 y 1979 fue muy 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año previ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to desempleo en 80s y 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blemas estructurales, endógenos y exóge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21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619280" y="402120"/>
            <a:ext cx="74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784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bertura Previ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5280" y="91800"/>
            <a:ext cx="685152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20108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38080"/>
            <a:ext cx="6889680" cy="228744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Reflexiones sobre el Sistema Previsional Chile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6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6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7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</a:rPr>
              <a:t>Pensiones para Mayores de 70 añ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8920" y="188640"/>
            <a:ext cx="745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53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57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66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4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Hombres que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ujeres que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Hombres que </a:t>
            </a:r>
            <a:r>
              <a:rPr b="0" lang="es-CL" sz="40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eneral aspects of the Chilean pens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pilla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llar 1: Old age poverty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ory Minimum pension State-guaranteed (20 y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n contributory means tested basic 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llar 2: Consumption smoothing, 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F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(stands for Pension Fund Mana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illar 3: Consumption smoothing, volun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 Insurance Companies (L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tual Funds, bro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ujeres que </a:t>
            </a:r>
            <a:r>
              <a:rPr b="0" lang="es-CL" sz="40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cumplen el requisito para obtener Pensión Míni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187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La mitad de los cotizantes no saben bien  cuanto aportan mensualment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Prácticamente nadie sabe bien cuanto le paga a su AFP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1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00"/>
                  </a:solidFill>
                  <a:latin typeface="Arial"/>
                </a:rPr>
                <a:t>Menos de la mitad sabe cuanto tiene acumulado en su fond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acterística de la demanda: desconocimiento, indiferencia 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79640" y="197640"/>
            <a:ext cx="712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mprevisió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xógenos 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Arial"/>
              </a:rPr>
              <a:t>1. Mercado del Trabaj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apareció empleo de por vida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 rotación, desempleo  + frecu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ores del Mercado del trabajo afectan de manera no homogénea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leabilidad difiere por educación, ingreso, contactos familiar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trabajadores más pobres están más expuestos a estas incertidu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+ trabajadores por cuenta propia: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eren ahorros líquidos en caso de neces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195120"/>
            <a:ext cx="698328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Problemas exógenos:</a:t>
            </a:r>
            <a:br>
              <a:rPr sz="44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Problemas exógenos:</a:t>
            </a:r>
            <a:br>
              <a:rPr sz="44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219640" y="1413000"/>
            <a:ext cx="392436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gano natural de muchos trabajadores a cot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xógenos 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2. Mujeres, un caso espe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ienzan a trabajar más tar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enen más lagun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Ganan menos para igual calificación, (2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tiran antes (edad legal de jubilación 60 años vs. 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ven más (87 vs 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xógenos 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ados los ahorros, hay que financiar más año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ecuencia: pensiones men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tradicciones: la gente vive má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o se retira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se siente me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969920" y="-61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Dos problemas de diseño en competencia y concent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Inelasticidad de la demand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38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conomías de escal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típico en el sector financiero, pero aquí exagerado por la necesidad del giro ú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49560" y="1152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19280" y="-436320"/>
            <a:ext cx="748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reforma de pensiones ha sido un éxito financiero indud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os alcanzan a USD 61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an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FP Esta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333399"/>
                </a:solidFill>
                <a:latin typeface="Arial"/>
              </a:rPr>
              <a:t>2. Regulación a las inversiones compleja y poco flex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% de mayor rentabilidad en toda la vida significa más de 20% de mayor pen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ructura de límites compleja (94 x fondo), induce cierta delegación de responsabilidad en la autor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 se hubiera permitido optimizar en cada minuto, el fondo global sería más de 10% sup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o existe metodología común de medición de riesgo y no conocemos el riesgo de las p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9640" y="669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791320"/>
            <a:ext cx="691344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3. Generar un primer pilar inteli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PM a 20 años no es incit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pping-up implica un gran impuesto a las contribuciones marginales una vez que se cumplió el requisito de 20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0-50% de la gente no alcanzaría a tener acceso a GPM (algunos nunca habrían teni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79640" y="669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Problemas endógenos</a:t>
            </a:r>
            <a:br>
              <a:rPr sz="4400"/>
            </a:b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del sistema de pen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1405080"/>
            <a:ext cx="6813720" cy="228744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Reflexiones sobre el Sistema Previsional Chile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 Corbo/Schmidt-He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0" idx="3"/>
            <a:endCxn id="63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1" idx="3"/>
            <a:endCxn id="67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1" idx="3"/>
            <a:endCxn id="66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65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3"/>
            <a:endCxn id="64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6" idx="3"/>
            <a:endCxn id="69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5" idx="3"/>
            <a:endCxn id="69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4" idx="3"/>
            <a:endCxn id="69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60" idx="3"/>
            <a:endCxn id="62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60" idx="3"/>
            <a:endCxn id="61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8" idx="3"/>
            <a:endCxn id="63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908000" y="-411480"/>
            <a:ext cx="716472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reforma de pensiones ha tenido importantes efecto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-411480"/>
            <a:ext cx="7164720" cy="210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reforma de pensiones ha tenido importantes efecto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versificación de activos: todos los instr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versificación de activos: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ector financi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Diversificación de activos:  todos los intru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20:17:09Z</dcterms:created>
  <dc:creator>José Inostroza</dc:creator>
  <dc:description/>
  <dc:language>en-US</dc:language>
  <cp:lastModifiedBy>José Inostroza</cp:lastModifiedBy>
  <dcterms:modified xsi:type="dcterms:W3CDTF">2005-08-09T20:22:15Z</dcterms:modified>
  <cp:revision>3</cp:revision>
  <dc:subject/>
  <dc:title>Diapositiva 1</dc:title>
</cp:coreProperties>
</file>