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E75-BCEA-4857-8D10-68C2A53EF6F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BD5-D19E-4BDF-BB21-F9F2C990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176-BCA8-4240-B0E0-40EB01B7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8F2-7B82-4968-920C-82031A42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486-EAA5-44BE-8083-EF34B600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17D-6DD6-4FA0-AAD3-6B09C2C9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C11-D9B9-4C44-B093-E60D4981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81A-B6CE-443E-9212-08C59C84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553-0CE9-4944-9183-73F256DD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E0E-DD82-4D82-A2AA-31C5642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28B-BB43-41F2-90CE-C5F70E5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EA9-79F6-499A-92B0-27046E8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2C0-19EB-4ADF-BBEE-FEE17847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73A9-A2AB-474B-9551-9D032E6DE40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3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7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1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8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250920"/>
            <a:ext cx="8229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1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José Inostroza</cp:lastModifiedBy>
  <dcterms:modified xsi:type="dcterms:W3CDTF">2005-08-09T20:36:29Z</dcterms:modified>
  <cp:revision>110</cp:revision>
  <dc:subject/>
  <dc:title>Cobertura, densidad y pensiones en Chile:  Proyecciones a 30 años plazo</dc:title>
</cp:coreProperties>
</file>