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4CF-EAAC-465A-993A-2126859A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B03-48CF-4B45-9E1E-72386B3B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5345-C242-4D2F-975C-84AC5BA9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245E-EE25-4937-A7A1-D22EFF17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E253-D42E-4379-97A3-6ED161B4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58D-31D4-4423-9BB7-DCC12CD2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24B-DB1C-45A6-965C-8537CF3E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FC6-4EFF-4AF7-949B-FE78605B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1DE-4BDD-483F-BD2C-0D124F06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C62-81A4-4658-B1FC-0B2F6DDC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F67-E321-4B90-92B7-4356CD04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2E8-91A8-4662-8D8F-5DFDCC54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E9A6-2317-4DDB-AA18-0D787EBA7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638680"/>
            <a:ext cx="8229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Crecimiento de 2,6% en 1990-2004, mejor que en los 80,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ero muy inferior a los 70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En 1998-2003 hubo un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exenio perdido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 Recuperación en 2004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Necesidad de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Reformar las reforma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de primera gener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229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Inestabilidad de la economía real causada por flujos de capitales volát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érica Latina: ciclos de median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5791320"/>
            <a:ext cx="8229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inestabilidad real implica una baja tasa de utilización de la capacidad productiva, explicando la baja formación de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866920"/>
            <a:ext cx="82296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de cambio real altamente correlacionado con los movimientos de capi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8:01:34Z</dcterms:created>
  <dc:creator>rheresi</dc:creator>
  <dc:description/>
  <dc:language>en-US</dc:language>
  <cp:lastModifiedBy>rheresi</cp:lastModifiedBy>
  <dcterms:modified xsi:type="dcterms:W3CDTF">2005-09-23T14:53:57Z</dcterms:modified>
  <cp:revision>8</cp:revision>
  <dc:subject/>
  <dc:title>Crecimiento de 2,6% en 1990-2004, mejor que en los 80, pero muy inferior a los 70.    </dc:title>
</cp:coreProperties>
</file>