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7577-A422-4A1F-BBD8-3B75C8836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042A-87DC-4703-983E-9B5BAC56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54E1-32BD-4766-BA90-8D0CAC986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1028-A0D3-4D7F-8CDD-BD3B747F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EFF7-2F74-424F-A8D5-12B05450D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06BB-38D4-44A8-9794-058446B7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6746-F15F-4F29-BA93-8AC59E58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051C-0B06-453D-B8D8-AF2CE51A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CA93-8A35-4506-826C-BFC1F206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1C7C-29C8-4B8B-B94B-AA613E9E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C973-695B-4837-8E5C-AF8DF4C9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53B3-5F24-4DCA-AC15-63AFF353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0A04-F811-4640-B671-41EB012A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87B2-87A6-4EC6-97B9-9829C835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2972-D919-41D9-85A8-B251B288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6309-1396-4677-AEF7-833A78BBE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DEBD-C5BC-48B4-87E5-1A5743F36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B66D-E282-4AC4-AA91-55536D9D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3FA4-E7A0-448A-966B-3C980D89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2C46-797B-4B12-A17A-3E5A4A75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05B2-4C39-4992-B2B9-B63A13D5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BED8-330B-41B3-995D-B1BC1B9F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7FD1-A81D-4F51-88F8-87ECB80A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6466-2742-4FE9-88EC-DC6EDF14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2C36-4F57-4612-9808-1DF1D612A2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3FE0-7308-4464-A747-A80AC19CDE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cepal.org/" TargetMode="External"/><Relationship Id="rId2" Type="http://schemas.openxmlformats.org/officeDocument/2006/relationships/hyperlink" Target="mailto:ivan.finot@cepal.org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1320480"/>
            <a:ext cx="7772400" cy="153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99"/>
                </a:solidFill>
                <a:latin typeface="Times New Roman"/>
              </a:rPr>
              <a:t>Descentralización en América Latina: una Propuesta para Conciliar Eficiencia con Equidad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3933720"/>
            <a:ext cx="7772400" cy="1360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ván Finot (NN.UU./CEPAL/ILP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niversidad de Chile - Facultad de Ingeniería - Magíster en Gestión y Políticas Públ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antiago de Chile, 7 de octubre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200" spc="-1" strike="noStrike">
                <a:solidFill>
                  <a:srgbClr val="ff9966"/>
                </a:solidFill>
                <a:latin typeface="Times New Roman"/>
              </a:rPr>
              <a:t>Eficiencia</a:t>
            </a:r>
            <a:br>
              <a:rPr sz="4000"/>
            </a:br>
            <a:r>
              <a:rPr b="0" lang="es-BO" sz="4000" spc="-1" strike="noStrike">
                <a:solidFill>
                  <a:srgbClr val="ffffff"/>
                </a:solidFill>
                <a:latin typeface="Times New Roman"/>
              </a:rPr>
              <a:t>    Mejor Adecuación a Preferencia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uelson (1954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Mientras la provisión de un bien privado b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j 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s-BO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 b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1j 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+ b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2j 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+ …  + b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m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m: consumidores de b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 = f (U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 = f (P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/Y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La provisión de todos los bienes públicos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B = f (U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B1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 +U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B2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 + … U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Bn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954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n: todos los ciudada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Bi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 = f  (T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/Y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400" spc="-1" strike="noStrike">
                <a:solidFill>
                  <a:srgbClr val="ffffff"/>
                </a:solidFill>
                <a:latin typeface="Times New Roman"/>
              </a:rPr>
              <a:t>Mejor Adecuación a Preferenci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70000" y="194580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Charles Tibout (1956): votar con los p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Vincent Ostrom, Charles Tibout, Robert Warren (1961)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Diferencia entre proveer y produci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Las decisiones sobre provisión serán más eficientes con un sistema policéntric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Wallace Oates (1972): Teorema de la Descentralización: cuando la demanda está diferenciada y sin tomar en cuenta externalidades y economías de escala, la provisión  descentralizada será más eficiente que la centralizada (versión libre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400" spc="-1" strike="noStrike">
                <a:solidFill>
                  <a:srgbClr val="ffffff"/>
                </a:solidFill>
                <a:latin typeface="Times New Roman"/>
              </a:rPr>
              <a:t>Implicacion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0000" y="1557360"/>
            <a:ext cx="77724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Supuestos no explícitos sobre revelación de preferencias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Los ciudadanos pueden comparar beneficios con costos = impuest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Derecho de autoimposició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Programas de gobierno explicitan cost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Los electos representan adecuadamente las preferencias de los elector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Supuesto explícito (Oates): la provisión será tanto más eficiente cuanto mejor correspondan las circuncripciones políticas con la diferenciación de la demand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Acercamiento al ciudadano y asociativismo territori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2560" y="422280"/>
            <a:ext cx="74120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Descentralización Polític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Transferencia de decisiones políticas sobre asignaciones y financiamiento a </a:t>
            </a:r>
            <a:r>
              <a:rPr b="0" lang="es-ES_tradnl" sz="2600" spc="-1" strike="noStrike">
                <a:solidFill>
                  <a:srgbClr val="ff9966"/>
                </a:solidFill>
                <a:latin typeface="Times New Roman"/>
              </a:rPr>
              <a:t>procesos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democráticos subnacionales (jurídicamente, a gobierno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Lo fiscal: sólo un aspect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Ingresos: contribuciones ciudadanas a cada nivel de solución (errores de cuantificación!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Transferencias: ecualización de derech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Es conveniente descentralizar los procesos de decisión sobre provisión cuando la demanda está geográficamente diferenciada por aspectos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Físic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Cultur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Productiv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11000" y="337680"/>
            <a:ext cx="8280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Competencias Descentralizables Políticamente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240" y="1844640"/>
            <a:ext cx="7086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manda geográficamente diferenci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Uso de suel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Organización territorial de la prestación de servici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Infraestructura básica y servicios públic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Definición de contenidos de servicios de educación (y salud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Base del desarrollo local/regiona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sarrollo económico (competitivida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ejoramiento del hábit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Descentralización</a:t>
            </a: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Operativ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2068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Proceso de asignación político-administrativa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Decisión (polític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00"/>
                </a:solidFill>
                <a:latin typeface="Times New Roman"/>
              </a:rPr>
              <a:t>Ejecución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(administrativ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Para responder mejor por algunas funciones que les competen, los gobiernos centrales transfieren parte de la </a:t>
            </a:r>
            <a:r>
              <a:rPr b="0" lang="es-ES" sz="2600" spc="-1" strike="noStrike">
                <a:solidFill>
                  <a:srgbClr val="ffff66"/>
                </a:solidFill>
                <a:latin typeface="Times New Roman"/>
              </a:rPr>
              <a:t>ejecución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 de sus decisiones sobre asignación, a administraciones locales a través de sus respectivos gobiernos. Ej. Subsidios soci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Dando lugar a una relación “</a:t>
            </a:r>
            <a:r>
              <a:rPr b="0" lang="es-ES" sz="2600" spc="-1" strike="noStrike">
                <a:solidFill>
                  <a:srgbClr val="ffff66"/>
                </a:solidFill>
                <a:latin typeface="Times New Roman"/>
              </a:rPr>
              <a:t>principal - agente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”: ventajas de información pero conflicto de interes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66"/>
                </a:solidFill>
                <a:latin typeface="Times New Roman"/>
              </a:rPr>
              <a:t>Descentralización Operativa</a:t>
            </a:r>
            <a:r>
              <a:rPr b="0" lang="es-ES" sz="26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descentralización de la ejecución de decisiones políticas centrales, </a:t>
            </a:r>
            <a:r>
              <a:rPr b="0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a gobiernos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 “locales” ( = “descentralización administrativa a gobiernos” </a:t>
            </a:r>
            <a:r>
              <a:rPr b="0" lang="es-ES" sz="26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 delegació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5410080"/>
            <a:ext cx="81788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76" name=""/>
          <p:cNvCxnSpPr>
            <a:stCxn id="177" idx="2"/>
            <a:endCxn id="178" idx="1"/>
          </p:cNvCxnSpPr>
          <p:nvPr/>
        </p:nvCxnSpPr>
        <p:spPr>
          <a:xfrm>
            <a:off x="4686480" y="2362320"/>
            <a:ext cx="1638720" cy="35056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3352680" y="1828800"/>
            <a:ext cx="2667240" cy="53352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ceso centraliz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38680" y="4419720"/>
            <a:ext cx="2210040" cy="685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centraliz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2362320"/>
            <a:ext cx="685800" cy="2057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77880" y="2860560"/>
            <a:ext cx="266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ff"/>
                </a:solidFill>
                <a:latin typeface="Times New Roman"/>
              </a:rPr>
              <a:t>Desc. Polí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ccff"/>
                </a:solidFill>
                <a:latin typeface="Times New Roman"/>
              </a:rPr>
              <a:t>Decisiones polí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12960" y="125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609480"/>
            <a:ext cx="648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ntique Olive"/>
              </a:rPr>
              <a:t>Descentralización Política 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ntique Olive"/>
              </a:rPr>
              <a:t>Descentralización Oper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1280" y="2819520"/>
            <a:ext cx="205740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minist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5562720"/>
            <a:ext cx="213372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ministr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c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36576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Desc. Oper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ffff66"/>
                </a:solidFill>
                <a:latin typeface="Times New Roman"/>
              </a:rPr>
              <a:t>Decisiones administrativ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66"/>
                </a:solidFill>
                <a:latin typeface="Times New Roman"/>
              </a:rPr>
              <a:t>Equidad</a:t>
            </a:r>
            <a:br>
              <a:rPr sz="2800"/>
            </a:br>
            <a:r>
              <a:rPr b="0" lang="es-ES" sz="2800" spc="-1" strike="noStrike">
                <a:solidFill>
                  <a:srgbClr val="ff9966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9966"/>
                </a:solidFill>
                <a:latin typeface="Times New Roman"/>
              </a:rPr>
              <a:t>	</a:t>
            </a: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Transferencias</a:t>
            </a: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ransferencias: entregas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 dinero y/o en servicio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para reducir desigual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erritoriales: de gobierno a gobi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ociales: de gobiernos a personas (subsidios) y a organizaciones (subvencion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erritoriales (Oat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No condicionada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: para compensar diferencias en ingresos públicos (por habitant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Condicionada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: para igualar nivel de provisión de algunos servicios (socia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53720" y="498240"/>
            <a:ext cx="7550280" cy="113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Tipos de Transferencias 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619280" y="2852640"/>
          <a:ext cx="6389640" cy="3168720"/>
        </p:xfrm>
        <a:graphic>
          <a:graphicData uri="http://schemas.openxmlformats.org/drawingml/2006/table">
            <a:tbl>
              <a:tblPr/>
              <a:tblGrid>
                <a:gridCol w="1131840"/>
                <a:gridCol w="990720"/>
                <a:gridCol w="2209680"/>
                <a:gridCol w="2057400"/>
              </a:tblGrid>
              <a:tr h="52056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diciona-miento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 aporte local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gún uso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1187280" y="1670040"/>
            <a:ext cx="76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a condiciones de eficiencia: es conveniente  diferenciar entre dos tipos de condicionamient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498240"/>
            <a:ext cx="8077320" cy="113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Transferencias y Tipos de Descentralización                          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619280" y="1989000"/>
          <a:ext cx="6389640" cy="4364280"/>
        </p:xfrm>
        <a:graphic>
          <a:graphicData uri="http://schemas.openxmlformats.org/drawingml/2006/table">
            <a:tbl>
              <a:tblPr/>
              <a:tblGrid>
                <a:gridCol w="1131840"/>
                <a:gridCol w="990720"/>
                <a:gridCol w="2209680"/>
                <a:gridCol w="2057400"/>
              </a:tblGrid>
              <a:tr h="52056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diciona-miento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 aporte local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5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gún uso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. Política del Gast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entralización Polític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. Política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Operativ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. Operativa &gt; Polític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400" spc="-1" strike="noStrike">
                <a:solidFill>
                  <a:srgbClr val="00ffff"/>
                </a:solidFill>
                <a:latin typeface="Times New Roman"/>
              </a:rPr>
              <a:t>El Problem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0000" y="1557000"/>
            <a:ext cx="777240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La autonomía de las localidades es indispensable para favorecer identidad </a:t>
            </a:r>
            <a:r>
              <a:rPr b="0" lang="es-BO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 diferenciación productiva </a:t>
            </a:r>
            <a:r>
              <a:rPr b="0" lang="es-BO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 competitiv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Pero en los procesos de descentralización de la región </a:t>
            </a:r>
            <a:r>
              <a:rPr b="0" lang="es-BO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 se tiende a favorecer la autonomía 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Centralismos intermedios en países federales (excepto Brasil) y aun unitarios (Chile, Ecuador, Paragua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Gobiernos municipales ejecutores de políticas sociales nacion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Riesgos que refuerzan el centralism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Insostenibilidad financi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Aumentar en vez de disminuir la inequ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¿Cómo hacer viable la autonomía local con sostenibilidad y equidad social y territorial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11000" y="498600"/>
            <a:ext cx="8280360" cy="120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ff99"/>
                </a:solidFill>
                <a:latin typeface="Times New Roman"/>
              </a:rPr>
              <a:t>Descentralización Económic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12880" y="1989000"/>
            <a:ext cx="79358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ransferencia de la decisión sobre cómo producir,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sde procesos político-administrativos a la competencia económic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Forma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Externalización: contratación de obras y servici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Concesión: privatización tempor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66"/>
                </a:solidFill>
                <a:latin typeface="Times New Roman"/>
              </a:rPr>
              <a:t>Apertura (“desregulación”): exposición de producción pública a la competencia de establecimientos no públicos. Ej. en Colombia, telecomunicaciones, salud; en Chile, educació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447920" indent="-53352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Implica: descentralización hasta establecimien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16000" y="498600"/>
            <a:ext cx="7416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Condiciones de Eficiencia y Equidad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42920" y="2035080"/>
            <a:ext cx="7920000" cy="40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la descentralización económic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cc99ff"/>
              </a:buClr>
              <a:buSzPct val="60000"/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finición pública de la dema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cc99ff"/>
              </a:buClr>
              <a:buSzPct val="60000"/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currencia individual en la ofer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dición para la </a:t>
            </a: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eficienci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mpetencia: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regulación, transparencia, control efectivo (incluido de calida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aso especial: monopolios naturales (red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dición para </a:t>
            </a: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equidad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: subvenciones y subsid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648320" y="1371600"/>
            <a:ext cx="1600200" cy="350532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838080"/>
            <a:ext cx="236196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obierno Cent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638680" y="3429000"/>
            <a:ext cx="198144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obi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5791320"/>
            <a:ext cx="3200400" cy="609480"/>
          </a:xfrm>
          <a:prstGeom prst="rect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tores Extern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38680" y="1371600"/>
            <a:ext cx="914400" cy="2057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3960" y="1422000"/>
            <a:ext cx="5040" cy="4367880"/>
          </a:xfrm>
          <a:prstGeom prst="line">
            <a:avLst/>
          </a:prstGeom>
          <a:ln w="12600">
            <a:solidFill>
              <a:srgbClr val="99ff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6172200" y="4114800"/>
            <a:ext cx="914400" cy="1676520"/>
          </a:xfrm>
          <a:prstGeom prst="line">
            <a:avLst/>
          </a:prstGeom>
          <a:ln w="12600">
            <a:solidFill>
              <a:srgbClr val="99ff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80040" y="1870200"/>
            <a:ext cx="19256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Desc. Política</a:t>
            </a:r>
            <a:r>
              <a:rPr b="1" i="1" lang="es-ES_tradnl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Decisiones polít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95280" y="4191120"/>
            <a:ext cx="25146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33"/>
                </a:solidFill>
                <a:latin typeface="Times New Roman"/>
              </a:rPr>
              <a:t>Desc. Económica</a:t>
            </a:r>
            <a:r>
              <a:rPr b="1" i="1" lang="es-ES_tradnl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Decisiones sobre produ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12960" y="26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65280" y="204840"/>
            <a:ext cx="45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ntique Olive"/>
              </a:rPr>
              <a:t>Formas de Descentr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1828800"/>
            <a:ext cx="205740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minist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24480" y="4572000"/>
            <a:ext cx="213372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minist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86200" y="2666880"/>
            <a:ext cx="18288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Times New Roman"/>
              </a:rPr>
              <a:t>Desc. Operativa</a:t>
            </a:r>
            <a:r>
              <a:rPr b="1" i="1" lang="es-ES_tradnl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Decisiones administrativ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47920" y="188640"/>
            <a:ext cx="67960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Descentralización en América Latin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30200" y="2133360"/>
            <a:ext cx="7129440" cy="3671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scentralización de la provis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Gas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gresos prop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Transferenc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ndiciones de eficiencia y equ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scentralización de la producción (</a:t>
            </a:r>
            <a:r>
              <a:rPr b="0" lang="es-ES" sz="3200" spc="-1" strike="noStrike">
                <a:solidFill>
                  <a:srgbClr val="ff9966"/>
                </a:solidFill>
                <a:latin typeface="Symbol"/>
                <a:ea typeface="Symbol"/>
              </a:rPr>
              <a:t>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Descentralización de la Provisión</a:t>
            </a:r>
            <a:br>
              <a:rPr sz="4000"/>
            </a:br>
            <a:r>
              <a:rPr b="0" lang="es-BO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BO" sz="4000" spc="-1" strike="noStrike">
                <a:solidFill>
                  <a:srgbClr val="00ffff"/>
                </a:solidFill>
                <a:latin typeface="Times New Roman"/>
              </a:rPr>
              <a:t>Distribución de Competencia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047600" y="1484280"/>
          <a:ext cx="7772400" cy="5103720"/>
        </p:xfrm>
        <a:graphic>
          <a:graphicData uri="http://schemas.openxmlformats.org/drawingml/2006/table">
            <a:tbl>
              <a:tblPr/>
              <a:tblGrid>
                <a:gridCol w="1111320"/>
                <a:gridCol w="1109520"/>
                <a:gridCol w="1111320"/>
                <a:gridCol w="1108080"/>
                <a:gridCol w="1111320"/>
                <a:gridCol w="1109520"/>
                <a:gridCol w="1111320"/>
              </a:tblGrid>
              <a:tr h="63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cccc"/>
                          </a:solidFill>
                          <a:latin typeface="Times New Roman"/>
                        </a:rPr>
                        <a:t>Comp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Argen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Brasi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Méx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Boliv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Ch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Colomb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 u="sng">
                          <a:solidFill>
                            <a:srgbClr val="ffff66"/>
                          </a:solidFill>
                          <a:uFillTx/>
                          <a:latin typeface="Times New Roman"/>
                        </a:rPr>
                        <a:t>Infraest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vin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t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t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(Depto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N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Munic.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Munic.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 u="sng">
                          <a:solidFill>
                            <a:srgbClr val="ffff66"/>
                          </a:solidFill>
                          <a:uFillTx/>
                          <a:latin typeface="Times New Roman"/>
                        </a:rPr>
                        <a:t>Educ.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cccc"/>
                          </a:solidFill>
                          <a:latin typeface="Times New Roman"/>
                        </a:rPr>
                        <a:t>Infraestr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vin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t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t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(Deptos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cccc"/>
                          </a:solidFill>
                          <a:latin typeface="Times New Roman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N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 u="sng">
                          <a:solidFill>
                            <a:srgbClr val="ffff66"/>
                          </a:solidFill>
                          <a:uFillTx/>
                          <a:latin typeface="Times New Roman"/>
                        </a:rPr>
                        <a:t>Salud P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cccc"/>
                          </a:solidFill>
                          <a:latin typeface="Times New Roman"/>
                        </a:rPr>
                        <a:t>Infraestr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vin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t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t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(Deptos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cccc"/>
                          </a:solidFill>
                          <a:latin typeface="Times New Roman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N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 u="sng">
                          <a:solidFill>
                            <a:srgbClr val="ffff66"/>
                          </a:solidFill>
                          <a:uFillTx/>
                          <a:latin typeface="Times New Roman"/>
                        </a:rPr>
                        <a:t>Salud Secun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vin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t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Munic.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t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7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Participación en el Gasto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38280" y="64008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* Excepto Brasil: 1991-1998, y México: 1991-2000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3824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66680" y="1690560"/>
          <a:ext cx="7467840" cy="454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90560"/>
                    <a:ext cx="7467840" cy="45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200" spc="-1" strike="noStrike">
                <a:solidFill>
                  <a:srgbClr val="00ffff"/>
                </a:solidFill>
                <a:latin typeface="Times New Roman"/>
              </a:rPr>
              <a:t>Ingresos Propios</a:t>
            </a:r>
            <a:br>
              <a:rPr sz="3600"/>
            </a:br>
            <a:r>
              <a:rPr b="0" lang="es-BO" sz="36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BO" sz="3600" spc="-1" strike="noStrike">
                <a:solidFill>
                  <a:srgbClr val="ffffff"/>
                </a:solidFill>
                <a:latin typeface="Times New Roman"/>
              </a:rPr>
              <a:t>Bases de los Principales Impuestos </a:t>
            </a:r>
            <a:r>
              <a:rPr b="0" lang="es-BO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3600" spc="-1" strike="noStrike">
                <a:solidFill>
                  <a:srgbClr val="ffffff"/>
                </a:solidFill>
                <a:latin typeface="Times New Roman"/>
              </a:rPr>
              <a:t>Subnacionale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68360" y="1946160"/>
          <a:ext cx="8474040" cy="3984840"/>
        </p:xfrm>
        <a:graphic>
          <a:graphicData uri="http://schemas.openxmlformats.org/drawingml/2006/table">
            <a:tbl>
              <a:tblPr/>
              <a:tblGrid>
                <a:gridCol w="1224000"/>
                <a:gridCol w="1144440"/>
                <a:gridCol w="1222560"/>
                <a:gridCol w="1218960"/>
                <a:gridCol w="1222560"/>
                <a:gridCol w="1218960"/>
                <a:gridCol w="1222560"/>
              </a:tblGrid>
              <a:tr h="75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cccc"/>
                          </a:solidFill>
                          <a:latin typeface="Times New Roman"/>
                        </a:rPr>
                        <a:t>Ni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Argen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Brasi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Méx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Boliv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Ch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Colomb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cccc"/>
                          </a:solidFill>
                          <a:latin typeface="Times New Roman"/>
                        </a:rPr>
                        <a:t>Intermed.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gresos Brutos de las Empresa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Produc. Hidroc. *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cccc"/>
                          </a:solidFill>
                          <a:latin typeface="Times New Roman"/>
                        </a:rPr>
                        <a:t>Venta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cccc"/>
                          </a:solidFill>
                          <a:latin typeface="Times New Roman"/>
                        </a:rPr>
                        <a:t>Vehículo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gresos Personale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Produc. Hidroc. *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Produc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ner. *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Produc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ner. *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core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asolin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Produc. Hidroc. *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cccc"/>
                          </a:solidFill>
                          <a:latin typeface="Times New Roman"/>
                        </a:rPr>
                        <a:t>Municipal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mueble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mueble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mueble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mueble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mueble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ículo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ículo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ículo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ículo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"/>
          <p:cNvSpPr/>
          <p:nvPr/>
        </p:nvSpPr>
        <p:spPr>
          <a:xfrm>
            <a:off x="1692360" y="623736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ffffff"/>
                </a:solidFill>
                <a:latin typeface="Times New Roman"/>
              </a:rPr>
              <a:t>* Regalías no son impue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75960"/>
            <a:ext cx="8820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Participación en los Ingresos Fiscal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93920" y="654516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14600" y="61722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* Excepto Brasil: 1991-1998, y México: 1991-2000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990720" y="1582560"/>
          <a:ext cx="7696080" cy="445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582560"/>
                    <a:ext cx="7696080" cy="44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Observaciones sobre Ingreso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70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scasa capacidad de generación de ingres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imitaciones a la autoimposi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xención de impues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imitaciones para alícuo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ncentración de la rique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No contabilización de contribuciones voluntar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7040" y="304560"/>
            <a:ext cx="710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Contribuciones no Contabilizada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6560" y="1531440"/>
            <a:ext cx="811548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portes ciudadanos voluntarios a la generación de bienes públicos a través de sus organizaciones, en “tiempo”, trabajo, especie, din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este caso se cumple la condición de eficiencia: se decide gastos sobre la base de apor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os aportes llegan a ser muy importantes pero no suelen ser contabilizado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cepto en fondos de desarrollo y presupuestos participativos, pero no son tomados en cuenta en la contabilidad fis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6320" y="77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nfoqu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050560" y="2379600"/>
            <a:ext cx="664236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nálisis teór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El problema de la asign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Descentralización de la provisión: eficiencia y equ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Descentralización de la producción de bienes provistos públic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scentralización en América Lat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ineamientos para Conciliar Eficiencia con Equ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763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200" spc="-1" strike="noStrike">
                <a:solidFill>
                  <a:srgbClr val="00ffff"/>
                </a:solidFill>
                <a:latin typeface="Times New Roman"/>
              </a:rPr>
              <a:t>Sistemas de Transferencias Territoriales</a:t>
            </a:r>
            <a:br>
              <a:rPr sz="3200"/>
            </a:br>
            <a:r>
              <a:rPr b="0" lang="es-BO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BO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BO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BO" sz="3600" spc="-1" strike="noStrike">
                <a:solidFill>
                  <a:srgbClr val="ffffff"/>
                </a:solidFill>
                <a:latin typeface="Times New Roman"/>
              </a:rPr>
              <a:t>Financiamiento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7000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Transferencias territori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66"/>
                </a:solidFill>
                <a:latin typeface="Times New Roman"/>
              </a:rPr>
              <a:t>Básicas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: en principio de libre disponi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Destin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Básicas: aproximadamente un 20% sobre </a:t>
            </a:r>
            <a:r>
              <a:rPr b="0" lang="es-BO" sz="2800" spc="-1" strike="noStrike" u="sng">
                <a:solidFill>
                  <a:srgbClr val="ffffff"/>
                </a:solidFill>
                <a:uFillTx/>
                <a:latin typeface="Times New Roman"/>
              </a:rPr>
              <a:t>todos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 los impuestos nacionales 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(Ver Anexos 1 y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Excepciones importante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Brasil (estados y municipios): sólo sobre impuestos a la renta y a la producción 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Chile: sólo sobre impuestos municipales + monto adi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Colombia: sobre PIB de largo plaz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066680" y="3789360"/>
            <a:ext cx="3353040" cy="2306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1884240"/>
            <a:ext cx="3353040" cy="1905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884240"/>
            <a:ext cx="2971800" cy="19051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419720" y="1676520"/>
            <a:ext cx="0" cy="502920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2298600"/>
            <a:ext cx="990720" cy="3988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19320" y="3809880"/>
            <a:ext cx="3200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90640" y="3789360"/>
            <a:ext cx="6705720" cy="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467480" y="3352680"/>
            <a:ext cx="16002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imes New Roman"/>
              </a:rPr>
              <a:t>Vinculación con esfuerzo lo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7600" y="1219320"/>
            <a:ext cx="1600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imes New Roman"/>
              </a:rPr>
              <a:t>Autonomía de ga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56120" y="1898640"/>
            <a:ext cx="1524240" cy="581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éx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Ramo 2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932360" y="5162400"/>
            <a:ext cx="2209680" cy="70380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Fondos de Cofinanci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00200" y="3019320"/>
            <a:ext cx="9907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95680" y="15238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38080" y="3352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97160" y="4952880"/>
            <a:ext cx="1298520" cy="3988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lomb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3657600"/>
            <a:ext cx="1143000" cy="3988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19320" y="5838840"/>
            <a:ext cx="3200400" cy="94716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Financiamiento Directo de Servicios Sociales: </a:t>
            </a:r>
            <a:r>
              <a:rPr b="1" i="1" lang="es-ES" sz="1600" spc="-1" strike="noStrike">
                <a:solidFill>
                  <a:srgbClr val="000000"/>
                </a:solidFill>
                <a:latin typeface="Times New Roman"/>
              </a:rPr>
              <a:t>Colombia, Chile, (Brasil, México)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36800" y="2443320"/>
            <a:ext cx="14479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Argen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20880" y="137160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245360" y="137160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5960" y="609588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280280" y="609588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3933720"/>
            <a:ext cx="1143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62920" y="37479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19720" y="6172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00360" y="25322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706840" y="5352480"/>
            <a:ext cx="278280" cy="38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6964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ffffff"/>
                </a:solidFill>
                <a:latin typeface="Times New Roman"/>
              </a:rPr>
              <a:t>Sistemas de Transferencias</a:t>
            </a:r>
            <a:br>
              <a:rPr sz="2000"/>
            </a:br>
            <a:r>
              <a:rPr b="0" lang="es-BO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3200" spc="-1" strike="noStrike">
                <a:solidFill>
                  <a:srgbClr val="ffffff"/>
                </a:solidFill>
                <a:latin typeface="Times New Roman"/>
              </a:rPr>
              <a:t>Síntesis y Tendencia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48000" y="5442120"/>
            <a:ext cx="1219320" cy="33768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00400" y="4365720"/>
            <a:ext cx="13716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olomb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1952640"/>
            <a:ext cx="1218960" cy="3376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19640" y="4869000"/>
            <a:ext cx="1143000" cy="39888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54920" y="5686560"/>
            <a:ext cx="10810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000000"/>
                </a:solidFill>
                <a:latin typeface="Times New Roman"/>
              </a:rPr>
              <a:t>Bás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12000" y="6165720"/>
            <a:ext cx="133200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000" spc="-1" strike="noStrike">
                <a:solidFill>
                  <a:srgbClr val="000000"/>
                </a:solidFill>
                <a:latin typeface="Times New Roman"/>
              </a:rPr>
              <a:t>Asigna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737240" y="4436640"/>
            <a:ext cx="215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14000" y="4037400"/>
            <a:ext cx="8280" cy="29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843280" y="1916280"/>
            <a:ext cx="1447560" cy="3988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rgen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56000" y="213372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12000" y="5589720"/>
            <a:ext cx="1332000" cy="107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2362320"/>
            <a:ext cx="22860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¿Mejor Adecuación a Preferencias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9080" y="1341360"/>
            <a:ext cx="7704000" cy="5184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52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scaso acercamiento a niveles más próximos al ciudadano (submunicipales) o proliferación de administraciones municipales con ausencia de estímulos (eficaces) para la asoci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52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os sistemas de financiamiento no inducen gasto vinculado con aportes, posible sólo en (pocas) circunscripciones “rica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70000"/>
              </a:lnSpc>
              <a:spcBef>
                <a:spcPts val="52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mayoría de los gobiernos municipales son agentes de gobiernos centrales &gt; cabezas de autonomías (excepción relativa: Brasi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52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presentación de preferencias: desigual (no democrátic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70000"/>
              </a:lnSpc>
              <a:spcBef>
                <a:spcPts val="52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ticipación política: el sistema electoral municipal no permite adecuada representación de preferencias ciudadan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70000"/>
              </a:lnSpc>
              <a:spcBef>
                <a:spcPts val="52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ticipación social: sectores privilegi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16000" y="315720"/>
            <a:ext cx="7632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Para Conciliar Eficiencia con Equida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122200" y="2204640"/>
            <a:ext cx="5545080" cy="360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iferenciaciones bás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istemas de transferenc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rofundización y adecu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articipación y autonom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Resultados esper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Diferenciaciones Básic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17440" y="1371240"/>
            <a:ext cx="7702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la demanda de bienes públicos descentralizables, diferenciar entre servicios de infraestructura básica y servicios socia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7c80"/>
                </a:solidFill>
                <a:latin typeface="Times New Roman"/>
              </a:rPr>
              <a:t>Infraestructura básica y servicios públic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Qué y cuánto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: Demanda diferenci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Servicios de educación y salud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Qué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(aspectos cualitativos): 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demanda diferenciada</a:t>
            </a: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Cuánto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aspectos cuantitativos: niveles): 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demanda igual! (Derechos socia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iferenciación establecida en México y ahora, nítidamente, en Colombia (200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Sistemas de Transferenci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23800" y="1066680"/>
            <a:ext cx="85122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Tender a transformar los actuales sistemas de transferencias en dos sistemas</a:t>
            </a:r>
            <a:r>
              <a:rPr b="0" lang="es-ES_tradnl" sz="2600" spc="-1" strike="noStrike">
                <a:solidFill>
                  <a:srgbClr val="ffff00"/>
                </a:solidFill>
                <a:latin typeface="Times New Roman"/>
              </a:rPr>
              <a:t> subsidiarios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1) Sistema de ecualización de derechos sociales: respecto a ingresos familiares y objetivos nacionales, </a:t>
            </a:r>
            <a:r>
              <a:rPr b="0" lang="es-ES_tradnl" sz="2600" spc="-1" strike="noStrike">
                <a:solidFill>
                  <a:srgbClr val="00ffff"/>
                </a:solidFill>
                <a:latin typeface="Times New Roman"/>
              </a:rPr>
              <a:t>integrado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y operado por gobiernos subnacionales (Colombia, Chile parcialmente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2) Sistema de ecualización del derecho a proveerse bienes locales 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s-ES_tradnl" sz="2600" spc="-1" strike="noStrike">
                <a:solidFill>
                  <a:srgbClr val="ffffff"/>
                </a:solidFill>
                <a:latin typeface="Times New Roman"/>
              </a:rPr>
              <a:t>sobre experiencia de México y Europa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ransferencias de libre disponibilidad proporcionales a los aportes locales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relativos</a:t>
            </a:r>
            <a:r>
              <a:rPr b="0" lang="es-ES_tradnl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respecto a ingresos geográficos o niveles de pobrez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cluir contribuciones no contabilizadas (cuantificadas por Fondos de Desarrollo),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hora en legislación de Guatema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3538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Profundización y Adecuaci</a:t>
            </a:r>
            <a:r>
              <a:rPr b="0" lang="es-BO" sz="4000" spc="-1" strike="noStrike">
                <a:solidFill>
                  <a:srgbClr val="ffffff"/>
                </a:solidFill>
                <a:latin typeface="Times New Roman"/>
              </a:rPr>
              <a:t>ó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29800" y="1368360"/>
            <a:ext cx="827892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países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unitarios y federale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nformar procesos de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decisión autónoma en niveles submuncipale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: elección de representantes y ejecutivos, transferencia de potestades y recursos (Ej. Ecuad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centivar -a través de transferencias territoriales– la formación de consorcios municipales (públicos en Brasil) </a:t>
            </a: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en función de configuración de demandas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(análisis regional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ransferir potestades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y transferencias de tipo I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a estos consorcios regionales, </a:t>
            </a: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públicos pero temporale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, para concertación del Desarrollo Local/Regional sobre la base 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lanes de uso del suelo y organización de servicios (incluidos social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ovisión de infraestructura básica y servicios públ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finición de contenidos de educación y capaci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Participación y Autonomí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12520" y="1111320"/>
            <a:ext cx="8367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ticipación política y mayor autonomía fis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66"/>
                </a:solidFill>
                <a:latin typeface="Times New Roman"/>
              </a:rPr>
              <a:t>Sistema territorial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 para elección de representantes en el nivel local, con obligación de informarse e informa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Potestades de autoimposición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Para modificar alícuotas (para impuestos sobre inmuebles, externalización de avalúo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egalización y contabilización de cuasi-impuest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Presupuestación participativa y consulta obligatoria para endeudamiento a partir de límit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ticipación social: incentivarla pero subordinarla a participación política reformada (punto anterio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stemas de información: asequible, de base y de gest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66"/>
                </a:solidFill>
                <a:latin typeface="Times New Roman"/>
              </a:rPr>
              <a:t>Resultados Esperado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2280" y="1523520"/>
            <a:ext cx="751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Viabilización del desarrollo local/regional: mayor </a:t>
            </a: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competitividad económica 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ayor equidad social y territorial: </a:t>
            </a: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igualdad de oportun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sarrollo de </a:t>
            </a: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ciudadan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ayor </a:t>
            </a: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eficiencia fiscal y administrativa, reducción de la corrup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Pero se afectarían intereses políticos actuales (élites locales, partidos): viabilidad  depende de debate y consenso para reforma estructu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Lecturas Recomendad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71280" y="1523880"/>
            <a:ext cx="7848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obre descentralización político-fisc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Oates, Wallace (1972).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Fiscal federalism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(Trad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obre descentralización económic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Bennett, Robert (1990).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Decentralization, governments and markets: towards a post-welfare agend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(Oxfor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artner, Gonzalo (1999).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Gobernar el mercado, las nuevas fronteras del Estado en el siglo XXI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(LOM – Santiago de Chi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l autor: en 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epal.o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2001: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 Descentralización en América Latina: teoría y práctic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 Serie Gestión Pública 12. CEP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2005: “Descentralización, transferencias territoriales y desarrollo local” </a:t>
            </a:r>
            <a:r>
              <a:rPr b="0" i="1" lang="es-ES" sz="2400" spc="-1" strike="noStrike">
                <a:solidFill>
                  <a:srgbClr val="ffff66"/>
                </a:solidFill>
                <a:latin typeface="Times New Roman"/>
              </a:rPr>
              <a:t>Revista de la CEPAL 86</a:t>
            </a: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 (Agost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66"/>
                </a:solidFill>
                <a:latin typeface="Times New Roman"/>
              </a:rPr>
              <a:t>Comentarios bienvenidos en 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ivan.finot@cepal.org</a:t>
            </a:r>
            <a:r>
              <a:rPr b="0" lang="es-ES" sz="2400" spc="-1" strike="noStrike">
                <a:solidFill>
                  <a:srgbClr val="ff9966"/>
                </a:solidFill>
                <a:latin typeface="Times New Roman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3336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400" spc="-1" strike="noStrike">
                <a:solidFill>
                  <a:srgbClr val="ff9966"/>
                </a:solidFill>
                <a:latin typeface="Times New Roman"/>
              </a:rPr>
              <a:t>El Problema de la Asignació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52360" y="1339920"/>
            <a:ext cx="7452000" cy="55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La provisión de bienes públicos representa entre un 20 y un 50% del PIB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as decisiones sob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33480" indent="-476280">
              <a:lnSpc>
                <a:spcPct val="7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Qué, cuánto y </a:t>
            </a: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con qué parte del ingreso ciudadan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proveer bienes públ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33480" indent="-476280">
              <a:lnSpc>
                <a:spcPct val="7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ómo producir: </a:t>
            </a: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qué producir directamente y qué comprar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aprobación de presupuestos A través de procesos político-administra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on adoptadas a través de procesos político-administra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33480" indent="-476280">
              <a:lnSpc>
                <a:spcPct val="7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Revelación de prefer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18720">
              <a:lnSpc>
                <a:spcPct val="7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Votación: programas (sin referencia a costo!) y representa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33480" indent="-476280">
              <a:lnSpc>
                <a:spcPct val="7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cisiones finales:</a:t>
            </a:r>
            <a:r>
              <a:rPr b="0" lang="es-ES" sz="2400" spc="-1" strike="noStrike">
                <a:solidFill>
                  <a:srgbClr val="ff9966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l aprobar presupue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18720">
              <a:lnSpc>
                <a:spcPct val="6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 través de representa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18720">
              <a:lnSpc>
                <a:spcPct val="6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 una sola ve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18720">
              <a:lnSpc>
                <a:spcPct val="6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ara todos los bienes públ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18720">
              <a:lnSpc>
                <a:spcPct val="6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l menos por un a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943760" cy="99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400" spc="-1" strike="noStrike">
                <a:solidFill>
                  <a:srgbClr val="ffffff"/>
                </a:solidFill>
                <a:latin typeface="Times New Roman"/>
              </a:rPr>
              <a:t>Dos Tipos de Asignació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62828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De las tres funciones económicas fundamentales (estabilidad, redistribución, asignación) sólo es recomendable descentralizar la de asignación (Oates, Musgrav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Pero al aprobar presupuestos se define sobre dos tipos de asign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66"/>
                </a:solidFill>
                <a:latin typeface="Times New Roman"/>
              </a:rPr>
              <a:t>Asignación 1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BO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ovisión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: qué, cuánto </a:t>
            </a:r>
            <a:r>
              <a:rPr b="0" lang="es-BO" sz="2400" spc="-1" strike="noStrike">
                <a:solidFill>
                  <a:srgbClr val="ffff66"/>
                </a:solidFill>
                <a:latin typeface="Times New Roman"/>
              </a:rPr>
              <a:t>y con qué parte del ingreso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 ciudadano prove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66"/>
                </a:solidFill>
                <a:latin typeface="Times New Roman"/>
              </a:rPr>
              <a:t>Asignación 2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BO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oducción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: con qué combinación de factores e insumos producir lo que se va a proveer (incide en “con qué parte del ingreso proveer”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Problemas de Eficienci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20720" y="1412640"/>
            <a:ext cx="8099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ff"/>
                </a:solidFill>
                <a:latin typeface="Times New Roman"/>
              </a:rPr>
              <a:t>Ineficiencia asignativ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: Diferencia entre lo que se provee y las preferencias ciudadanas (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eneficio/costo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). Caus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as preferencias individuales son diferentes (y se trata de múltiples bienes y por períodos de tiempo!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Predominio de la mayoría (a pesar de representación plural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Políticos y administrativos tienen preferencias propia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Al no haber exclusión, “polizontes”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ff99"/>
                </a:solidFill>
                <a:latin typeface="Times New Roman"/>
              </a:rPr>
              <a:t>Ineficiencia técnic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. Diferencia entre costo efectivo y costo mínimo en asignación 2 político-administrativ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Causa: ausencia de estímulo económico para minimizar cost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15920" y="380880"/>
            <a:ext cx="75945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Problemas Adicional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8720" y="1628280"/>
            <a:ext cx="81360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rrup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1562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</a:rPr>
              <a:t>Administrativa: coimas </a:t>
            </a:r>
            <a:r>
              <a:rPr b="0" lang="es-ES_tradnl" sz="25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500" spc="-1" strike="noStrike">
                <a:solidFill>
                  <a:srgbClr val="ffffff"/>
                </a:solidFill>
                <a:latin typeface="Times New Roman"/>
              </a:rPr>
              <a:t> mayor ineficiencia técnic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62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</a:rPr>
              <a:t>Política: “comisiones” clientelismo </a:t>
            </a:r>
            <a:r>
              <a:rPr b="0" lang="es-ES_tradnl" sz="25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500" spc="-1" strike="noStrike">
                <a:solidFill>
                  <a:srgbClr val="ffffff"/>
                </a:solidFill>
                <a:latin typeface="Times New Roman"/>
              </a:rPr>
              <a:t> caso extremo de  ineficiencia asignativ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entralismo: incluso sin corrupción,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cuanto más centralizadas las decisiones sobre  provi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Times New Roman"/>
              </a:rPr>
              <a:t>Más agregada la demand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Times New Roman"/>
              </a:rPr>
              <a:t>Más complejos los procesos de asignación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Times New Roman"/>
              </a:rPr>
              <a:t>Mayor costo administrativo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Times New Roman"/>
              </a:rPr>
              <a:t>Más difíciles de controlar, más riesgo de corrupción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80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La Descentralización como Solució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8532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lnSpc>
                <a:spcPct val="80000"/>
              </a:lnSpc>
              <a:spcBef>
                <a:spcPts val="326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 u="sng">
                <a:solidFill>
                  <a:srgbClr val="ffffff"/>
                </a:solidFill>
                <a:uFillTx/>
                <a:latin typeface="Times New Roman"/>
              </a:rPr>
              <a:t>Frente a ineficiencia asignativa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6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_tradnl" sz="2600" spc="-1" strike="noStrike">
                <a:solidFill>
                  <a:srgbClr val="ff9966"/>
                </a:solidFill>
                <a:latin typeface="Times New Roman"/>
              </a:rPr>
              <a:t>Descentralización Política</a:t>
            </a:r>
            <a:r>
              <a:rPr b="1" lang="es-ES_tradnl" sz="26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transferencia de decisiones políticas sobre provisión (y producción) a </a:t>
            </a:r>
            <a:r>
              <a:rPr b="1" lang="es-ES_tradnl" sz="2600" spc="-1" strike="noStrike">
                <a:solidFill>
                  <a:srgbClr val="ff9966"/>
                </a:solidFill>
                <a:latin typeface="Times New Roman"/>
              </a:rPr>
              <a:t>procesos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 democráticos subnacion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808200" indent="-297000">
              <a:lnSpc>
                <a:spcPct val="80000"/>
              </a:lnSpc>
              <a:spcBef>
                <a:spcPts val="3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ejor adecuación de la provisión a 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demandas diferenciad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territorial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8200" indent="-297000">
              <a:lnSpc>
                <a:spcPct val="80000"/>
              </a:lnSpc>
              <a:spcBef>
                <a:spcPts val="3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rente a polizontes: mayor disposición a pa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8200" indent="-297000">
              <a:lnSpc>
                <a:spcPct val="80000"/>
              </a:lnSpc>
              <a:spcBef>
                <a:spcPts val="3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Frente a corrupción: mayor control so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6720" indent="-396720">
              <a:lnSpc>
                <a:spcPct val="80000"/>
              </a:lnSpc>
              <a:spcBef>
                <a:spcPts val="326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 u="sng">
                <a:solidFill>
                  <a:srgbClr val="ffffff"/>
                </a:solidFill>
                <a:uFillTx/>
                <a:latin typeface="Times New Roman"/>
              </a:rPr>
              <a:t>Frente a ineficiencia productiva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6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cc33"/>
                </a:solidFill>
                <a:latin typeface="Times New Roman"/>
              </a:rPr>
              <a:t>	</a:t>
            </a:r>
            <a:r>
              <a:rPr b="1" lang="es-ES_tradnl" sz="2600" spc="-1" strike="noStrike">
                <a:solidFill>
                  <a:srgbClr val="66ff33"/>
                </a:solidFill>
                <a:latin typeface="Times New Roman"/>
              </a:rPr>
              <a:t>Descentralización Económica: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 transferencia de decisiones </a:t>
            </a:r>
            <a:r>
              <a:rPr b="1" lang="es-ES_tradnl" sz="2600" spc="-1" strike="noStrike">
                <a:solidFill>
                  <a:srgbClr val="66ff33"/>
                </a:solidFill>
                <a:latin typeface="Times New Roman"/>
              </a:rPr>
              <a:t>sobre cómo producir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 desde procesos político – administrativos hacia mecanismos de mercad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808200" indent="-297000">
              <a:lnSpc>
                <a:spcPct val="80000"/>
              </a:lnSpc>
              <a:spcBef>
                <a:spcPts val="3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enores costos si se puede garantiza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81160" indent="-2286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pet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81160" indent="-2286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qu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457200"/>
            <a:ext cx="85327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66"/>
                </a:solidFill>
                <a:latin typeface="Times New Roman"/>
              </a:rPr>
              <a:t>Descentralización Política</a:t>
            </a:r>
            <a:br>
              <a:rPr sz="3200"/>
            </a:b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Condiciones de Eficiencia y Equida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63640" y="2063520"/>
            <a:ext cx="6553440" cy="388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diciones de eficie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ejor adecuación a preferencias geográficamente diferenci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Beneficios superiores a economías de escala por centr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diciones de equidad: sistemas de ecualización territorial y social (transferencias: territoriales y socia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2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20:28:21Z</dcterms:created>
  <dc:creator>I.Finot</dc:creator>
  <dc:description/>
  <dc:language>en-US</dc:language>
  <cp:lastModifiedBy>JMFINOT</cp:lastModifiedBy>
  <dcterms:modified xsi:type="dcterms:W3CDTF">2005-10-07T15:16:12Z</dcterms:modified>
  <cp:revision>97</cp:revision>
  <dc:subject/>
  <dc:title>Descentralización Fiscal y Financiamiento del Desarrollo Local/Regional</dc:title>
</cp:coreProperties>
</file>