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2F380-26D5-480B-B6D7-9C0BA448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27AC-1ABE-4416-AA0C-784D5508A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A3042-B8B4-4E1A-8FF6-3564F4231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13BC9-CF80-437A-BFA7-621BA8969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147D6-651D-4568-B328-E9E6B7B57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92AEA-BE9C-4340-843A-340BFE280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93176-8AF1-469A-85A8-03A5D4DC8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2E7DD-3736-4CA7-AB24-ED5385BB6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D51D4-A0E4-42E9-8E37-138133C8A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A6B45-64F3-4922-BC9A-B803E208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39D0-D149-4645-8331-162FC1374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2443-C455-478A-B764-0DD8710E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88131-88BD-4641-8AF9-4CDCF6F97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8529B-253F-4119-9E9E-08480DACC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56528-5A91-4135-BAC1-975A40B84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F3EA5-2D7D-452F-A3D8-8ED0D0760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657EA-D6D2-450C-A14C-40BE6ADE9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3D1B-D254-4431-928B-29475D64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CDC0-F7FC-4DA5-A9D7-9331E460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F8068-C387-4D8C-B552-E68E8DFA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D6686-AA01-45D9-B11D-1F854F152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30EB-8A5C-47F3-85E8-7AD395DE5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38CAC-8ED0-4F56-86C0-FB123799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8AE6-36D0-46CD-BFDE-B59F93092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A38D-18A5-47AD-A83B-C4EE404CFAD6}"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55EE-4F6B-499F-BE89-CC44E729AD6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xpositor:</a:t>
            </a:r>
            <a:endParaRPr b="0" lang="en-US" sz="3200" spc="-1" strike="noStrike">
              <a:solidFill>
                <a:srgbClr val="40458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Mtro. Juan José García Espinos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0000"/>
          </a:bodyPr>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ercera idea: </a:t>
            </a:r>
            <a:r>
              <a:rPr b="0" i="1" lang="es-ES" sz="2800" spc="-1" strike="noStrike">
                <a:solidFill>
                  <a:srgbClr val="40458c"/>
                </a:solidFill>
                <a:latin typeface="Tahoma"/>
              </a:rPr>
              <a:t>La aprobación privada de los espacios públicos es la condición clave para reconocer una conducta ética contraria a los valores básicos de la democracia. Este es el principio de la corrupción</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apropiación puede adoptar formas diversas. </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más conocida es la búsqueda de la riqueza individual mediante el usufructo ilegitimo de recursos públicos. Pero no es la ún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ejar de cumplir con los objetivos planteados por la democracia, para beneficio político de una persona o de un grupo, es otra forma típica de la apropiación privada del espacio público. Esta es materias del enfoque de políticas públicas</a:t>
            </a:r>
            <a:endParaRPr b="0" lang="en-US" sz="2800" spc="-1" strike="noStrike">
              <a:solidFill>
                <a:srgbClr val="40458c"/>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Otra forma de apropiación privada de los espacios públicos es la privatización patrimonialista del emple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s consecuencias de esas distintas formas de apropiación privada de los espacios públicos se han estudiado desde diversos enfoques:</a:t>
            </a:r>
            <a:endParaRPr b="0" lang="en-US" sz="2800" spc="-1" strike="noStrike">
              <a:solidFill>
                <a:srgbClr val="40458c"/>
              </a:solidFill>
              <a:latin typeface="Tahoma"/>
            </a:endParaRPr>
          </a:p>
          <a:p>
            <a:pPr marL="329040" indent="-32904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político</a:t>
            </a:r>
            <a:endParaRPr b="0" lang="en-US" sz="2800" spc="-1" strike="noStrike">
              <a:solidFill>
                <a:srgbClr val="40458c"/>
              </a:solidFill>
              <a:latin typeface="Tahoma"/>
            </a:endParaRPr>
          </a:p>
          <a:p>
            <a:pPr marL="329040" indent="-32904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rendición de cuentas</a:t>
            </a:r>
            <a:endParaRPr b="0" lang="en-US" sz="2800" spc="-1" strike="noStrike">
              <a:solidFill>
                <a:srgbClr val="40458c"/>
              </a:solidFill>
              <a:latin typeface="Tahoma"/>
            </a:endParaRPr>
          </a:p>
          <a:p>
            <a:pPr marL="329040" indent="-32904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administración pública</a:t>
            </a:r>
            <a:endParaRPr b="0" lang="en-US" sz="2800" spc="-1" strike="noStrike">
              <a:solidFill>
                <a:srgbClr val="40458c"/>
              </a:solidFill>
              <a:latin typeface="Tahoma"/>
            </a:endParaRPr>
          </a:p>
          <a:p>
            <a:pPr marL="329040" indent="-329040" algn="just">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política pública</a:t>
            </a:r>
            <a:endParaRPr b="0" lang="en-US" sz="2800" spc="-1" strike="noStrike">
              <a:solidFill>
                <a:srgbClr val="40458c"/>
              </a:solidFill>
              <a:latin typeface="Tahoma"/>
            </a:endParaRPr>
          </a:p>
          <a:p>
            <a:pPr marL="329040" indent="-329040" algn="just">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t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9" name="PlaceHolder 2"/>
          <p:cNvSpPr>
            <a:spLocks noGrp="1"/>
          </p:cNvSpPr>
          <p:nvPr>
            <p:ph/>
          </p:nvPr>
        </p:nvSpPr>
        <p:spPr>
          <a:xfrm>
            <a:off x="684000" y="1125000"/>
            <a:ext cx="7926120" cy="5472360"/>
          </a:xfrm>
          <a:prstGeom prst="rect">
            <a:avLst/>
          </a:prstGeom>
          <a:noFill/>
          <a:ln w="0">
            <a:noFill/>
          </a:ln>
        </p:spPr>
        <p:txBody>
          <a:bodyPr lIns="90000" rIns="90000" tIns="46800" bIns="46800" anchor="t">
            <a:normAutofit fontScale="97000"/>
          </a:bodyPr>
          <a:p>
            <a:pPr marL="332640" indent="-33264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político (régimen político): Toda apropiación privada de los espacios de distribución y ejercicio del poder describe los principios de un régimen no democrático</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la transparencia (rendición de cuentas): Todo ocultamiento conduce a la discrecionalidad y a la ausencia de responsabilidad</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administración pública: El uso de los recursos para obtener privilegios privados se traduce en patrimonialismo y en sistema de botín (spoyl system)</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política pública: esa apropiación entendida como una pugna entre intereses encontrados, constituye el desafío más importante de la implementación</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Los valores en un régimen democrát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apenas comienza: el primer paso de la transición</a:t>
            </a: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es una manera de procesar la vida pública</a:t>
            </a:r>
            <a:endParaRPr b="0" lang="en-US" sz="2800" spc="-1" strike="noStrike">
              <a:solidFill>
                <a:srgbClr val="40458c"/>
              </a:solidFill>
              <a:latin typeface="Tahoma"/>
            </a:endParaRPr>
          </a:p>
          <a:p>
            <a:pPr marL="343080" indent="-34308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 su proceso de construcción está implicada la responsabilidad compartida, la tolerancia y la solidaridad. Sólo así se fortalecen las institucion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alude al comportamiento humano. En ese sentido, se desdobla en valores y en virtudes: algo colectivo y algo individual</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supone al menos la elección entre dos opciones encontradas: lo que es bueno y lo que es malo</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elección supone, a su vez, la existencia de un conjunto de valores admitidos y una decisión individual. La ética puede estudiarse desde ambos lados</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No existe una sola ética: hay tantas variantes como comunidades identificadas por un conjunto de valores, e individuos que actúan </a:t>
            </a:r>
            <a:r>
              <a:rPr b="0" i="1" lang="es-ES" sz="2800" spc="-1" strike="noStrike">
                <a:solidFill>
                  <a:srgbClr val="40458c"/>
                </a:solidFill>
                <a:latin typeface="Tahoma"/>
              </a:rPr>
              <a:t>virtuosamente</a:t>
            </a:r>
            <a:r>
              <a:rPr b="0" lang="es-ES" sz="2800" spc="-1" strike="noStrike">
                <a:solidFill>
                  <a:srgbClr val="40458c"/>
                </a:solidFill>
                <a:latin typeface="Tahoma"/>
              </a:rPr>
              <a:t> en función de esos valore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ejemplo: hay una ética islámica; hay una ética del comunismo(¿hubo? China sigue ahí); hay una ética del hinduismo</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hay una ética de la democracia occidental? Si la ética alude a los valores, ¿cuáles son los valor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l primer problema es, por lo tanto, una definición aceptable de los valores éticos del sistema democrático</a:t>
            </a:r>
            <a:endParaRPr b="0" lang="en-US" sz="2500" spc="-1" strike="noStrike">
              <a:solidFill>
                <a:srgbClr val="40458c"/>
              </a:solidFill>
              <a:latin typeface="Tahoma"/>
            </a:endParaRPr>
          </a:p>
          <a:p>
            <a:pPr marL="318960" indent="-31896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Cuáles son esos valores? Entre otros:</a:t>
            </a:r>
            <a:endParaRPr b="0" lang="en-US" sz="25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t>
            </a:r>
            <a:r>
              <a:rPr b="0" i="1" lang="es-ES" sz="2400" spc="-1" strike="noStrike">
                <a:solidFill>
                  <a:srgbClr val="40458c"/>
                </a:solidFill>
                <a:latin typeface="Tahoma"/>
              </a:rPr>
              <a:t>libertad </a:t>
            </a:r>
            <a:r>
              <a:rPr b="0" lang="es-ES" sz="2400" spc="-1" strike="noStrike">
                <a:solidFill>
                  <a:srgbClr val="40458c"/>
                </a:solidFill>
                <a:latin typeface="Tahoma"/>
              </a:rPr>
              <a:t>individual</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jercida con los límites propios de la </a:t>
            </a:r>
            <a:r>
              <a:rPr b="0" i="1" lang="es-ES" sz="2400" spc="-1" strike="noStrike">
                <a:solidFill>
                  <a:srgbClr val="40458c"/>
                </a:solidFill>
                <a:latin typeface="Tahoma"/>
              </a:rPr>
              <a:t>legalidad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un ambiente público bien</a:t>
            </a:r>
            <a:r>
              <a:rPr b="0" i="1" lang="es-ES" sz="2400" spc="-1" strike="noStrike">
                <a:solidFill>
                  <a:srgbClr val="40458c"/>
                </a:solidFill>
                <a:latin typeface="Tahoma"/>
              </a:rPr>
              <a:t> informado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quepa la </a:t>
            </a:r>
            <a:r>
              <a:rPr b="0" i="1" lang="es-ES" sz="2400" spc="-1" strike="noStrike">
                <a:solidFill>
                  <a:srgbClr val="40458c"/>
                </a:solidFill>
                <a:latin typeface="Tahoma"/>
              </a:rPr>
              <a:t>pluralidad </a:t>
            </a:r>
            <a:r>
              <a:rPr b="0" lang="es-ES" sz="2400" spc="-1" strike="noStrike">
                <a:solidFill>
                  <a:srgbClr val="40458c"/>
                </a:solidFill>
                <a:latin typeface="Tahoma"/>
              </a:rPr>
              <a:t>de opciones y elecciones</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todos los individuos puedan efectivamente ejercer su libertad  para</a:t>
            </a:r>
            <a:r>
              <a:rPr b="0" i="1" lang="es-ES" sz="2400" spc="-1" strike="noStrike">
                <a:solidFill>
                  <a:srgbClr val="40458c"/>
                </a:solidFill>
                <a:latin typeface="Tahoma"/>
              </a:rPr>
              <a:t> asociarse, votar, ser votad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luralidad</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ublicidad</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egalidad</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Inclusió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olerancia</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éstos los valores (mínimos) de una ética democrát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660066"/>
                </a:solidFill>
                <a:latin typeface="Tahoma"/>
              </a:rPr>
              <a:t>“</a:t>
            </a:r>
            <a:r>
              <a:rPr b="0" i="1" lang="es-ES" sz="4400" spc="-1" strike="noStrike">
                <a:solidFill>
                  <a:srgbClr val="660066"/>
                </a:solidFill>
                <a:latin typeface="Tahoma"/>
              </a:rPr>
              <a:t>La democratización de la administración pública y los servicios civiles de carrera”</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 pluralidad, publicidad, legalidad, inclusión y tolerancia. ¿Pueden aislarse unidades de medida sobre conceptos tan genéricos? ¿Cuál sería su diferencia específica?</a:t>
            </a:r>
            <a:endParaRPr b="0" lang="en-US" sz="2800" spc="-1" strike="noStrike">
              <a:solidFill>
                <a:srgbClr val="40458c"/>
              </a:solidFill>
              <a:latin typeface="Tahoma"/>
            </a:endParaRPr>
          </a:p>
          <a:p>
            <a:pPr marL="318960" indent="-31896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otro lado ¿Qué se quiere medir? ¿La aceptación de esos valores en la sociedad? ¿La forma en que cumplen por las instituciones de la democracia? ¿La forma en que los individuos los convierten en virtudes cotidiana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libertad política para los latinoamericanos, frente a otros valores éticos de referenci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garantía de la libertad como objetivo propio de las instituciones políticas de Latinoaméric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libres son en realidad las relaciones y las prácticas sociales de estos país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construcción de unidades de medida, en cualquiera de las opciones mencionadas (o de otras), debe convertirse en información realmente pertinent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pertinencia de un dato está  en función de la clave de lectura: del propósito racional que se persigu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Se requiere mostrar la ausencia de valores éticos de referencia? ¿El apego de las instituciones a esos valores democráticos? ¿La adopción de esos valores éticos en las relaciones cotidianas entre los latinoamericanos?</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la actualidad hay índices e indicadores de diversa índole. Por ejemp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transparencia mexicana (Federico Reyes Heroles,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corrupción (Antonio Azuela: IISUNAM)</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orientación del gasto (Arturo del Castil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recientes mediciones sobre acceso a la información (Sergio López Ayllón,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capital social (PNUD)</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valores democráticos (IFE, Secretaría de Gobernación, Latinobarómetro, PNUD, UNAM, Banamex)</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tcéter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os datos están construidos sobre asuntos puntuales específicos. Comparten la vocación de la denuncia: alertan sobre los defecto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 construyen sobre información pública y sobre encuest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antienen una posición ética bien definida: el cumplimiento de la Ley; valores asumidos previamente. O ambas cos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metodologías diversas, con fuentes diferentes y periodos de valides distint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finir qué se entenderá por valores éticos asociados a la democra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definición mínima de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el ámbito en el que se confrontarán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metodologí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la importancia de la información que se obtendrá</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2141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Diez contravalores del servicio públ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5" name="PlaceHolder 2"/>
          <p:cNvSpPr>
            <a:spLocks noGrp="1"/>
          </p:cNvSpPr>
          <p:nvPr>
            <p:ph/>
          </p:nvPr>
        </p:nvSpPr>
        <p:spPr>
          <a:xfrm>
            <a:off x="838080" y="1447920"/>
            <a:ext cx="7772400" cy="4114800"/>
          </a:xfrm>
          <a:prstGeom prst="rect">
            <a:avLst/>
          </a:prstGeom>
          <a:noFill/>
          <a:ln w="0">
            <a:noFill/>
          </a:ln>
        </p:spPr>
        <p:txBody>
          <a:bodyPr lIns="90000" rIns="90000" tIns="46800" bIns="46800" anchor="t">
            <a:normAutofit fontScale="82000"/>
          </a:bodyPr>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lealtad personal como el valor de cambio más importante para obtener, permanecer y ascender en la carrera del servicio público</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desplazamiento de los fines institucionales formalmente aceptados, hacia los fines de las personas y los grupos que ocupan los cargos</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doble lectura acerca de los propósitos del servicio público; usar los medios disponibles para obtener más poder: y aludir al cumplimiento de los propósitos formales de la institución</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acceso a los puestos públicos en función de las credenciales políticas y personales de los candidatos y no por criterios de idoneidad</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valuación sobre el ejercicio del cargo, en función del compromiso personal de quien lo ocupa y de su capacidad para “ponerse la camiseta” del grupo, y no sobre la base de resultados institucionale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7" name="PlaceHolder 2"/>
          <p:cNvSpPr>
            <a:spLocks noGrp="1"/>
          </p:cNvSpPr>
          <p:nvPr>
            <p:ph/>
          </p:nvPr>
        </p:nvSpPr>
        <p:spPr>
          <a:xfrm>
            <a:off x="838080" y="1557360"/>
            <a:ext cx="7772400" cy="4114800"/>
          </a:xfrm>
          <a:prstGeom prst="rect">
            <a:avLst/>
          </a:prstGeom>
          <a:noFill/>
          <a:ln w="0">
            <a:noFill/>
          </a:ln>
        </p:spPr>
        <p:txBody>
          <a:bodyPr lIns="90000" rIns="90000" tIns="46800" bIns="46800" anchor="t">
            <a:normAutofit fontScale="81000"/>
          </a:bodyPr>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tiempo invertido en allegarse de información política y burocrática sobre las posiciones del grupo, y no en función de la productividad de la institu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érdida del valor de la experiencia acumulada, ante los cambios de direc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esarrollo profesional vinculado con la creencia de los mandos superiores de la organización. La construcción de historias paralela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de catálogos de puestos y descripciones de perfiles </a:t>
            </a:r>
            <a:r>
              <a:rPr b="0" i="1" lang="es-ES" sz="2400" spc="-1" strike="noStrike">
                <a:solidFill>
                  <a:srgbClr val="40458c"/>
                </a:solidFill>
                <a:latin typeface="Tahoma"/>
              </a:rPr>
              <a:t>ad hoc</a:t>
            </a:r>
            <a:r>
              <a:rPr b="0" lang="es-ES" sz="2400" spc="-1" strike="noStrike">
                <a:solidFill>
                  <a:srgbClr val="40458c"/>
                </a:solidFill>
                <a:latin typeface="Tahoma"/>
              </a:rPr>
              <a:t> para quien los ocupa, y no en función de los fines institucionale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evaluación diseñada (o modificada) </a:t>
            </a:r>
            <a:r>
              <a:rPr b="0" i="1" lang="es-ES" sz="2400" spc="-1" strike="noStrike">
                <a:solidFill>
                  <a:srgbClr val="40458c"/>
                </a:solidFill>
                <a:latin typeface="Tahoma"/>
              </a:rPr>
              <a:t>ex post </a:t>
            </a:r>
            <a:r>
              <a:rPr b="0" lang="es-ES" sz="2400" spc="-1" strike="noStrike">
                <a:solidFill>
                  <a:srgbClr val="40458c"/>
                </a:solidFill>
                <a:latin typeface="Tahoma"/>
              </a:rPr>
              <a:t>por preferencias individuales, y no en función de los resultados realmente obtenidos por la institu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2361960"/>
            <a:ext cx="6019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Context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Ética en el Servicio Público</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n esta presentación veremos:</a:t>
            </a:r>
            <a:endParaRPr b="0" lang="en-US" sz="3200" spc="-1" strike="noStrike">
              <a:solidFill>
                <a:srgbClr val="40458c"/>
              </a:solidFill>
              <a:latin typeface="Tahom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Tres ideas básicas para abordar la ética en el servicio públ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El dilema de la selección de valores en un régimen democrát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os “contra valores” del servicio Profesional de carrer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Primer idea: </a:t>
            </a:r>
            <a:r>
              <a:rPr b="0" i="1" lang="es-ES" sz="2500" spc="-1" strike="noStrike">
                <a:solidFill>
                  <a:srgbClr val="40458c"/>
                </a:solidFill>
                <a:latin typeface="Tahoma"/>
              </a:rPr>
              <a:t>Los valores son generales, las virtudes individ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una contribución social, histórica y las virtudes se adoptan individualmente y llevan los valores al ámbito de lo concreto</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siempre una referencia, se concretan a través de reglas (formales e informales) pero también se realizan a través de conductas punt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 materia de ética, sin embargo,  no todo puede ser resuelto con reglas: tras ellas, hay siempre decisiones individuales y valores comunes de referencia</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egunda idea: </a:t>
            </a:r>
            <a:r>
              <a:rPr b="0" i="1" lang="es-ES" sz="2500" spc="-1" strike="noStrike">
                <a:solidFill>
                  <a:srgbClr val="40458c"/>
                </a:solidFill>
                <a:latin typeface="Tahoma"/>
              </a:rPr>
              <a:t>La distinción entre lo público y lo privad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sa distinción es parte del proceso político que se inició con la Ilustración y el Liberalism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a lenta construcción del Estado de derecho se ha traducido en la salvaguarda, cada más amplia, de las libertades individuale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También produjo una distinción teórica adicional entre los valores públicos y las virtudes privada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in embargo, irónicamente, en la práctica generó una confusión entre espacio público y ámbito privado</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La separación entre lo público y lo privado originó dos vertientes de la concepción ética</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ntecedente de esa separación esta entre Maquiavelo y su mejor desarrollo en Weber: la ética de la responsabilidad, frente a la ética de la convi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la confusión práctica de espacio público y ámbito privado condujo a comportamientos contrarios a la doble concepción ética mencionada (responsabilidad, convicción)</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mo veremos más adelante, esta confusión da origen a la apropiación privada del espaci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virtud más apreciada en los gobernantes ha sido la pruden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uando los súbditos se convierten en ciudadanos, la prudencia deja de ser una virtud exclusiva del gobernante, para convertirse en un compromiso de servicio público</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de la responsabilidad se define en función de los objetivos planteados mediante procedimientos democrátic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2:23:16Z</dcterms:created>
  <dc:creator>Mónica Andrade</dc:creator>
  <dc:description/>
  <dc:language>en-US</dc:language>
  <cp:lastModifiedBy>Rafael A. Castillo Zugasti</cp:lastModifiedBy>
  <dcterms:modified xsi:type="dcterms:W3CDTF">2005-10-14T14:31:32Z</dcterms:modified>
  <cp:revision>22</cp:revision>
  <dc:subject/>
  <dc:title>Ética en el Servicio Público</dc:title>
</cp:coreProperties>
</file>