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0B-EB3F-435A-B92F-E0936A20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748-C679-4101-A2A6-11B6294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FB2-9F9D-43C9-B773-6C1EE5DD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C15-AE47-4F5D-8C33-B555BDEB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95F-E7EB-4A32-9E40-311F21C1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DF9-6C7A-474C-942F-F816446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BB2-C90B-400F-990B-F63810EA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B3F-DF68-45C0-8466-C02BC0BF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F0B-7183-4A24-95D1-8068D234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F3B-F69F-4E95-BBC2-0AACB70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F96-2911-4984-A150-DC16406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30C-1C5C-4435-A2A5-ED9A45D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180B-3111-4646-929F-DFBCADCA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F9-DD08-43CC-B62D-006C03D7FC7F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Mujica y Cia.</cp:lastModifiedBy>
  <dcterms:modified xsi:type="dcterms:W3CDTF">2005-11-04T14:09:49Z</dcterms:modified>
  <cp:revision>40</cp:revision>
  <dc:subject/>
  <dc:title>Presentación de PowerPoint</dc:title>
</cp:coreProperties>
</file>