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B79-797B-4E8E-AB70-44CC6ABB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74F-D32C-4036-AF73-E3C82B7A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039-BE8F-4DEA-AA55-B65794D0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834-59B7-4542-89CE-206C63C7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8BE3-439B-4F1F-88E2-41F5CA22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DF6C-929F-4BF7-B335-77A12D41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B172-9D4B-4599-A50A-29EFE19E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F9C4-86B0-41C7-8E17-00D3F686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D734-487F-459B-9162-36895392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597F-2AA4-46E5-B2DF-CF3ADA2D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8F25-B9F7-4365-96EC-3DC0463D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7CA-DC1A-4984-8E53-DEBAF745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D312-78F1-4657-B7A2-7115C439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B84B-9A36-4369-ACFE-E430BB0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3610-CB37-4D1A-A31E-E70F4FF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91A3-99CE-428D-8FC0-6A57FF8E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BB48-4598-402B-A1A8-68FE12EB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6A2-4816-4981-B2B3-C3F98C5C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B1B-A0D0-4E1E-B50A-AA1774EA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077-DA3F-4652-A400-9B3752D5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4A3-F137-41D4-A3BE-7D6FEBD3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6BA-385E-4E7A-908F-EEE4B8B2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491-122D-49AA-BD1A-07F3A6B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0A2-3C3F-40EC-95FA-AE3C9A7C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363F-7319-4390-BA58-4EBD9AB1AD4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6E72-F29C-41E2-BD72-E551AFACB68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40:50Z</dcterms:modified>
  <cp:revision>12</cp:revision>
  <dc:subject/>
  <dc:title>La Regulación Ambiental</dc:title>
</cp:coreProperties>
</file>