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38E-9E69-461F-A641-3A0D5171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A9BF-08BE-4CE5-934E-89AE6285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B38-9B17-431F-9B97-ED93D36F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3739-010A-4449-A036-6D720349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2662-2F11-4A61-B3DB-89644910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D969-AA11-4B2A-BF51-431166A1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22C0-7CEF-4A6D-B34A-67144AF2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1777-B495-481D-A099-50F3730C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A08F-E5F4-4348-9C7F-2BB82FA6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48D5-985B-4CA7-8DBF-445E6587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00FE-656D-4D0D-90AF-55ECAAB5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C566-40C0-4EF0-8AE8-96A061D1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DE53-FF26-4360-B861-22826DA5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6A6F-A8AD-48CA-BDE9-9F8C4506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EAFE-8DA9-4A4F-931E-A0B54B42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A7B7-83F9-49E8-838B-C8CC89A9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C7B4-582D-4D09-A772-36A4A658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F0C9-034B-4E53-B016-A83C7497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C790-415A-4375-BA4A-A2F2EEA8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B006-CB72-48BF-A905-D9A09099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A7C0-DA0B-48D4-BFC5-FC25E470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B3B8-6711-46C0-9E85-4BB6DAD6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1715-AE67-43FF-BB87-8FB2A568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FABB-A575-45E3-84B6-844DB3F2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8EBD-61A7-4F9E-8E90-328DFA896D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9D10-8C8B-47E6-8721-B45FAE1D13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UXILIAR 1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OR RIQUELME VAS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1268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roblem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7636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ciona una entidad de SVS y revisa si el capital esta inmuniz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Rent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riz de Varianza – Covarian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riz Inver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ámet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ntabilidad Opt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afolio Opt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7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72720"/>
            <a:ext cx="7772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roblem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3213000"/>
            <a:ext cx="6400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Inversionista les entrega 10.000.000 de Pesos para que lo inviertan en la Bolsa, que acciones tomaría usted para cada acción si quiere obtener la rentabilidad opti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o de Matemáticas Financie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sidio a la invers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Gobierno esta pensando en subsidiar a los agricultores de la VI Región para que realicen una inversión de 5.000 M UF en nuevas tecnologí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estiman que los ingresos anuales crecerán a una tasa del 5% durante 15 años. El primer año esperan recaudar 400 M U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costos de operación son un 25% de los ingr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gobierno entregará el subsidio en 10 cuotas iguales.  De tal forma que la utilidad sea ce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¿Calcular el valor del subsidi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¿Calcular el valor de la cuota anual que el Gobierno entregará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tasa de descuento es del 10% según MIDEPL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1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72360" y="5805360"/>
            <a:ext cx="1079280" cy="719280"/>
          </a:xfrm>
          <a:prstGeom prst="rightArrow">
            <a:avLst>
              <a:gd name="adj1" fmla="val 50000"/>
              <a:gd name="adj2" fmla="val 37513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undial 200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José necesita ahorrar M$ 3.000 para ir en Julio de 2006 al Mundial de Alemania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José recibe un sueldo de M$ 800 Mensu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Mayo 2006 recibe M$ 960 por la devolución de Impuestos.  Los que destinará a su vi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tasa de ahorro es de 3,5% 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¿Qué Fracción de su sueldo necesita ahorrar mensualmen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2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parta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ula quiere invertir en su Depto. las alternativas que le ofrecen distintos bancos son las siguie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¿ Cual es la mejor alternativ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3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566100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258920" y="2852640"/>
          <a:ext cx="6622920" cy="2214720"/>
        </p:xfrm>
        <a:graphic>
          <a:graphicData uri="http://schemas.openxmlformats.org/drawingml/2006/table">
            <a:tbl>
              <a:tblPr/>
              <a:tblGrid>
                <a:gridCol w="2560680"/>
                <a:gridCol w="1355760"/>
                <a:gridCol w="1352520"/>
                <a:gridCol w="1353960"/>
              </a:tblGrid>
              <a:tr h="315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az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añ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añ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añ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Fi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9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5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Variab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9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5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videndo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videndo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os de O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00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0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00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ación de Bo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no a 3 años con cupones de MUF 100 al añ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lor cara de MUF 1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sa de descuento 10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la Duración del Bo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4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ación de Bo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no a 5 años con cupón de 10% 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R es r = 12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el Pre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la Duración y Duración Modific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lo anterior si r baja a 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5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872720"/>
            <a:ext cx="7772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UXILIAR 2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03280" y="342864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OR RIQUELME VAS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mun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tp://www.svs.cl/sitio/html/merc_valores/f_valore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6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21:03:35Z</dcterms:created>
  <dc:creator>mario</dc:creator>
  <dc:description/>
  <dc:language>en-US</dc:language>
  <cp:lastModifiedBy>Ministerio de Obras Publicas</cp:lastModifiedBy>
  <dcterms:modified xsi:type="dcterms:W3CDTF">2005-08-08T23:44:18Z</dcterms:modified>
  <cp:revision>14</cp:revision>
  <dc:subject/>
  <dc:title>AUXILIAR 1</dc:title>
</cp:coreProperties>
</file>