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055D-4F10-4A66-A69A-DEB2AD2C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6C9B-2D87-4D20-B582-AAE905574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6795-EF68-4D28-BEFE-2A1B2218D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297CF-858A-41EB-B624-986070EFDB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D9882-8355-43EA-88BB-60291B63B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715C9-7B0B-4DE3-9C2A-AC5CB0B96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36515-4C89-48E3-A06E-F48A88940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0B53E-D469-4805-8A5C-3F9AD043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73E3A-6514-45A9-9062-538353D24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4C2F-3567-4C16-97AC-CD0F65BD0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1487C9-2061-4C9B-B9B3-2ECEC995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AF6E8-8E9A-489D-9FA9-31F0F5803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51E2-B15C-4209-AA39-672D3E440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A50D1-1920-437D-9B26-BC18765DD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496B0-9FBF-45FF-A077-2E09DAB6A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3E7F0-DA61-443C-ABC3-D4AFA70737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28BCD2-D9AC-4963-8A0F-A9A5427911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495FF-49F4-44FB-AF2B-16F7FCC53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E4BAA-1AD2-459F-B452-83A164DC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213F-1F6C-4FBE-9CA8-4D72964D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45D69-DAA2-4660-BC79-AA9D37BC8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E1FD-0B95-461F-B998-A9BA2E743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AC9E-A5D5-4052-B1AF-DDE761FC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39C9-3E82-44BD-AF16-114C60330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AD301-71D1-4E3E-93A8-06A9C64C1F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ABFC2-D6BE-49DC-9227-80C856A5A03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ux6.xls" TargetMode="External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aux6.xls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AUXILIAR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GOR RIQUELME VASQUE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olatilid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66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Recursiv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666699"/>
              </a:buClr>
              <a:buSzPct val="75000"/>
              <a:buFont typeface="Arial"/>
              <a:buAutoNum type="alphaL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Tradi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2b2b2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ff"/>
                </a:solidFill>
                <a:latin typeface="Arial"/>
              </a:rPr>
              <a:t>Valor en Riesgo (VaR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94920" y="980640"/>
            <a:ext cx="79218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b2b2b2"/>
                </a:solidFill>
                <a:latin typeface="Arial"/>
              </a:rPr>
              <a:t>Volatilidades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8080" y="1676520"/>
            <a:ext cx="7543800" cy="594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curs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iskmetric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Pondera de mejor forma el pasado recient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Tradicion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Ejempl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3276720" y="3733920"/>
                <a:ext cx="187956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4495680" y="3352680"/>
                <a:ext cx="119376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T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den>
                        </m:f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t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e>
                        </m:nary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3200400" y="1828800"/>
                <a:ext cx="23623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t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λσ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−</m:t>
                        </m:r>
                        <m:r>
                          <m:t xml:space="preserve">λ</m:t>
                        </m:r>
                        <m:r>
                          <m:t xml:space="preserve">)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t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438280" y="2514600"/>
                <a:ext cx="76212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94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lor en Riesg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VaR no es un metodo de estimacón del riesgo, es una estimación cuantitativa del Riesgo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Para el caso accionario el VaR es: “La Peor Pérdida esperada en el valor de una acción , en un intervalo de tiempo determinado, bajo condiciones normales de mercado, ante un nivel de confianza dado”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El Proceso consiste básicamente en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Identificar variables que generan Ries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Estimación de la distribución de probabilidad de estas variab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Se estiman las relaciones estadisticas entre las Variables de Riesg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- Calculo del Va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lor en Riesg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Indiv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Margi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VaR Incremen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3809880" y="1905120"/>
                <a:ext cx="33861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Vσ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z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809880" y="2819520"/>
                <a:ext cx="4897440" cy="68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otal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Va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3733920" y="4038480"/>
                <a:ext cx="4012920" cy="100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i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VaR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</m:sSub>
                          </m:e>
                        </m:nary>
                        <m:sSub>
                          <m:e>
                            <m:r>
                              <m:t xml:space="preserve">ρ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VaRTotal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3786120" y="5861160"/>
                <a:ext cx="37562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ncr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gi</m:t>
                        </m:r>
                      </m:sub>
                    </m:sSub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Va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Valor en Riesgo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Usted compró 250 Acciones de Endesa, Enersis,DyS y SQM B, se le pide determinar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Individ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To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Margi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SzPct val="75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VaR Increment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 u="sng">
                <a:solidFill>
                  <a:srgbClr val="ffffcc"/>
                </a:solidFill>
                <a:uFillTx/>
                <a:latin typeface="Arial"/>
                <a:hlinkClick r:id="rId1"/>
              </a:rPr>
              <a:t>Solu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02T21:03:35Z</dcterms:created>
  <dc:creator>mario</dc:creator>
  <dc:description/>
  <dc:language>en-US</dc:language>
  <cp:lastModifiedBy> Igor Riquelme Vásquez</cp:lastModifiedBy>
  <dcterms:modified xsi:type="dcterms:W3CDTF">2005-10-25T05:33:57Z</dcterms:modified>
  <cp:revision>30</cp:revision>
  <dc:subject/>
  <dc:title>AUXILIAR 1</dc:title>
</cp:coreProperties>
</file>