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6A4-8576-4709-AA44-9182A61D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656-6F3C-485E-AF5A-E025E12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320-1DC1-4B97-9A0F-F3785005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8A9-86B0-48BA-8505-FC3E98F1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580-D05B-480E-B59C-F26A1DF8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806-2430-4BE1-88F5-16465401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82B-EDCF-457C-83C1-50418C3E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43A-B077-4A01-8BB0-5FF6E7D1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2CC-8A27-43B3-934F-CDD2F26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3FB-83CB-4C17-AB80-E87B55A5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BEA-139C-4FC5-B667-153E1A4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BED-4586-4CAB-BD96-F2CB4BB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8EC-22C6-4E9E-ACE5-69D7DFFC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 cambia Tasa fija por el I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8:32Z</dcterms:modified>
  <cp:revision>8</cp:revision>
  <dc:subject/>
  <dc:title>Slide 1</dc:title>
</cp:coreProperties>
</file>