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D9B-CFA5-4714-A755-C3DF092D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8A2-BEF1-444B-A9BF-9219CA74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45A-441F-4506-BE83-97BCC9A4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990-E366-4B89-970F-37A2BC50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84B-68FF-490E-9A40-1763573A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8BD-4C6D-41AF-A881-E073136E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219-1C10-4D16-908D-B1F1F31D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811-E656-44D2-BEC1-3AFC46AE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9F5-ACB9-450D-9F66-636A632C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3AA-65BD-4B42-B77E-84B8AAA9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694-8E55-491F-AC1E-0BE9F5E3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A2D-FCB0-4C9C-91E1-09B1E6C4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06D3-873C-49B0-ACDA-BE62105A5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0000"/>
                </a:solidFill>
                <a:latin typeface="Arial"/>
              </a:rPr>
              <a:t>Presentación IN7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000066"/>
                </a:solidFill>
                <a:uFillTx/>
                <a:latin typeface="Arial"/>
              </a:rPr>
              <a:t>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Integrantes: Gonzalo Matu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Sebastián M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Javier P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Bancos que corren riesgo de “overnigh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Arbitraje (JP Morg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egocios (ganar spre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Valor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VP=0 en el momento de la estruc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Después de la estructur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Dependerá de la varia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La variable aleatoria es el ICP en el día de la compensación. Del mercado de Swaps, se pueden inferir la estructura del I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Ries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jemplo: Si se tomó la posición de tasa fija, si la TCIP baja, se tendría una pérd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no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197000"/>
            <a:ext cx="8209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on operaciones de cambio de flujos de caja con una contrapa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stineau(*) defin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omo “contrato de cambio de pagamientos periódicos con una contrapar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Que es un Swap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Mecanica del 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Se cambia Tasa fija por el Índice Promedio de Cámara (I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jemplo: Si el Swap tiene un Nocional de $100MM y la tasa fijada en la estructuración es x%, los que pagarían los agentes, suponiendo un siguiente pago en 30 días ser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Quien toma la tasa fija: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100*x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Quien toma el ICP: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100*((ICP</a:t>
            </a:r>
            <a:r>
              <a:rPr b="0" lang="es-CL" sz="10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/ICP</a:t>
            </a:r>
            <a:r>
              <a:rPr b="0" lang="es-CL" sz="1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)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tivo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Busca representar el costo de fondos equivalente de financiar una posición a la tasa overnight, utilizando para esto la Tasa Cámara Interbancaria Promedio informada por el Banco Central de 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ación y Publicación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El Índice de Cámara Promedio será determinado cada día hábil bancario por la Asociación de Bancos e Instituciones Financieras de Chile A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Informado diariamente, antes de las 10:00 horas, a todas las instituciones financieras, a través de SINACO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todología de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Se expresa y publica la TCIP la que es anual compuesta en base 360 días. Para expresar esta tasa en base lineal mensual A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Índice de Cámara Promedio (ICP)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 construirá a partir de la TCIPbase mensual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Matemáticamente, el cálculo se realiza de la siguiente 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CIPbase mensual(i)= ((( 1 + TCIP(i) /100 ) (30 /360) ) - 1) x 10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Don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TCIP(i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Tasa Cámara Interbancaria Promedio del día i publicada por el Banco Central de Chile, base an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TCIPbase mensual(i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Tasa Cámara Interbancaria Promedio en base mensual para el día i, la que debe ser redondeada a dos decimales según convención de mer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Lu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CP(i) = ICP(i-1) x ( 1 + TCIPbase mensual(i-1) x Ndías / 30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Don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CP(i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Indice Cámara Promedio de dí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CP(i-1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Indice Cámara Promedio del hábil bancario anterior al dí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TCIPbase mensual(i-1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Tasa Cámara Interbancaria Promedio del día hábil bancario anterior al dí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Ndías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Número de días por el cual corresponde aplicar la Tasa Cámara Promedio Mensual publicada el día hábil bancario anterior al día i. En general Ndías será igual a 1 salvo los días posteriores a fines de semana o festivos, fecha en la cual corresponderá al número de días no hábiles bancario previos al día i más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916280"/>
            <a:ext cx="770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or ini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valor inicial del Índice de Cámara Promedio comenzó con un valor inicial de 10.000,00, el día 2 de septiembre de 2002, y se ha incrementado en forma diaria desde entonces (según fórm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Estructu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o arbi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royec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2:51:59Z</dcterms:created>
  <dc:creator>sebastian</dc:creator>
  <dc:description/>
  <dc:language>en-US</dc:language>
  <cp:lastModifiedBy>Gonmat</cp:lastModifiedBy>
  <dcterms:modified xsi:type="dcterms:W3CDTF">2005-09-22T15:16:40Z</dcterms:modified>
  <cp:revision>15</cp:revision>
  <dc:subject/>
  <dc:title>Slide 1</dc:title>
</cp:coreProperties>
</file>