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32.wmf" ContentType="image/x-wmf"/>
  <Override PartName="/ppt/media/image19.png" ContentType="image/png"/>
  <Override PartName="/ppt/media/image26.png" ContentType="image/png"/>
  <Override PartName="/ppt/media/image17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5.png" ContentType="image/png"/>
  <Override PartName="/ppt/media/image2.png" ContentType="image/png"/>
  <Override PartName="/ppt/media/image3.wmf" ContentType="image/x-wmf"/>
  <Override PartName="/ppt/media/image33.wmf" ContentType="image/x-wmf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44.png" ContentType="image/png"/>
  <Override PartName="/ppt/media/image20.wmf" ContentType="image/x-wmf"/>
  <Override PartName="/ppt/media/image36.wmf" ContentType="image/x-wmf"/>
  <Override PartName="/ppt/media/image39.png" ContentType="image/png"/>
  <Override PartName="/ppt/media/image40.png" ContentType="image/png"/>
  <Override PartName="/ppt/media/image43.png" ContentType="image/png"/>
  <Override PartName="/ppt/media/image45.png" ContentType="image/png"/>
  <Override PartName="/ppt/media/image30.wmf" ContentType="image/x-wmf"/>
  <Override PartName="/ppt/media/image6.jpeg" ContentType="image/jpeg"/>
  <Override PartName="/ppt/media/image28.wmf" ContentType="image/x-wmf"/>
  <Override PartName="/ppt/media/image46.png" ContentType="image/png"/>
  <Override PartName="/ppt/media/image35.wmf" ContentType="image/x-wmf"/>
  <Override PartName="/ppt/media/image47.wmf" ContentType="image/x-wmf"/>
  <Override PartName="/ppt/media/image37.wmf" ContentType="image/x-wmf"/>
  <Override PartName="/ppt/media/image49.wmf" ContentType="image/x-wmf"/>
  <Override PartName="/ppt/media/image9.jpeg" ContentType="image/jpeg"/>
  <Override PartName="/ppt/media/image51.wmf" ContentType="image/x-wmf"/>
  <Override PartName="/ppt/media/image52.wmf" ContentType="image/x-wmf"/>
  <Override PartName="/ppt/media/image42.png" ContentType="image/png"/>
  <Override PartName="/ppt/media/image53.wmf" ContentType="image/x-wmf"/>
  <Override PartName="/ppt/media/image34.wmf" ContentType="image/x-wmf"/>
  <Override PartName="/ppt/media/image31.wmf" ContentType="image/x-wmf"/>
  <Override PartName="/ppt/media/image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41.wmf" ContentType="image/x-wmf"/>
  <Override PartName="/ppt/media/image48.wmf" ContentType="image/x-wmf"/>
  <Override PartName="/ppt/media/image50.png" ContentType="image/png"/>
  <Override PartName="/ppt/media/image5.jpeg" ContentType="image/jpeg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976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976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3640" y="696960"/>
            <a:ext cx="462888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0880" y="4403880"/>
            <a:ext cx="505440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6D80A3-5806-4C70-B5BA-614104811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B2C873-C587-4689-ABE3-A9D101B5B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7160" y="70488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9080" y="4427280"/>
            <a:ext cx="5058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633989-A002-4D0D-A3FB-B98D92E57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19240" y="700200"/>
            <a:ext cx="4659120" cy="34938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9080" y="4427640"/>
            <a:ext cx="5058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43080"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spcBef>
                <a:spcPts val="675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9440" indent="-219240">
              <a:spcBef>
                <a:spcPts val="675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94560" y="656424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4CFC-72A1-4E26-86FC-6C3E827F5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02480" y="658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524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8600" algn="ctr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04760" algn="ctr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1.wmf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1.wmf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image" Target="../media/image44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819520" y="3048120"/>
            <a:ext cx="5734080" cy="2712960"/>
            <a:chOff x="2819520" y="3048120"/>
            <a:chExt cx="5734080" cy="271296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5608080" y="3392640"/>
              <a:ext cx="223956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3" name=""/>
            <p:cNvGraphicFramePr/>
            <p:nvPr/>
          </p:nvGraphicFramePr>
          <p:xfrm>
            <a:off x="2819520" y="3048120"/>
            <a:ext cx="573408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048120"/>
                      <a:ext cx="573408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tiembre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151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800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interno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óstico del punto inicial para las acciones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ía ut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292720" y="4437000"/>
          <a:ext cx="2612880" cy="18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4437000"/>
                    <a:ext cx="261288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rcRect l="0" t="0" r="0" b="27303"/>
          <a:stretch/>
        </p:blipFill>
        <p:spPr>
          <a:xfrm>
            <a:off x="5651640" y="2205000"/>
            <a:ext cx="16477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79628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61680"/>
            <a:ext cx="525780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r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buil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abilidad por producto, cliente,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84720" y="4869000"/>
            <a:ext cx="2303640" cy="1439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3384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26740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OD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igido principalmente a las áreas de marketing, comercial, producción e investigación y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419640" y="2629080"/>
            <a:ext cx="494172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Y ahora tenemos que definir nuestros objetivos de marke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1280" y="1487520"/>
            <a:ext cx="81374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8267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54100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ón de objetivo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bles, ambiciosos, realistas, y subordinados a la estrategia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ventas, en ingresos y en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ición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, por producto o línea de productos, por cliente o seg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I’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1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65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7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515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373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5488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364000" y="2997360"/>
            <a:ext cx="3335400" cy="2447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200400" y="378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5400" y="1600200"/>
            <a:ext cx="830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clientes hoy en día exigen s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ados, y no tratados como m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627280" y="3213000"/>
            <a:ext cx="3745080" cy="3384720"/>
            <a:chOff x="2627280" y="3213000"/>
            <a:chExt cx="3745080" cy="338472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2627280" y="3213000"/>
              <a:ext cx="37450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530520" y="4539960"/>
              <a:ext cx="1789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ustomer Relationsh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52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ción de estrategi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 de las acciones para la consecución de los objetiv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lí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re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segu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56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42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31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724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8992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374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95880" y="2514600"/>
            <a:ext cx="103212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324480" y="2819520"/>
            <a:ext cx="949320" cy="4744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553080" y="3200400"/>
            <a:ext cx="1033560" cy="83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760400" y="3700440"/>
            <a:ext cx="779760" cy="110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133720" y="4614840"/>
            <a:ext cx="795240" cy="4399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235240" y="5275440"/>
            <a:ext cx="879480" cy="13464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terios de evaluación de la estrate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133720" y="1724040"/>
            <a:ext cx="4876560" cy="4219560"/>
          </a:xfrm>
          <a:prstGeom prst="parallelogram">
            <a:avLst>
              <a:gd name="adj" fmla="val 28887"/>
            </a:avLst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205740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4080" y="468792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84360" y="1806480"/>
            <a:ext cx="36180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.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1082520"/>
            <a:ext cx="449892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canales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a nivel de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733920" y="1433520"/>
            <a:ext cx="5333760" cy="5002200"/>
            <a:chOff x="3733920" y="1433520"/>
            <a:chExt cx="5333760" cy="5002200"/>
          </a:xfrm>
        </p:grpSpPr>
        <p:sp>
          <p:nvSpPr>
            <p:cNvPr id="247" name=""/>
            <p:cNvSpPr/>
            <p:nvPr/>
          </p:nvSpPr>
          <p:spPr>
            <a:xfrm>
              <a:off x="3733920" y="1701720"/>
              <a:ext cx="5333760" cy="473400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83280" y="2290680"/>
              <a:ext cx="546120" cy="297828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900019"/>
              </a:solidFill>
              <a:round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38600" y="4444920"/>
              <a:ext cx="555840" cy="8384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68880" y="4367160"/>
              <a:ext cx="496800" cy="76536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08400" y="5097600"/>
              <a:ext cx="425520" cy="84924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21680" y="4637160"/>
              <a:ext cx="401400" cy="80784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369200" y="2890440"/>
              <a:ext cx="939600" cy="2678040"/>
            </a:xfrm>
            <a:prstGeom prst="line">
              <a:avLst/>
            </a:prstGeom>
            <a:ln w="25560">
              <a:solidFill>
                <a:srgbClr val="9000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70960" y="4759200"/>
              <a:ext cx="333360" cy="77148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32680" y="4640400"/>
              <a:ext cx="339840" cy="90324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32920" y="4808520"/>
              <a:ext cx="301320" cy="75420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907240" y="1433520"/>
              <a:ext cx="1642680" cy="4755960"/>
              <a:chOff x="5907240" y="1433520"/>
              <a:chExt cx="1642680" cy="4755960"/>
            </a:xfrm>
          </p:grpSpPr>
          <p:sp>
            <p:nvSpPr>
              <p:cNvPr id="258" name=""/>
              <p:cNvSpPr/>
              <p:nvPr/>
            </p:nvSpPr>
            <p:spPr>
              <a:xfrm>
                <a:off x="6170040" y="1819080"/>
                <a:ext cx="813960" cy="813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21640" y="1604880"/>
                <a:ext cx="1535400" cy="152784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413800">
                <a:off x="6192720" y="1919160"/>
                <a:ext cx="430200" cy="792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50200" y="1611720"/>
                <a:ext cx="92880" cy="15012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07240" y="1762200"/>
                <a:ext cx="1642680" cy="13705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919920" y="1433520"/>
                <a:ext cx="363960" cy="47559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55120" y="2761560"/>
                <a:ext cx="107280" cy="278496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4651200" y="5103720"/>
              <a:ext cx="2314800" cy="82080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59200" y="5143680"/>
              <a:ext cx="2038320" cy="44892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08800" y="5197320"/>
              <a:ext cx="414360" cy="79236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67280" y="5230800"/>
              <a:ext cx="489240" cy="80172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67160" y="5248440"/>
              <a:ext cx="509760" cy="80460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19520" y="5419800"/>
              <a:ext cx="474840" cy="76176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295280" y="22860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La competencia es cosa ser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planes, actividades y/o proyectos para consegui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ción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ación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057400" y="3505320"/>
            <a:ext cx="4508640" cy="304956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6553080" y="2971800"/>
            <a:ext cx="2057400" cy="1584360"/>
            <a:chOff x="6553080" y="2971800"/>
            <a:chExt cx="2057400" cy="1584360"/>
          </a:xfrm>
        </p:grpSpPr>
        <p:graphicFrame>
          <p:nvGraphicFramePr>
            <p:cNvPr id="283" name=""/>
            <p:cNvGraphicFramePr/>
            <p:nvPr/>
          </p:nvGraphicFramePr>
          <p:xfrm>
            <a:off x="6553080" y="2971800"/>
            <a:ext cx="2049480" cy="158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971800"/>
                      <a:ext cx="2049480" cy="15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7007400" y="3597120"/>
              <a:ext cx="11041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28840" y="3038040"/>
              <a:ext cx="8816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9640" y="4121280"/>
              <a:ext cx="14320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11400" y="4064040"/>
              <a:ext cx="10328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82960" y="3019680"/>
              <a:ext cx="11599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83664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ramientas básic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1566720"/>
            <a:ext cx="820728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84240" y="194760"/>
            <a:ext cx="717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00019"/>
                </a:solidFill>
                <a:latin typeface="Arial"/>
              </a:rPr>
              <a:t>Estrategia de Implementació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3141720"/>
            <a:ext cx="2733840" cy="2200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38520" y="1141560"/>
            <a:ext cx="2735280" cy="20350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35640" y="1131840"/>
            <a:ext cx="2865240" cy="2081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35640" y="3138480"/>
            <a:ext cx="2881440" cy="218772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7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30480" y="1566720"/>
            <a:ext cx="26640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57680" y="1195560"/>
            <a:ext cx="26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noAutofit/>
          </a:bodyPr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2924280"/>
            <a:ext cx="169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o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440" y="1119240"/>
            <a:ext cx="1457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66840" y="4853160"/>
            <a:ext cx="9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81360" y="5877000"/>
            <a:ext cx="884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92000" y="5877000"/>
            <a:ext cx="699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6019920"/>
            <a:ext cx="4097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icultad de 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grama de Camb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843280" y="1341360"/>
            <a:ext cx="2273400" cy="307080"/>
            <a:chOff x="2843280" y="1341360"/>
            <a:chExt cx="2273400" cy="307080"/>
          </a:xfrm>
        </p:grpSpPr>
        <p:sp>
          <p:nvSpPr>
            <p:cNvPr id="305" name=""/>
            <p:cNvSpPr/>
            <p:nvPr/>
          </p:nvSpPr>
          <p:spPr>
            <a:xfrm>
              <a:off x="3059280" y="13413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/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3280" y="134136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132000" y="1700280"/>
            <a:ext cx="1679400" cy="459720"/>
            <a:chOff x="3132000" y="1700280"/>
            <a:chExt cx="1679400" cy="459720"/>
          </a:xfrm>
        </p:grpSpPr>
        <p:sp>
          <p:nvSpPr>
            <p:cNvPr id="308" name=""/>
            <p:cNvSpPr/>
            <p:nvPr/>
          </p:nvSpPr>
          <p:spPr>
            <a:xfrm>
              <a:off x="3287520" y="1700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32000" y="181620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492360" y="2133720"/>
            <a:ext cx="1944360" cy="459720"/>
            <a:chOff x="3492360" y="2133720"/>
            <a:chExt cx="1944360" cy="459720"/>
          </a:xfrm>
        </p:grpSpPr>
        <p:sp>
          <p:nvSpPr>
            <p:cNvPr id="311" name=""/>
            <p:cNvSpPr/>
            <p:nvPr/>
          </p:nvSpPr>
          <p:spPr>
            <a:xfrm>
              <a:off x="3672360" y="2133720"/>
              <a:ext cx="17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92360" y="2249640"/>
              <a:ext cx="33264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796000" y="1341360"/>
            <a:ext cx="2231640" cy="459720"/>
            <a:chOff x="5796000" y="1341360"/>
            <a:chExt cx="2231640" cy="459720"/>
          </a:xfrm>
        </p:grpSpPr>
        <p:sp>
          <p:nvSpPr>
            <p:cNvPr id="314" name=""/>
            <p:cNvSpPr/>
            <p:nvPr/>
          </p:nvSpPr>
          <p:spPr>
            <a:xfrm>
              <a:off x="6002640" y="1341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96000" y="1457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300720" y="1773360"/>
            <a:ext cx="2231640" cy="459720"/>
            <a:chOff x="6300720" y="1773360"/>
            <a:chExt cx="2231640" cy="459720"/>
          </a:xfrm>
        </p:grpSpPr>
        <p:sp>
          <p:nvSpPr>
            <p:cNvPr id="317" name=""/>
            <p:cNvSpPr/>
            <p:nvPr/>
          </p:nvSpPr>
          <p:spPr>
            <a:xfrm>
              <a:off x="6507360" y="1773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00720" y="1889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3500280"/>
            <a:ext cx="2231640" cy="459720"/>
            <a:chOff x="5651640" y="3500280"/>
            <a:chExt cx="2231640" cy="459720"/>
          </a:xfrm>
        </p:grpSpPr>
        <p:sp>
          <p:nvSpPr>
            <p:cNvPr id="320" name=""/>
            <p:cNvSpPr/>
            <p:nvPr/>
          </p:nvSpPr>
          <p:spPr>
            <a:xfrm>
              <a:off x="5858280" y="350028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51640" y="361620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124000" y="1125360"/>
            <a:ext cx="287280" cy="4175280"/>
          </a:xfrm>
          <a:prstGeom prst="upArrow">
            <a:avLst>
              <a:gd name="adj1" fmla="val 50000"/>
              <a:gd name="adj2" fmla="val 363346"/>
            </a:avLst>
          </a:prstGeom>
          <a:gradFill rotWithShape="0">
            <a:gsLst>
              <a:gs pos="0">
                <a:srgbClr val="ff3300"/>
              </a:gs>
              <a:gs pos="100000">
                <a:srgbClr val="f9f2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71640" y="5589720"/>
            <a:ext cx="5400720" cy="215640"/>
          </a:xfrm>
          <a:prstGeom prst="rightArrow">
            <a:avLst>
              <a:gd name="adj1" fmla="val 50000"/>
              <a:gd name="adj2" fmla="val 626127"/>
            </a:avLst>
          </a:prstGeom>
          <a:gradFill rotWithShape="0">
            <a:gsLst>
              <a:gs pos="0">
                <a:srgbClr val="00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o del plan para verificar su cumplimiento y la introducción de cambios cuando sea requer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Informacione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452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898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310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75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0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961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156360" y="4800600"/>
            <a:ext cx="260028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4159080" y="1549800"/>
            <a:ext cx="4984920" cy="3061440"/>
            <a:chOff x="4159080" y="1549800"/>
            <a:chExt cx="4984920" cy="3061440"/>
          </a:xfrm>
        </p:grpSpPr>
        <p:grpSp>
          <p:nvGrpSpPr>
            <p:cNvPr id="334" name=""/>
            <p:cNvGrpSpPr/>
            <p:nvPr/>
          </p:nvGrpSpPr>
          <p:grpSpPr>
            <a:xfrm>
              <a:off x="4159080" y="2628720"/>
              <a:ext cx="1506600" cy="941400"/>
              <a:chOff x="4159080" y="2628720"/>
              <a:chExt cx="1506600" cy="941400"/>
            </a:xfrm>
          </p:grpSpPr>
          <p:sp>
            <p:nvSpPr>
              <p:cNvPr id="335" name=""/>
              <p:cNvSpPr/>
              <p:nvPr/>
            </p:nvSpPr>
            <p:spPr>
              <a:xfrm>
                <a:off x="4349520" y="2628720"/>
                <a:ext cx="863640" cy="641520"/>
              </a:xfrm>
              <a:prstGeom prst="rect">
                <a:avLst/>
              </a:prstGeom>
              <a:solidFill>
                <a:srgbClr val="fcce8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59080" y="265320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Realiz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2320" y="294372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Planific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406760" y="3105000"/>
                <a:ext cx="10332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029200" y="3105000"/>
                <a:ext cx="10296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402080" y="2840040"/>
                <a:ext cx="11088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024160" y="2840040"/>
                <a:ext cx="11124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11520" y="2895480"/>
                <a:ext cx="512640" cy="0"/>
              </a:xfrm>
              <a:prstGeom prst="line">
                <a:avLst/>
              </a:prstGeom>
              <a:ln w="2844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25920" y="3157560"/>
                <a:ext cx="51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268520" y="3355920"/>
                <a:ext cx="1397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5857920" y="4309920"/>
              <a:ext cx="1395360" cy="147600"/>
              <a:chOff x="5857920" y="4309920"/>
              <a:chExt cx="1395360" cy="147600"/>
            </a:xfrm>
          </p:grpSpPr>
          <p:sp>
            <p:nvSpPr>
              <p:cNvPr id="346" name=""/>
              <p:cNvSpPr/>
              <p:nvPr/>
            </p:nvSpPr>
            <p:spPr>
              <a:xfrm>
                <a:off x="725328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1492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57920" y="4319640"/>
                <a:ext cx="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662440" y="4410720"/>
              <a:ext cx="348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2004                        2005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                 20060                          2007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20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44960" y="1974960"/>
              <a:ext cx="2909880" cy="2333520"/>
            </a:xfrm>
            <a:prstGeom prst="rect">
              <a:avLst/>
            </a:prstGeom>
            <a:solidFill>
              <a:srgbClr val="fcce8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44960" y="22780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57920" y="25606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59360" y="286380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67280" y="314784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67280" y="34336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57920" y="373536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57920" y="40114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22840" y="1549800"/>
              <a:ext cx="187200" cy="28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45480" y="430848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58160" y="431316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5938560" y="3573360"/>
              <a:ext cx="53820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578640" y="3049560"/>
              <a:ext cx="67464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53280" y="2774520"/>
              <a:ext cx="75888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8047080" y="2168640"/>
              <a:ext cx="614160" cy="56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46760" y="383076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73880" y="3486240"/>
              <a:ext cx="10296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19800" y="296388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66080" y="2701800"/>
              <a:ext cx="10296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640720" y="2076480"/>
              <a:ext cx="10152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938560" y="3905280"/>
              <a:ext cx="571680" cy="257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545160" y="3665520"/>
              <a:ext cx="708120" cy="203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253280" y="3419640"/>
              <a:ext cx="691920" cy="2649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970760" y="3030120"/>
              <a:ext cx="723960" cy="3891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54680" y="4097160"/>
              <a:ext cx="11088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68840" y="3822840"/>
              <a:ext cx="11124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2520" y="362124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94440" y="3325680"/>
              <a:ext cx="10944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636040" y="298620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6200000">
              <a:off x="4956840" y="2873880"/>
              <a:ext cx="1166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$ Bill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78320" y="1704960"/>
              <a:ext cx="234324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Realizado  vs Planific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60627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72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485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930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51640" y="12682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88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96400" y="12351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362640" y="251460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4076640" y="406404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1866960" y="2438280"/>
            <a:ext cx="2031840" cy="14479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4000680" y="1219320"/>
            <a:ext cx="2031840" cy="14475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6016680" y="1263600"/>
            <a:ext cx="2558880" cy="12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ich Customers? How do you rate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icing sensi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Service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usage and behavi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fitability &amp; Lifetime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31120" y="3930480"/>
            <a:ext cx="20793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ere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pene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size/grow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Growth of targeted segments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multi-market player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ompetitive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48640" y="2971800"/>
            <a:ext cx="1198440" cy="630360"/>
            <a:chOff x="6848640" y="2971800"/>
            <a:chExt cx="1198440" cy="630360"/>
          </a:xfrm>
        </p:grpSpPr>
        <p:sp>
          <p:nvSpPr>
            <p:cNvPr id="395" name=""/>
            <p:cNvSpPr/>
            <p:nvPr/>
          </p:nvSpPr>
          <p:spPr>
            <a:xfrm>
              <a:off x="7989840" y="3063960"/>
              <a:ext cx="55440" cy="85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4" y="0"/>
                  </a:moveTo>
                  <a:lnTo>
                    <a:pt x="0" y="25"/>
                  </a:lnTo>
                  <a:lnTo>
                    <a:pt x="0" y="53"/>
                  </a:lnTo>
                  <a:lnTo>
                    <a:pt x="34" y="28"/>
                  </a:lnTo>
                  <a:lnTo>
                    <a:pt x="34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67520" y="3108240"/>
              <a:ext cx="2556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9"/>
                  </a:moveTo>
                  <a:lnTo>
                    <a:pt x="13" y="4"/>
                  </a:lnTo>
                  <a:lnTo>
                    <a:pt x="15" y="0"/>
                  </a:lnTo>
                  <a:lnTo>
                    <a:pt x="15" y="25"/>
                  </a:lnTo>
                  <a:lnTo>
                    <a:pt x="13" y="31"/>
                  </a:lnTo>
                  <a:lnTo>
                    <a:pt x="0" y="37"/>
                  </a:lnTo>
                  <a:lnTo>
                    <a:pt x="0" y="9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64640" y="3133800"/>
              <a:ext cx="25200" cy="36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9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85160" y="310824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6"/>
                  </a:lnTo>
                  <a:lnTo>
                    <a:pt x="0" y="31"/>
                  </a:lnTo>
                  <a:lnTo>
                    <a:pt x="15" y="25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75480" y="3438360"/>
              <a:ext cx="25560" cy="4788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0" y="6"/>
                  </a:moveTo>
                  <a:lnTo>
                    <a:pt x="8" y="16"/>
                  </a:lnTo>
                  <a:lnTo>
                    <a:pt x="8" y="29"/>
                  </a:lnTo>
                  <a:lnTo>
                    <a:pt x="15" y="26"/>
                  </a:lnTo>
                  <a:lnTo>
                    <a:pt x="15" y="0"/>
                  </a:lnTo>
                  <a:lnTo>
                    <a:pt x="0" y="6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85200" y="3438360"/>
              <a:ext cx="50760" cy="460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0" y="1"/>
                  </a:moveTo>
                  <a:lnTo>
                    <a:pt x="13" y="0"/>
                  </a:lnTo>
                  <a:lnTo>
                    <a:pt x="31" y="0"/>
                  </a:lnTo>
                  <a:lnTo>
                    <a:pt x="31" y="28"/>
                  </a:lnTo>
                  <a:lnTo>
                    <a:pt x="13" y="28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35960" y="3438360"/>
              <a:ext cx="2520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0" y="26"/>
                  </a:lnTo>
                  <a:lnTo>
                    <a:pt x="15" y="37"/>
                  </a:lnTo>
                  <a:lnTo>
                    <a:pt x="15" y="10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8280" y="345132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3"/>
                  </a:moveTo>
                  <a:lnTo>
                    <a:pt x="17" y="0"/>
                  </a:lnTo>
                  <a:lnTo>
                    <a:pt x="17" y="25"/>
                  </a:lnTo>
                  <a:lnTo>
                    <a:pt x="0" y="28"/>
                  </a:lnTo>
                  <a:lnTo>
                    <a:pt x="0" y="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02560" y="3494160"/>
              <a:ext cx="25560" cy="6804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0" y="0"/>
                  </a:moveTo>
                  <a:lnTo>
                    <a:pt x="15" y="16"/>
                  </a:lnTo>
                  <a:lnTo>
                    <a:pt x="15" y="42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84920" y="345132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1" y="26"/>
                  </a:lnTo>
                  <a:lnTo>
                    <a:pt x="11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07360" y="3456000"/>
              <a:ext cx="4896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" y="49"/>
                  </a:moveTo>
                  <a:lnTo>
                    <a:pt x="0" y="34"/>
                  </a:lnTo>
                  <a:lnTo>
                    <a:pt x="7" y="18"/>
                  </a:lnTo>
                  <a:lnTo>
                    <a:pt x="30" y="0"/>
                  </a:lnTo>
                  <a:lnTo>
                    <a:pt x="30" y="28"/>
                  </a:lnTo>
                  <a:lnTo>
                    <a:pt x="7" y="44"/>
                  </a:lnTo>
                  <a:lnTo>
                    <a:pt x="3" y="4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56320" y="3448080"/>
              <a:ext cx="30240" cy="5076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0" y="4"/>
                  </a:moveTo>
                  <a:lnTo>
                    <a:pt x="0" y="31"/>
                  </a:lnTo>
                  <a:lnTo>
                    <a:pt x="18" y="26"/>
                  </a:lnTo>
                  <a:lnTo>
                    <a:pt x="18" y="0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85120" y="344808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0"/>
                  </a:moveTo>
                  <a:lnTo>
                    <a:pt x="33" y="11"/>
                  </a:lnTo>
                  <a:lnTo>
                    <a:pt x="33" y="39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39120" y="3468600"/>
              <a:ext cx="39600" cy="47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0"/>
                  </a:moveTo>
                  <a:lnTo>
                    <a:pt x="0" y="27"/>
                  </a:lnTo>
                  <a:lnTo>
                    <a:pt x="24" y="29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54760" y="353232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15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43"/>
                  </a:lnTo>
                  <a:lnTo>
                    <a:pt x="0" y="1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21640" y="35193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lnTo>
                    <a:pt x="0" y="26"/>
                  </a:lnTo>
                  <a:lnTo>
                    <a:pt x="16" y="2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34240" y="3556080"/>
              <a:ext cx="2556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"/>
                  </a:moveTo>
                  <a:lnTo>
                    <a:pt x="15" y="0"/>
                  </a:lnTo>
                  <a:lnTo>
                    <a:pt x="15" y="26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28120" y="3519360"/>
              <a:ext cx="25200" cy="82800"/>
            </a:xfrm>
            <a:custGeom>
              <a:avLst/>
              <a:gdLst/>
              <a:ahLst/>
              <a:rect l="l" t="t" r="r" b="b"/>
              <a:pathLst>
                <a:path w="16" h="52">
                  <a:moveTo>
                    <a:pt x="0" y="0"/>
                  </a:moveTo>
                  <a:lnTo>
                    <a:pt x="15" y="25"/>
                  </a:lnTo>
                  <a:lnTo>
                    <a:pt x="15" y="5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56560" y="338292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4"/>
                  </a:moveTo>
                  <a:lnTo>
                    <a:pt x="16" y="0"/>
                  </a:lnTo>
                  <a:lnTo>
                    <a:pt x="16" y="26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77080" y="3354480"/>
              <a:ext cx="2556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16"/>
                  </a:moveTo>
                  <a:lnTo>
                    <a:pt x="15" y="0"/>
                  </a:lnTo>
                  <a:lnTo>
                    <a:pt x="15" y="28"/>
                  </a:lnTo>
                  <a:lnTo>
                    <a:pt x="0" y="46"/>
                  </a:lnTo>
                  <a:lnTo>
                    <a:pt x="0" y="1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99400" y="3343320"/>
              <a:ext cx="2556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9"/>
                  </a:moveTo>
                  <a:lnTo>
                    <a:pt x="0" y="34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0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743960" y="3389400"/>
              <a:ext cx="25200" cy="6660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15" y="0"/>
                  </a:moveTo>
                  <a:lnTo>
                    <a:pt x="15" y="29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3" y="36"/>
                  </a:lnTo>
                  <a:lnTo>
                    <a:pt x="0" y="28"/>
                  </a:lnTo>
                  <a:lnTo>
                    <a:pt x="11" y="1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15240" y="3328920"/>
              <a:ext cx="33480" cy="558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20" y="0"/>
                  </a:lnTo>
                  <a:lnTo>
                    <a:pt x="20" y="28"/>
                  </a:lnTo>
                  <a:lnTo>
                    <a:pt x="0" y="34"/>
                  </a:lnTo>
                  <a:lnTo>
                    <a:pt x="0" y="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5480" y="3311640"/>
              <a:ext cx="27000" cy="680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0" y="13"/>
                  </a:moveTo>
                  <a:lnTo>
                    <a:pt x="0" y="42"/>
                  </a:lnTo>
                  <a:lnTo>
                    <a:pt x="16" y="29"/>
                  </a:lnTo>
                  <a:lnTo>
                    <a:pt x="16" y="0"/>
                  </a:lnTo>
                  <a:lnTo>
                    <a:pt x="0" y="1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78600" y="3209760"/>
              <a:ext cx="25560" cy="6192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0" y="10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8"/>
                  </a:lnTo>
                  <a:lnTo>
                    <a:pt x="0" y="1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867800" y="321156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15" y="10"/>
                  </a:lnTo>
                  <a:lnTo>
                    <a:pt x="15" y="37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858080" y="3230640"/>
              <a:ext cx="25560" cy="7128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5" y="0"/>
                  </a:moveTo>
                  <a:lnTo>
                    <a:pt x="0" y="16"/>
                  </a:lnTo>
                  <a:lnTo>
                    <a:pt x="0" y="44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48720" y="325764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0" y="6"/>
                  </a:lnTo>
                  <a:lnTo>
                    <a:pt x="16" y="24"/>
                  </a:lnTo>
                  <a:lnTo>
                    <a:pt x="1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66080" y="3159000"/>
              <a:ext cx="2556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4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2"/>
                  </a:lnTo>
                  <a:lnTo>
                    <a:pt x="0" y="4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58160" y="3159000"/>
              <a:ext cx="2520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0"/>
                  </a:moveTo>
                  <a:lnTo>
                    <a:pt x="15" y="4"/>
                  </a:lnTo>
                  <a:lnTo>
                    <a:pt x="15" y="32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51680" y="3159000"/>
              <a:ext cx="25560" cy="55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5" y="0"/>
                  </a:moveTo>
                  <a:lnTo>
                    <a:pt x="15" y="26"/>
                  </a:lnTo>
                  <a:lnTo>
                    <a:pt x="0" y="34"/>
                  </a:lnTo>
                  <a:lnTo>
                    <a:pt x="0" y="6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10640" y="316872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19" y="1"/>
                  </a:lnTo>
                  <a:lnTo>
                    <a:pt x="0" y="3"/>
                  </a:lnTo>
                  <a:lnTo>
                    <a:pt x="0" y="29"/>
                  </a:lnTo>
                  <a:lnTo>
                    <a:pt x="19" y="26"/>
                  </a:lnTo>
                  <a:lnTo>
                    <a:pt x="25" y="26"/>
                  </a:lnTo>
                  <a:lnTo>
                    <a:pt x="25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91560" y="3174840"/>
              <a:ext cx="25200" cy="572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5" y="0"/>
                  </a:moveTo>
                  <a:lnTo>
                    <a:pt x="15" y="26"/>
                  </a:lnTo>
                  <a:lnTo>
                    <a:pt x="5" y="29"/>
                  </a:lnTo>
                  <a:lnTo>
                    <a:pt x="1" y="35"/>
                  </a:lnTo>
                  <a:lnTo>
                    <a:pt x="1" y="2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61240" y="3225960"/>
              <a:ext cx="73080" cy="156960"/>
            </a:xfrm>
            <a:custGeom>
              <a:avLst/>
              <a:gdLst/>
              <a:ahLst/>
              <a:rect l="l" t="t" r="r" b="b"/>
              <a:pathLst>
                <a:path w="46" h="99">
                  <a:moveTo>
                    <a:pt x="0" y="0"/>
                  </a:moveTo>
                  <a:lnTo>
                    <a:pt x="0" y="28"/>
                  </a:lnTo>
                  <a:lnTo>
                    <a:pt x="15" y="49"/>
                  </a:lnTo>
                  <a:lnTo>
                    <a:pt x="45" y="98"/>
                  </a:lnTo>
                  <a:lnTo>
                    <a:pt x="45" y="71"/>
                  </a:lnTo>
                  <a:lnTo>
                    <a:pt x="17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34320" y="3343320"/>
              <a:ext cx="2520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0"/>
                  </a:moveTo>
                  <a:lnTo>
                    <a:pt x="15" y="0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51600" y="3343320"/>
              <a:ext cx="4932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0" y="0"/>
                  </a:moveTo>
                  <a:lnTo>
                    <a:pt x="0" y="25"/>
                  </a:lnTo>
                  <a:lnTo>
                    <a:pt x="30" y="49"/>
                  </a:lnTo>
                  <a:lnTo>
                    <a:pt x="30" y="22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00920" y="337824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0"/>
                  </a:moveTo>
                  <a:lnTo>
                    <a:pt x="0" y="27"/>
                  </a:lnTo>
                  <a:lnTo>
                    <a:pt x="37" y="27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61040" y="3387600"/>
              <a:ext cx="6696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0"/>
                  </a:moveTo>
                  <a:lnTo>
                    <a:pt x="41" y="19"/>
                  </a:lnTo>
                  <a:lnTo>
                    <a:pt x="41" y="44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28000" y="3417840"/>
              <a:ext cx="55440" cy="414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0"/>
                  </a:moveTo>
                  <a:lnTo>
                    <a:pt x="34" y="0"/>
                  </a:lnTo>
                  <a:lnTo>
                    <a:pt x="34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84880" y="3398760"/>
              <a:ext cx="2556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1"/>
                  </a:moveTo>
                  <a:lnTo>
                    <a:pt x="0" y="25"/>
                  </a:lnTo>
                  <a:lnTo>
                    <a:pt x="15" y="25"/>
                  </a:lnTo>
                  <a:lnTo>
                    <a:pt x="15" y="0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07200" y="339876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0" y="0"/>
                  </a:moveTo>
                  <a:lnTo>
                    <a:pt x="26" y="20"/>
                  </a:lnTo>
                  <a:lnTo>
                    <a:pt x="26" y="47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50040" y="342900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0" y="0"/>
                  </a:moveTo>
                  <a:lnTo>
                    <a:pt x="16" y="19"/>
                  </a:lnTo>
                  <a:lnTo>
                    <a:pt x="16" y="47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67680" y="3456000"/>
              <a:ext cx="2520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0" y="0"/>
                  </a:moveTo>
                  <a:lnTo>
                    <a:pt x="15" y="7"/>
                  </a:lnTo>
                  <a:lnTo>
                    <a:pt x="15" y="36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89640" y="3456000"/>
              <a:ext cx="2556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5" y="0"/>
                  </a:moveTo>
                  <a:lnTo>
                    <a:pt x="0" y="9"/>
                  </a:lnTo>
                  <a:lnTo>
                    <a:pt x="0" y="36"/>
                  </a:lnTo>
                  <a:lnTo>
                    <a:pt x="15" y="27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04040" y="3456000"/>
              <a:ext cx="25560" cy="540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0"/>
                  </a:moveTo>
                  <a:lnTo>
                    <a:pt x="15" y="6"/>
                  </a:lnTo>
                  <a:lnTo>
                    <a:pt x="15" y="33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59480" y="3514680"/>
              <a:ext cx="49320" cy="619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0"/>
                  </a:moveTo>
                  <a:lnTo>
                    <a:pt x="30" y="10"/>
                  </a:lnTo>
                  <a:lnTo>
                    <a:pt x="30" y="38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27800" y="3460680"/>
              <a:ext cx="33480" cy="10008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0" y="0"/>
                  </a:moveTo>
                  <a:lnTo>
                    <a:pt x="20" y="34"/>
                  </a:lnTo>
                  <a:lnTo>
                    <a:pt x="20" y="62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48640" y="2998800"/>
              <a:ext cx="2520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0"/>
                  </a:moveTo>
                  <a:lnTo>
                    <a:pt x="15" y="26"/>
                  </a:lnTo>
                  <a:lnTo>
                    <a:pt x="9" y="4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48640" y="318600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2" y="23"/>
                  </a:lnTo>
                  <a:lnTo>
                    <a:pt x="12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26240" y="304812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4"/>
                  </a:moveTo>
                  <a:lnTo>
                    <a:pt x="38" y="0"/>
                  </a:lnTo>
                  <a:lnTo>
                    <a:pt x="38" y="25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01040" y="305748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15" y="26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12120" y="299556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0"/>
                  </a:moveTo>
                  <a:lnTo>
                    <a:pt x="3" y="14"/>
                  </a:lnTo>
                  <a:lnTo>
                    <a:pt x="0" y="23"/>
                  </a:lnTo>
                  <a:lnTo>
                    <a:pt x="18" y="19"/>
                  </a:lnTo>
                  <a:lnTo>
                    <a:pt x="23" y="25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94560" y="3016080"/>
              <a:ext cx="2556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4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10400" y="307800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0" y="12"/>
                  </a:lnTo>
                  <a:lnTo>
                    <a:pt x="0" y="40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04280" y="3098880"/>
              <a:ext cx="2520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5" y="0"/>
                  </a:moveTo>
                  <a:lnTo>
                    <a:pt x="15" y="26"/>
                  </a:lnTo>
                  <a:lnTo>
                    <a:pt x="11" y="32"/>
                  </a:lnTo>
                  <a:lnTo>
                    <a:pt x="0" y="24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91400" y="309240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0" y="14"/>
                  </a:lnTo>
                  <a:lnTo>
                    <a:pt x="4" y="22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01120" y="3135240"/>
              <a:ext cx="2520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10" y="22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48640" y="2971800"/>
              <a:ext cx="1198440" cy="593640"/>
            </a:xfrm>
            <a:custGeom>
              <a:avLst/>
              <a:gdLst/>
              <a:ahLst/>
              <a:rect l="l" t="t" r="r" b="b"/>
              <a:pathLst>
                <a:path w="755" h="374">
                  <a:moveTo>
                    <a:pt x="384" y="0"/>
                  </a:moveTo>
                  <a:lnTo>
                    <a:pt x="21" y="0"/>
                  </a:lnTo>
                  <a:lnTo>
                    <a:pt x="25" y="15"/>
                  </a:lnTo>
                  <a:lnTo>
                    <a:pt x="23" y="19"/>
                  </a:lnTo>
                  <a:lnTo>
                    <a:pt x="1" y="16"/>
                  </a:lnTo>
                  <a:lnTo>
                    <a:pt x="8" y="44"/>
                  </a:lnTo>
                  <a:lnTo>
                    <a:pt x="1" y="99"/>
                  </a:lnTo>
                  <a:lnTo>
                    <a:pt x="4" y="115"/>
                  </a:lnTo>
                  <a:lnTo>
                    <a:pt x="0" y="137"/>
                  </a:lnTo>
                  <a:lnTo>
                    <a:pt x="11" y="150"/>
                  </a:lnTo>
                  <a:lnTo>
                    <a:pt x="9" y="159"/>
                  </a:lnTo>
                  <a:lnTo>
                    <a:pt x="26" y="186"/>
                  </a:lnTo>
                  <a:lnTo>
                    <a:pt x="54" y="234"/>
                  </a:lnTo>
                  <a:lnTo>
                    <a:pt x="66" y="234"/>
                  </a:lnTo>
                  <a:lnTo>
                    <a:pt x="97" y="256"/>
                  </a:lnTo>
                  <a:lnTo>
                    <a:pt x="134" y="256"/>
                  </a:lnTo>
                  <a:lnTo>
                    <a:pt x="134" y="262"/>
                  </a:lnTo>
                  <a:lnTo>
                    <a:pt x="178" y="282"/>
                  </a:lnTo>
                  <a:lnTo>
                    <a:pt x="214" y="282"/>
                  </a:lnTo>
                  <a:lnTo>
                    <a:pt x="214" y="271"/>
                  </a:lnTo>
                  <a:lnTo>
                    <a:pt x="228" y="271"/>
                  </a:lnTo>
                  <a:lnTo>
                    <a:pt x="255" y="291"/>
                  </a:lnTo>
                  <a:lnTo>
                    <a:pt x="267" y="310"/>
                  </a:lnTo>
                  <a:lnTo>
                    <a:pt x="280" y="316"/>
                  </a:lnTo>
                  <a:lnTo>
                    <a:pt x="288" y="307"/>
                  </a:lnTo>
                  <a:lnTo>
                    <a:pt x="305" y="313"/>
                  </a:lnTo>
                  <a:lnTo>
                    <a:pt x="326" y="346"/>
                  </a:lnTo>
                  <a:lnTo>
                    <a:pt x="357" y="357"/>
                  </a:lnTo>
                  <a:lnTo>
                    <a:pt x="354" y="339"/>
                  </a:lnTo>
                  <a:lnTo>
                    <a:pt x="360" y="326"/>
                  </a:lnTo>
                  <a:lnTo>
                    <a:pt x="385" y="306"/>
                  </a:lnTo>
                  <a:lnTo>
                    <a:pt x="403" y="301"/>
                  </a:lnTo>
                  <a:lnTo>
                    <a:pt x="436" y="313"/>
                  </a:lnTo>
                  <a:lnTo>
                    <a:pt x="464" y="314"/>
                  </a:lnTo>
                  <a:lnTo>
                    <a:pt x="459" y="301"/>
                  </a:lnTo>
                  <a:lnTo>
                    <a:pt x="468" y="295"/>
                  </a:lnTo>
                  <a:lnTo>
                    <a:pt x="481" y="295"/>
                  </a:lnTo>
                  <a:lnTo>
                    <a:pt x="497" y="295"/>
                  </a:lnTo>
                  <a:lnTo>
                    <a:pt x="512" y="306"/>
                  </a:lnTo>
                  <a:lnTo>
                    <a:pt x="529" y="303"/>
                  </a:lnTo>
                  <a:lnTo>
                    <a:pt x="544" y="316"/>
                  </a:lnTo>
                  <a:lnTo>
                    <a:pt x="541" y="330"/>
                  </a:lnTo>
                  <a:lnTo>
                    <a:pt x="552" y="346"/>
                  </a:lnTo>
                  <a:lnTo>
                    <a:pt x="557" y="346"/>
                  </a:lnTo>
                  <a:lnTo>
                    <a:pt x="561" y="373"/>
                  </a:lnTo>
                  <a:lnTo>
                    <a:pt x="573" y="371"/>
                  </a:lnTo>
                  <a:lnTo>
                    <a:pt x="588" y="358"/>
                  </a:lnTo>
                  <a:lnTo>
                    <a:pt x="585" y="346"/>
                  </a:lnTo>
                  <a:lnTo>
                    <a:pt x="580" y="329"/>
                  </a:lnTo>
                  <a:lnTo>
                    <a:pt x="566" y="303"/>
                  </a:lnTo>
                  <a:lnTo>
                    <a:pt x="564" y="294"/>
                  </a:lnTo>
                  <a:lnTo>
                    <a:pt x="571" y="274"/>
                  </a:lnTo>
                  <a:lnTo>
                    <a:pt x="573" y="265"/>
                  </a:lnTo>
                  <a:lnTo>
                    <a:pt x="585" y="259"/>
                  </a:lnTo>
                  <a:lnTo>
                    <a:pt x="602" y="243"/>
                  </a:lnTo>
                  <a:lnTo>
                    <a:pt x="609" y="234"/>
                  </a:lnTo>
                  <a:lnTo>
                    <a:pt x="628" y="228"/>
                  </a:lnTo>
                  <a:lnTo>
                    <a:pt x="642" y="215"/>
                  </a:lnTo>
                  <a:lnTo>
                    <a:pt x="632" y="191"/>
                  </a:lnTo>
                  <a:lnTo>
                    <a:pt x="639" y="185"/>
                  </a:lnTo>
                  <a:lnTo>
                    <a:pt x="647" y="170"/>
                  </a:lnTo>
                  <a:lnTo>
                    <a:pt x="649" y="166"/>
                  </a:lnTo>
                  <a:lnTo>
                    <a:pt x="642" y="157"/>
                  </a:lnTo>
                  <a:lnTo>
                    <a:pt x="643" y="153"/>
                  </a:lnTo>
                  <a:lnTo>
                    <a:pt x="651" y="163"/>
                  </a:lnTo>
                  <a:lnTo>
                    <a:pt x="660" y="151"/>
                  </a:lnTo>
                  <a:lnTo>
                    <a:pt x="662" y="140"/>
                  </a:lnTo>
                  <a:lnTo>
                    <a:pt x="658" y="137"/>
                  </a:lnTo>
                  <a:lnTo>
                    <a:pt x="659" y="137"/>
                  </a:lnTo>
                  <a:lnTo>
                    <a:pt x="662" y="132"/>
                  </a:lnTo>
                  <a:lnTo>
                    <a:pt x="666" y="128"/>
                  </a:lnTo>
                  <a:lnTo>
                    <a:pt x="691" y="125"/>
                  </a:lnTo>
                  <a:lnTo>
                    <a:pt x="697" y="124"/>
                  </a:lnTo>
                  <a:lnTo>
                    <a:pt x="701" y="116"/>
                  </a:lnTo>
                  <a:lnTo>
                    <a:pt x="707" y="122"/>
                  </a:lnTo>
                  <a:lnTo>
                    <a:pt x="718" y="119"/>
                  </a:lnTo>
                  <a:lnTo>
                    <a:pt x="709" y="116"/>
                  </a:lnTo>
                  <a:lnTo>
                    <a:pt x="704" y="105"/>
                  </a:lnTo>
                  <a:lnTo>
                    <a:pt x="708" y="102"/>
                  </a:lnTo>
                  <a:lnTo>
                    <a:pt x="705" y="98"/>
                  </a:lnTo>
                  <a:lnTo>
                    <a:pt x="706" y="95"/>
                  </a:lnTo>
                  <a:lnTo>
                    <a:pt x="718" y="89"/>
                  </a:lnTo>
                  <a:lnTo>
                    <a:pt x="720" y="83"/>
                  </a:lnTo>
                  <a:lnTo>
                    <a:pt x="754" y="60"/>
                  </a:lnTo>
                  <a:lnTo>
                    <a:pt x="752" y="49"/>
                  </a:lnTo>
                  <a:lnTo>
                    <a:pt x="747" y="47"/>
                  </a:lnTo>
                  <a:lnTo>
                    <a:pt x="743" y="26"/>
                  </a:lnTo>
                  <a:lnTo>
                    <a:pt x="733" y="31"/>
                  </a:lnTo>
                  <a:lnTo>
                    <a:pt x="727" y="26"/>
                  </a:lnTo>
                  <a:lnTo>
                    <a:pt x="718" y="35"/>
                  </a:lnTo>
                  <a:lnTo>
                    <a:pt x="707" y="54"/>
                  </a:lnTo>
                  <a:lnTo>
                    <a:pt x="698" y="65"/>
                  </a:lnTo>
                  <a:lnTo>
                    <a:pt x="669" y="65"/>
                  </a:lnTo>
                  <a:lnTo>
                    <a:pt x="652" y="67"/>
                  </a:lnTo>
                  <a:lnTo>
                    <a:pt x="633" y="81"/>
                  </a:lnTo>
                  <a:lnTo>
                    <a:pt x="636" y="87"/>
                  </a:lnTo>
                  <a:lnTo>
                    <a:pt x="625" y="96"/>
                  </a:lnTo>
                  <a:lnTo>
                    <a:pt x="610" y="95"/>
                  </a:lnTo>
                  <a:lnTo>
                    <a:pt x="597" y="93"/>
                  </a:lnTo>
                  <a:lnTo>
                    <a:pt x="594" y="102"/>
                  </a:lnTo>
                  <a:lnTo>
                    <a:pt x="586" y="108"/>
                  </a:lnTo>
                  <a:lnTo>
                    <a:pt x="578" y="116"/>
                  </a:lnTo>
                  <a:lnTo>
                    <a:pt x="561" y="124"/>
                  </a:lnTo>
                  <a:lnTo>
                    <a:pt x="547" y="124"/>
                  </a:lnTo>
                  <a:lnTo>
                    <a:pt x="540" y="119"/>
                  </a:lnTo>
                  <a:lnTo>
                    <a:pt x="540" y="115"/>
                  </a:lnTo>
                  <a:lnTo>
                    <a:pt x="551" y="99"/>
                  </a:lnTo>
                  <a:lnTo>
                    <a:pt x="549" y="84"/>
                  </a:lnTo>
                  <a:lnTo>
                    <a:pt x="546" y="83"/>
                  </a:lnTo>
                  <a:lnTo>
                    <a:pt x="536" y="89"/>
                  </a:lnTo>
                  <a:lnTo>
                    <a:pt x="533" y="84"/>
                  </a:lnTo>
                  <a:lnTo>
                    <a:pt x="544" y="73"/>
                  </a:lnTo>
                  <a:lnTo>
                    <a:pt x="540" y="61"/>
                  </a:lnTo>
                  <a:lnTo>
                    <a:pt x="521" y="57"/>
                  </a:lnTo>
                  <a:lnTo>
                    <a:pt x="502" y="73"/>
                  </a:lnTo>
                  <a:lnTo>
                    <a:pt x="496" y="87"/>
                  </a:lnTo>
                  <a:lnTo>
                    <a:pt x="500" y="99"/>
                  </a:lnTo>
                  <a:lnTo>
                    <a:pt x="493" y="119"/>
                  </a:lnTo>
                  <a:lnTo>
                    <a:pt x="487" y="122"/>
                  </a:lnTo>
                  <a:lnTo>
                    <a:pt x="484" y="119"/>
                  </a:lnTo>
                  <a:lnTo>
                    <a:pt x="480" y="105"/>
                  </a:lnTo>
                  <a:lnTo>
                    <a:pt x="483" y="80"/>
                  </a:lnTo>
                  <a:lnTo>
                    <a:pt x="492" y="68"/>
                  </a:lnTo>
                  <a:lnTo>
                    <a:pt x="488" y="65"/>
                  </a:lnTo>
                  <a:lnTo>
                    <a:pt x="478" y="67"/>
                  </a:lnTo>
                  <a:lnTo>
                    <a:pt x="492" y="51"/>
                  </a:lnTo>
                  <a:lnTo>
                    <a:pt x="532" y="45"/>
                  </a:lnTo>
                  <a:lnTo>
                    <a:pt x="515" y="36"/>
                  </a:lnTo>
                  <a:lnTo>
                    <a:pt x="491" y="44"/>
                  </a:lnTo>
                  <a:lnTo>
                    <a:pt x="470" y="38"/>
                  </a:lnTo>
                  <a:lnTo>
                    <a:pt x="483" y="26"/>
                  </a:lnTo>
                  <a:lnTo>
                    <a:pt x="471" y="25"/>
                  </a:lnTo>
                  <a:lnTo>
                    <a:pt x="443" y="41"/>
                  </a:lnTo>
                  <a:lnTo>
                    <a:pt x="438" y="32"/>
                  </a:lnTo>
                  <a:lnTo>
                    <a:pt x="421" y="38"/>
                  </a:lnTo>
                  <a:lnTo>
                    <a:pt x="424" y="28"/>
                  </a:lnTo>
                  <a:lnTo>
                    <a:pt x="444" y="12"/>
                  </a:lnTo>
                  <a:lnTo>
                    <a:pt x="384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765600" y="6031080"/>
            <a:ext cx="2852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10160" y="2932200"/>
            <a:ext cx="520560" cy="6271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5979240" y="2930400"/>
            <a:ext cx="520920" cy="628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4944960" y="3508200"/>
            <a:ext cx="317520" cy="9968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57920" y="270036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03840" y="4317840"/>
            <a:ext cx="2118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ing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27400" y="266688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16200000">
            <a:off x="4943160" y="2082600"/>
            <a:ext cx="320760" cy="10000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60760" y="1406520"/>
            <a:ext cx="1101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6"/>
          <a:stretch/>
        </p:blipFill>
        <p:spPr>
          <a:xfrm>
            <a:off x="4559400" y="1612800"/>
            <a:ext cx="990360" cy="6224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7"/>
          <a:stretch/>
        </p:blipFill>
        <p:spPr>
          <a:xfrm>
            <a:off x="4648320" y="4584600"/>
            <a:ext cx="901440" cy="5461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054320" y="5470560"/>
            <a:ext cx="296568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How Will You Reac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rofiling (web, email, properties, direct mail, etc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segment tre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bandwidth &amp; accessi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78200" y="3914640"/>
            <a:ext cx="2016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at Will They Bu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pricing and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Targeted segment n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eatures and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316400" y="350676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16400" y="2954160"/>
            <a:ext cx="1569960" cy="682920"/>
          </a:xfrm>
          <a:prstGeom prst="rect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316400" y="279252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30380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88816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3121200"/>
            <a:ext cx="1981080" cy="3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Custom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Knowledge B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8"/>
          <a:stretch/>
        </p:blipFill>
        <p:spPr>
          <a:xfrm>
            <a:off x="2413080" y="2895480"/>
            <a:ext cx="965160" cy="6224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231920" y="380880"/>
            <a:ext cx="7238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572680" cy="52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keting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4800600" y="139716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5391000" y="1695600"/>
            <a:ext cx="1524240" cy="10191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5315040" y="2838240"/>
            <a:ext cx="16002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aprovech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19800" y="2319120"/>
            <a:ext cx="1600200" cy="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miti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04160" y="1447560"/>
            <a:ext cx="2019240" cy="35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rot="10705800">
            <a:off x="6202080" y="3351960"/>
            <a:ext cx="960480" cy="669960"/>
          </a:xfrm>
          <a:custGeom>
            <a:avLst/>
            <a:gdLst>
              <a:gd name="textAreaLeft" fmla="*/ 360 w 960480"/>
              <a:gd name="textAreaRight" fmla="*/ 961200 w 96048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a8b9e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rot="10800000">
            <a:no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1722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 plan de marketing es un esfuerzo integra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4202280"/>
            <a:ext cx="4330800" cy="2656080"/>
            <a:chOff x="380880" y="4202280"/>
            <a:chExt cx="4330800" cy="2656080"/>
          </a:xfrm>
        </p:grpSpPr>
        <p:sp>
          <p:nvSpPr>
            <p:cNvPr id="483" name=""/>
            <p:cNvSpPr/>
            <p:nvPr/>
          </p:nvSpPr>
          <p:spPr>
            <a:xfrm>
              <a:off x="380880" y="4202280"/>
              <a:ext cx="4248360" cy="2641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4" name="" descr=""/>
            <p:cNvPicPr/>
            <p:nvPr/>
          </p:nvPicPr>
          <p:blipFill>
            <a:blip r:embed="rId3"/>
            <a:stretch/>
          </p:blipFill>
          <p:spPr>
            <a:xfrm>
              <a:off x="1663560" y="4316400"/>
              <a:ext cx="1676520" cy="106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5" name=""/>
            <p:cNvGrpSpPr/>
            <p:nvPr/>
          </p:nvGrpSpPr>
          <p:grpSpPr>
            <a:xfrm>
              <a:off x="3625920" y="4735440"/>
              <a:ext cx="914040" cy="1049040"/>
              <a:chOff x="3625920" y="4735440"/>
              <a:chExt cx="914040" cy="1049040"/>
            </a:xfrm>
          </p:grpSpPr>
          <p:pic>
            <p:nvPicPr>
              <p:cNvPr id="4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25920" y="473544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55160" y="485352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885120" y="4986360"/>
                <a:ext cx="654840" cy="798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9" name=""/>
            <p:cNvSpPr/>
            <p:nvPr/>
          </p:nvSpPr>
          <p:spPr>
            <a:xfrm>
              <a:off x="1663560" y="5643360"/>
              <a:ext cx="1600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¡Cliente satisfech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4600" y="6030720"/>
              <a:ext cx="12189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SIM on-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92360" y="5930640"/>
              <a:ext cx="1219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Resultad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30400" y="6507000"/>
              <a:ext cx="2971800" cy="35136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2500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onitor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7"/>
            <a:stretch/>
          </p:blipFill>
          <p:spPr>
            <a:xfrm>
              <a:off x="609480" y="5208480"/>
              <a:ext cx="73836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 rot="10461600">
              <a:off x="990720" y="5040360"/>
              <a:ext cx="1371600" cy="419040"/>
            </a:xfrm>
            <a:custGeom>
              <a:avLst/>
              <a:gdLst/>
              <a:ahLst/>
              <a:rect l="l" t="t" r="r" b="b"/>
              <a:pathLst>
                <a:path w="864" h="384">
                  <a:moveTo>
                    <a:pt x="0" y="288"/>
                  </a:moveTo>
                  <a:lnTo>
                    <a:pt x="432" y="96"/>
                  </a:lnTo>
                  <a:lnTo>
                    <a:pt x="384" y="240"/>
                  </a:lnTo>
                  <a:lnTo>
                    <a:pt x="864" y="0"/>
                  </a:lnTo>
                  <a:lnTo>
                    <a:pt x="336" y="384"/>
                  </a:lnTo>
                  <a:lnTo>
                    <a:pt x="384" y="144"/>
                  </a:lnTo>
                  <a:lnTo>
                    <a:pt x="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4800600" y="412128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8"/>
          <a:stretch/>
        </p:blipFill>
        <p:spPr>
          <a:xfrm>
            <a:off x="8128080" y="4781520"/>
            <a:ext cx="453960" cy="762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5702400" y="5632560"/>
            <a:ext cx="493560" cy="5396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0"/>
          <a:stretch/>
        </p:blipFill>
        <p:spPr>
          <a:xfrm>
            <a:off x="7137360" y="5391000"/>
            <a:ext cx="738360" cy="7462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5003640" y="5151240"/>
            <a:ext cx="144792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Acciones/Planes/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156280" y="6229080"/>
            <a:ext cx="144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57800" y="5645160"/>
            <a:ext cx="330120" cy="609480"/>
          </a:xfrm>
          <a:prstGeom prst="upDownArrow">
            <a:avLst>
              <a:gd name="adj1" fmla="val 44231"/>
              <a:gd name="adj2" fmla="val 5192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35400">
            <a:off x="7289280" y="478116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518240" y="578628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Selección de la 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94560" y="446220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Obj Volumen y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08760" y="6386400"/>
            <a:ext cx="1911240" cy="351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7360" y="1409760"/>
            <a:ext cx="4254480" cy="2641680"/>
          </a:xfrm>
          <a:prstGeom prst="rect">
            <a:avLst/>
          </a:prstGeom>
          <a:solidFill>
            <a:srgbClr val="ffffff"/>
          </a:solidFill>
          <a:ln w="5724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79640" y="3687480"/>
            <a:ext cx="2662200" cy="351360"/>
          </a:xfrm>
          <a:prstGeom prst="rect">
            <a:avLst/>
          </a:prstGeom>
          <a:solidFill>
            <a:srgbClr val="b23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sit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1"/>
          <a:stretch/>
        </p:blipFill>
        <p:spPr>
          <a:xfrm>
            <a:off x="3790800" y="1600200"/>
            <a:ext cx="338400" cy="4428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 rot="2386800">
            <a:off x="3193560" y="1828800"/>
            <a:ext cx="381240" cy="838080"/>
          </a:xfrm>
          <a:prstGeom prst="upDownArrow">
            <a:avLst>
              <a:gd name="adj1" fmla="val 50000"/>
              <a:gd name="adj2" fmla="val 43762"/>
            </a:avLst>
          </a:prstGeom>
          <a:gradFill rotWithShape="0">
            <a:gsLst>
              <a:gs pos="0">
                <a:srgbClr val="b23008"/>
              </a:gs>
              <a:gs pos="100000">
                <a:srgbClr val="f9f1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81320" y="1873080"/>
            <a:ext cx="1600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De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2"/>
          <a:stretch/>
        </p:blipFill>
        <p:spPr>
          <a:xfrm>
            <a:off x="928800" y="1523880"/>
            <a:ext cx="338040" cy="4431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298440" y="190512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in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928800" y="2286000"/>
            <a:ext cx="338040" cy="4428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928800" y="3048120"/>
            <a:ext cx="338040" cy="4428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98440" y="265284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8440" y="3300480"/>
            <a:ext cx="16002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o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0920" y="2923920"/>
            <a:ext cx="2629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46360" y="1447920"/>
            <a:ext cx="228600" cy="2514600"/>
          </a:xfrm>
          <a:custGeom>
            <a:avLst/>
            <a:gdLst>
              <a:gd name="textAreaLeft" fmla="*/ 0 w 228600"/>
              <a:gd name="textAreaRight" fmla="*/ 8244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6279800">
            <a:off x="412560" y="377136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0723800">
            <a:off x="4183920" y="5905080"/>
            <a:ext cx="1066680" cy="8384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3115200">
            <a:off x="4140000" y="125712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2300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716256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5"/>
          <a:stretch/>
        </p:blipFill>
        <p:spPr>
          <a:xfrm>
            <a:off x="4956120" y="4191120"/>
            <a:ext cx="1444680" cy="10969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3145200">
            <a:off x="6127200" y="5181120"/>
            <a:ext cx="1371600" cy="41940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288"/>
                </a:moveTo>
                <a:lnTo>
                  <a:pt x="432" y="96"/>
                </a:lnTo>
                <a:lnTo>
                  <a:pt x="384" y="240"/>
                </a:lnTo>
                <a:lnTo>
                  <a:pt x="864" y="0"/>
                </a:lnTo>
                <a:lnTo>
                  <a:pt x="336" y="384"/>
                </a:lnTo>
                <a:lnTo>
                  <a:pt x="384" y="144"/>
                </a:lnTo>
                <a:lnTo>
                  <a:pt x="0" y="288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75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6"/>
          <a:stretch/>
        </p:blipFill>
        <p:spPr>
          <a:xfrm>
            <a:off x="7238880" y="2743200"/>
            <a:ext cx="16002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3124080" y="3505320"/>
            <a:ext cx="5754600" cy="2712960"/>
            <a:chOff x="3124080" y="3505320"/>
            <a:chExt cx="5754600" cy="2712960"/>
          </a:xfrm>
        </p:grpSpPr>
        <p:pic>
          <p:nvPicPr>
            <p:cNvPr id="530" name="" descr=""/>
            <p:cNvPicPr/>
            <p:nvPr/>
          </p:nvPicPr>
          <p:blipFill>
            <a:blip r:embed="rId2"/>
            <a:stretch/>
          </p:blipFill>
          <p:spPr>
            <a:xfrm>
              <a:off x="592272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31" name=""/>
            <p:cNvGraphicFramePr/>
            <p:nvPr/>
          </p:nvGraphicFramePr>
          <p:xfrm>
            <a:off x="312408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3" name=""/>
          <p:cNvSpPr/>
          <p:nvPr/>
        </p:nvSpPr>
        <p:spPr>
          <a:xfrm>
            <a:off x="1752480" y="22860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28600" y="1562040"/>
          <a:ext cx="8591400" cy="5027760"/>
        </p:xfrm>
        <a:graphic>
          <a:graphicData uri="http://schemas.openxmlformats.org/drawingml/2006/table">
            <a:tbl>
              <a:tblPr/>
              <a:tblGrid>
                <a:gridCol w="1295280"/>
                <a:gridCol w="2819520"/>
                <a:gridCol w="447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/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ción, revisión de conceptos, reglas del juego y conformación de equi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plan estratégico de mark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Engel, D. Kollat, R. Blackwell, Consumer Behavior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análisis de las necesidades a través de la seg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análisis del atractivo del mercado de referenc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DA y establecimiento de obje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McEwen, Construyendo diferenciación de marcas en una época de paridad de produ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desarrollo para el lanzamiento de nuevos product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304920" y="1600200"/>
          <a:ext cx="8381880" cy="4533840"/>
        </p:xfrm>
        <a:graphic>
          <a:graphicData uri="http://schemas.openxmlformats.org/drawingml/2006/table">
            <a:tbl>
              <a:tblPr/>
              <a:tblGrid>
                <a:gridCol w="1371600"/>
                <a:gridCol w="1904760"/>
                <a:gridCol w="51055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ón de estrate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R. Jack Trout, Posi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La elección de una estrategia de market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 Nunes, B. Johnson, Are some customers more equal than other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Aaker, What is a strong brand?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 Dolan, H. Simon, Price, costs and pro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Las decisiones estratégicas de comunic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3048120" y="3505320"/>
            <a:ext cx="5754600" cy="2712960"/>
            <a:chOff x="3048120" y="3505320"/>
            <a:chExt cx="5754600" cy="2712960"/>
          </a:xfrm>
        </p:grpSpPr>
        <p:pic>
          <p:nvPicPr>
            <p:cNvPr id="542" name="" descr=""/>
            <p:cNvPicPr/>
            <p:nvPr/>
          </p:nvPicPr>
          <p:blipFill>
            <a:blip r:embed="rId2"/>
            <a:stretch/>
          </p:blipFill>
          <p:spPr>
            <a:xfrm>
              <a:off x="584676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43" name=""/>
            <p:cNvGraphicFramePr/>
            <p:nvPr/>
          </p:nvGraphicFramePr>
          <p:xfrm>
            <a:off x="304812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6294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Plan de Marketing requiere de herramient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486080"/>
            <a:ext cx="16383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63868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5778360"/>
            <a:ext cx="2133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29680" y="4863960"/>
            <a:ext cx="124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4960" y="3835440"/>
            <a:ext cx="2209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74000" y="2548080"/>
            <a:ext cx="16383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65880" y="1646280"/>
            <a:ext cx="1384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59000" y="323856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9" idx="1"/>
          </p:cNvCxnSpPr>
          <p:nvPr/>
        </p:nvCxnSpPr>
        <p:spPr>
          <a:xfrm flipV="1" rot="10800000">
            <a:off x="5562000" y="2103840"/>
            <a:ext cx="1702440" cy="103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11" idx="1"/>
          </p:cNvCxnSpPr>
          <p:nvPr/>
        </p:nvCxnSpPr>
        <p:spPr>
          <a:xfrm flipV="1" rot="10800000">
            <a:off x="5495040" y="3539160"/>
            <a:ext cx="1617120" cy="146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13" idx="1"/>
          </p:cNvCxnSpPr>
          <p:nvPr/>
        </p:nvCxnSpPr>
        <p:spPr>
          <a:xfrm rot="10800000">
            <a:off x="5639760" y="4473000"/>
            <a:ext cx="1853280" cy="62928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 flipV="1" rot="5400000">
            <a:off x="4187520" y="4830120"/>
            <a:ext cx="453240" cy="199080"/>
          </a:xfrm>
          <a:prstGeom prst="bentConnector3">
            <a:avLst>
              <a:gd name="adj1" fmla="val 4976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"/>
          <p:cNvCxnSpPr/>
          <p:nvPr/>
        </p:nvCxnSpPr>
        <p:spPr>
          <a:xfrm rot="5400000">
            <a:off x="3821040" y="2291400"/>
            <a:ext cx="667440" cy="6310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" name=""/>
          <p:cNvCxnSpPr/>
          <p:nvPr/>
        </p:nvCxnSpPr>
        <p:spPr>
          <a:xfrm>
            <a:off x="1525320" y="2312640"/>
            <a:ext cx="1740600" cy="740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8" idx="3"/>
          </p:cNvCxnSpPr>
          <p:nvPr/>
        </p:nvCxnSpPr>
        <p:spPr>
          <a:xfrm>
            <a:off x="1574640" y="4020840"/>
            <a:ext cx="1728000" cy="32436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 flipV="1">
            <a:off x="1642680" y="4568040"/>
            <a:ext cx="166140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5720" y="1765440"/>
            <a:ext cx="92556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301920" y="5181480"/>
            <a:ext cx="1676520" cy="7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493040" y="4648320"/>
            <a:ext cx="1149480" cy="9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264440" y="1676520"/>
            <a:ext cx="1066680" cy="85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112160" y="3117960"/>
            <a:ext cx="1238040" cy="84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35040" y="4952880"/>
            <a:ext cx="1003320" cy="8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911760" y="1447920"/>
            <a:ext cx="1143000" cy="81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558720" y="3657600"/>
            <a:ext cx="1015920" cy="72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854680" y="5524560"/>
            <a:ext cx="844560" cy="8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4978440" y="46483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66040" y="6045120"/>
            <a:ext cx="19047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73520" y="2870280"/>
            <a:ext cx="2594520" cy="1914120"/>
            <a:chOff x="2873520" y="2870280"/>
            <a:chExt cx="2594520" cy="1914120"/>
          </a:xfrm>
        </p:grpSpPr>
        <p:graphicFrame>
          <p:nvGraphicFramePr>
            <p:cNvPr id="132" name=""/>
            <p:cNvGraphicFramePr/>
            <p:nvPr/>
          </p:nvGraphicFramePr>
          <p:xfrm>
            <a:off x="3277440" y="2870280"/>
            <a:ext cx="2190600" cy="1628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7440" y="2870280"/>
                      <a:ext cx="2190600" cy="162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2873520" y="4503240"/>
              <a:ext cx="921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19080" bIns="19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60"/>
                  <a:tab algn="l" pos="291960"/>
                  <a:tab algn="l" pos="438120"/>
                  <a:tab algn="l" pos="584280"/>
                  <a:tab algn="l" pos="730080"/>
                  <a:tab algn="l" pos="876240"/>
                  <a:tab algn="l" pos="1022400"/>
                  <a:tab algn="l" pos="1168560"/>
                  <a:tab algn="l" pos="1314360"/>
                  <a:tab algn="l" pos="1460520"/>
                  <a:tab algn="l" pos="1606680"/>
                  <a:tab algn="l" pos="1752480"/>
                  <a:tab algn="l" pos="1898640"/>
                  <a:tab algn="l" pos="2044800"/>
                  <a:tab algn="l" pos="2190600"/>
                  <a:tab algn="l" pos="2336760"/>
                  <a:tab algn="l" pos="2482920"/>
                  <a:tab algn="l" pos="2629080"/>
                  <a:tab algn="l" pos="2774880"/>
                  <a:tab algn="l" pos="2921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s: asistencia o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rán en equipos desarrollando un plan de marketing para una empres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integrante del equipo con acceso a información de la empresa selec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ximo 3, y cada uno de ellos con al menos 3 integrantes y máximo d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735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mat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do clase a clase será el informe final (impreso y anil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onsideraciones realizadas durante su presentación deberán ser incorporadas al informe parcial que se entregará la semana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algún equipo quiere presentar un informe escrito diferente del exhibido clase a clase, podrá hacerlo, pero no recibirá crédito extra por 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879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expositores se posicionarán como consultores de la empresa que les solicitó el plan de marketing. El resto de la clase, como su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ibertad para elegir una estructura para el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un equipo de aprox. dos personas expondrá un caso relevante de marketing, de la actualidad nacional o internacional para discusión en clases. A más tardar el día lunes de esa semana, el enunciado del caso deberá ser expuesto en el foro de U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cero al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2971800" y="3505320"/>
            <a:ext cx="5754600" cy="2712960"/>
            <a:chOff x="2971800" y="3505320"/>
            <a:chExt cx="5754600" cy="2712960"/>
          </a:xfrm>
        </p:grpSpPr>
        <p:pic>
          <p:nvPicPr>
            <p:cNvPr id="562" name="" descr=""/>
            <p:cNvPicPr/>
            <p:nvPr/>
          </p:nvPicPr>
          <p:blipFill>
            <a:blip r:embed="rId2"/>
            <a:stretch/>
          </p:blipFill>
          <p:spPr>
            <a:xfrm>
              <a:off x="577044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63" name=""/>
            <p:cNvGraphicFramePr/>
            <p:nvPr/>
          </p:nvGraphicFramePr>
          <p:xfrm>
            <a:off x="297180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180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346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ota final será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cálculo ponderado entre: Nota de concepto (20%), CTP’s (15%), Acción de Marketing (15%) y Examen (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ta de examen contempla el trabajo final entregado y su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probar es requisito tener nota superior a 4.0 en todos item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partir de la segunda clase se realizarán controles de lectura. La nota final se calculará en base a las 4 mejores 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6797520" y="3933720"/>
            <a:ext cx="18957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os evaluación nota de concep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ción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e un caso de la realidad nacional 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llegar a alguna concl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mplimiento de reg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escuchar y a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nalizar la crítica (constructiva) de manera pos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unicar las ideas relevantes de manera clara y directa, en el tiempo definido (capacidad de sínt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derazgo (dentro de su equipo y frente a sus compañ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buscar y aplicar ayuda (externa e inte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ortamiento adecuado a un clima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s exposiciones, no aburrir a la asamb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idáctica en Pow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7308720" y="4292640"/>
            <a:ext cx="213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3048120" y="3429000"/>
            <a:ext cx="5754600" cy="2712960"/>
            <a:chOff x="3048120" y="3429000"/>
            <a:chExt cx="5754600" cy="2712960"/>
          </a:xfrm>
        </p:grpSpPr>
        <p:pic>
          <p:nvPicPr>
            <p:cNvPr id="576" name="" descr=""/>
            <p:cNvPicPr/>
            <p:nvPr/>
          </p:nvPicPr>
          <p:blipFill>
            <a:blip r:embed="rId2"/>
            <a:stretch/>
          </p:blipFill>
          <p:spPr>
            <a:xfrm>
              <a:off x="5846760" y="37735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7" name=""/>
            <p:cNvGraphicFramePr/>
            <p:nvPr/>
          </p:nvGraphicFramePr>
          <p:xfrm>
            <a:off x="3048120" y="34290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4290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9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0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095640" cy="357336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580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ción de las clases de cáted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08:30 – 08:45 Control de l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:45 – 10:00 Discusión a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 – 10:15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15 – 10:45 Presentación Equip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45 – 11:15 Presentación Equip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15 – 11:45 Presentación Equip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3048120" y="3657600"/>
            <a:ext cx="5754600" cy="2712960"/>
            <a:chOff x="3048120" y="3657600"/>
            <a:chExt cx="5754600" cy="2712960"/>
          </a:xfrm>
        </p:grpSpPr>
        <p:pic>
          <p:nvPicPr>
            <p:cNvPr id="587" name="" descr=""/>
            <p:cNvPicPr/>
            <p:nvPr/>
          </p:nvPicPr>
          <p:blipFill>
            <a:blip r:embed="rId2"/>
            <a:stretch/>
          </p:blipFill>
          <p:spPr>
            <a:xfrm>
              <a:off x="58467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88" name=""/>
            <p:cNvGraphicFramePr/>
            <p:nvPr/>
          </p:nvGraphicFramePr>
          <p:xfrm>
            <a:off x="30481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0" name=""/>
          <p:cNvSpPr/>
          <p:nvPr/>
        </p:nvSpPr>
        <p:spPr>
          <a:xfrm>
            <a:off x="1752480" y="2209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859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yan adecuadamente el tiempo de pres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lidad 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ifica: contenido, forma, y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fíen en la intuición sol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produzcan debe ser v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en desde el prin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carta Gantt hagan previsiones de preparación del material para la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imagen vale por mil p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6732720" y="4797360"/>
            <a:ext cx="21319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598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99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1" name=""/>
          <p:cNvSpPr/>
          <p:nvPr/>
        </p:nvSpPr>
        <p:spPr>
          <a:xfrm>
            <a:off x="14479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778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al de este curso habrán sido capaces d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arrollar un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render a analizar accion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778360" y="4076640"/>
            <a:ext cx="3365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609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10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2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666880" y="2057400"/>
          <a:ext cx="3984840" cy="454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057400"/>
                    <a:ext cx="398484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2415960" y="175248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844960" y="182880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016160" y="121932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124080" y="3276720"/>
            <a:ext cx="5754600" cy="2712960"/>
            <a:chOff x="3124080" y="3276720"/>
            <a:chExt cx="5754600" cy="271296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922720" y="36212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0" name=""/>
            <p:cNvGraphicFramePr/>
            <p:nvPr/>
          </p:nvGraphicFramePr>
          <p:xfrm>
            <a:off x="3124080" y="32767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2767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" name=""/>
          <p:cNvSpPr/>
          <p:nvPr/>
        </p:nvSpPr>
        <p:spPr>
          <a:xfrm>
            <a:off x="1676520" y="213372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486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421000"/>
            <a:ext cx="7321320" cy="17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5360" indent="-22536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ive me six hours to chop down a tree and I will spend the first four sharpening the axe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5734080"/>
            <a:ext cx="510840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marL="290520" indent="-290520" algn="ctr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, estrategias y planes de acción que permiten la consecución de los objetivos dictados a nivel corporativo, año a año,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-308520">
              <a:lnSpc>
                <a:spcPct val="11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árquicamente el desarrollo de un plan de marketing se puede realizar en las siguientes 7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Interno (incl. cos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ción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94920" y="-360"/>
            <a:ext cx="857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 - F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657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4038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44956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48769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53341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57150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61722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53920" y="652320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Cutropía Fernández: El 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47712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de Marketing: Construcción en espir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03280" y="1844640"/>
          <a:ext cx="6553440" cy="367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844640"/>
                    <a:ext cx="655344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480" y="1295280"/>
            <a:ext cx="8209080" cy="5562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8688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52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ción de mercad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udio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afectan el análisis ex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segment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es competidores y su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mercialización de compet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encias del mercado en la 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975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420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33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278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136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31200" y="13381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17:27:29Z</dcterms:created>
  <dc:creator>KPMG</dc:creator>
  <dc:description/>
  <dc:language>en-US</dc:language>
  <cp:lastModifiedBy>Jorge</cp:lastModifiedBy>
  <cp:lastPrinted>2000-05-08T17:12:16Z</cp:lastPrinted>
  <dcterms:modified xsi:type="dcterms:W3CDTF">2005-09-29T20:06:47Z</dcterms:modified>
  <cp:revision>447</cp:revision>
  <dc:subject/>
  <dc:title>UCAD Call Centre Transition Plan</dc:title>
</cp:coreProperties>
</file>