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FD73-0115-4373-B3C0-BBFA50AE3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3677-75AD-4D68-9A4D-CE23543A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BDAD-74C1-4332-9099-F9862E72F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4B20-319B-4BBA-8AF3-81955EAF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64A7-EED2-44C5-9B95-1EDDC874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D6F2-9F57-4139-A279-C9101820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ED1D-504E-4E57-BB34-C096D44A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8ED3-ED4C-4C0D-A6F9-DB02F394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5B10-22D1-4C07-A52D-FB26C6FE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391C-8F03-4F02-86A2-B815CAF8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F050-9116-4F6E-AB21-9587AB18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8DFC-14F5-4A9F-AFB7-D806B27C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0B11-6239-442E-957B-F91C3EB5A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br>
              <a:rPr sz="5400"/>
            </a:br>
            <a:r>
              <a:rPr b="1" lang="es-ES_tradnl" sz="5400" spc="-1" strike="noStrike">
                <a:solidFill>
                  <a:srgbClr val="000000"/>
                </a:solidFill>
                <a:latin typeface="Comic Sans MS"/>
              </a:rPr>
              <a:t>IQ40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44956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fesor: M.Elena Lienqu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Jacques Wier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partamento de Ingeniería de Química y Bio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ono: 6784709– e-mail: mlienque@ing.uchile.c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Producción de celulo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e exporta 2 millones de toneladas anuales de celul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ulos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mbre genérico para un amplio rango de productos compuestos por fibras naturales, contenido principalmente en árboles y otras plan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ás información en: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ttp://www.papelnet.cl/celulosa/proceso_06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eucalipto01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3600360" cy="4114800"/>
          </a:xfrm>
          <a:prstGeom prst="rect">
            <a:avLst/>
          </a:prstGeom>
          <a:ln w="0">
            <a:noFill/>
          </a:ln>
        </p:spPr>
      </p:pic>
      <p:pic>
        <p:nvPicPr>
          <p:cNvPr id="62" name="pradiata3" descr=""/>
          <p:cNvPicPr/>
          <p:nvPr/>
        </p:nvPicPr>
        <p:blipFill>
          <a:blip r:embed="rId2"/>
          <a:stretch/>
        </p:blipFill>
        <p:spPr>
          <a:xfrm>
            <a:off x="5153040" y="2514600"/>
            <a:ext cx="3267000" cy="3733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089680" y="727200"/>
            <a:ext cx="32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ateria pri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productivo_celulosa_kraft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6094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roceso Kra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productivo_celulosa_01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724280" y="457200"/>
            <a:ext cx="37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reparación de la mad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productivo_celulosa_02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689880" y="34596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productivo_celulosa_03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0989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89680" y="270000"/>
            <a:ext cx="29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Blanqu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productivo_celulosa_05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12760" y="41400"/>
            <a:ext cx="504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6440" y="117360"/>
            <a:ext cx="80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austificación – Recuperación de cal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productivo_celulosa_06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12760" y="4613400"/>
            <a:ext cx="283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ratamiento de eflu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ramide_celulosa" descr=""/>
          <p:cNvPicPr/>
          <p:nvPr/>
        </p:nvPicPr>
        <p:blipFill>
          <a:blip r:embed="rId1"/>
          <a:stretch/>
        </p:blipFill>
        <p:spPr>
          <a:xfrm>
            <a:off x="0" y="2025720"/>
            <a:ext cx="9144000" cy="2805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203480" y="803160"/>
            <a:ext cx="32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ciclaj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Ingeniería Química y Biotecnología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¿Que es un Ingeniero Químico o en Biotecnologí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¿Cómo y porque se desarrolló la i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nge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r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ía químic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¿Qué obstáculos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ha enfrentado y sobrepasado la profesión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¿Qué contribución han hecho los i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ng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químicos y biotecnólogos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¿Cómo la profesión ha crecido y cambiado en el último siglo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What is a Chemical Engine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Engineer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who manufactures chemic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Chemist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who works in a factory,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A glorified </a:t>
            </a: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Plumber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1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None of the ab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All right, so w</a:t>
            </a: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hat is a 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Chemical Engine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is true that chemical engineers are comfortable with chemistry, but they do much more with this knowledge than just make chemic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just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engineers employ mathematics, physics, and the engineering art to overcome technical problems in a safe and economical fashion. Yet, it is the chemical engineer alone that draws upon the vast and powerful science of chemistry to solve a wide range of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Historia de la ingeniería de procesos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os primeros procesos nacen de las necesidades básicas del hombre: alimentarse, abrigarse, desplazarse, 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ambio progresivo de esca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Nuevo dominio de la ener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parición de nuevos mater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ara saber má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ttp://www.pafko.com/history//h_intro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ngeniería Quím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ímica de ba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ímica mi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ímica orgánica: bioquímica, biotecnología, carboquímica, petro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química: productos “formulado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rmácia humana y veterin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alurgia química: metalurgía extrractiva y tratamient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Química mi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artir de algunas materias primas básicas (aire,agua, sal, azufre, gaz natural, calcario,arena, fosfatos,...), se producen los mayores productos químicos bás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yores producciones: ácido sulfúrico, nitrógeno, etileno, oxígeno, amoniaco, cal, ácido fosfórico, soda, clo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rocesos bás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¿Como se producen los siguientes productos químic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Ácido sulfú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 apag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Ácido fosfó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onia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elulosa03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2629080" cy="3429000"/>
          </a:xfrm>
          <a:prstGeom prst="rect">
            <a:avLst/>
          </a:prstGeom>
          <a:ln w="0">
            <a:noFill/>
          </a:ln>
        </p:spPr>
      </p:pic>
      <p:pic>
        <p:nvPicPr>
          <p:cNvPr id="58" name="celulosa02" descr=""/>
          <p:cNvPicPr/>
          <p:nvPr/>
        </p:nvPicPr>
        <p:blipFill>
          <a:blip r:embed="rId2"/>
          <a:stretch/>
        </p:blipFill>
        <p:spPr>
          <a:xfrm>
            <a:off x="5334120" y="2514600"/>
            <a:ext cx="2628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2T00:03:39Z</dcterms:created>
  <dc:creator>Catedra medio ambiente</dc:creator>
  <dc:description/>
  <dc:language>en-US</dc:language>
  <cp:lastModifiedBy>Maria Elena Lienqueo C.</cp:lastModifiedBy>
  <dcterms:modified xsi:type="dcterms:W3CDTF">2005-07-27T19:30:16Z</dcterms:modified>
  <cp:revision>15</cp:revision>
  <dc:subject/>
  <dc:title>Análisis de Procesos IQ40A</dc:title>
</cp:coreProperties>
</file>