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FF0-DADA-40CD-8AEC-51C7CFE4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456-8F6C-4BD3-A860-EF165B8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009-9DE3-4306-B590-5F9FD281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5DA-10EC-423B-9155-321AD38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BCC-7BDC-4509-A55E-64D80DB1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3CD-3623-4DAF-ADE3-55F79928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215-0DD4-4CF6-9ED2-1AB9C0C7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B04-4AE4-4D3A-B093-2DE90880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E95-E93A-435A-9F61-07B24075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10B-207C-4B7A-8B15-1A9B90F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F68-EF5F-4BC0-9E49-F5DE334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080-3B72-4261-B284-472EAA1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5EDE-DFEA-491D-B692-BE536E02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956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Jacques Wier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Producción de celul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exporta 2 millones de toneladas anuales de celul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lo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mbre genérico para un amplio rango de productos compuestos por fibras naturales, contenido principalmente en árboles y otras pla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información en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pelnet.cl/celulosa/proceso_06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ucalipto0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radiata3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productivo_celulosa_kraft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productivo_celulosa_0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productivo_celulosa_0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productivo_celulosa_03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productivo_celulosa_05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productivo_celulosa_0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ramide_celulosa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Química y 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e es un Ingeniero Químico o en Biotecnologí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y porque se desarrolló la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ía quím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obstácul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a enfrentado y sobrepasado la profesió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contribución han hecho los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uímicos y biotecnólog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la profesión ha crecido y cambiado en el último sigl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What is a 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ngine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manufactures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Chemist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works in a factory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glorified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lumb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ll right, so w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hat is a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true that chemical engineers are comfortable with chemistry, but they do much more with this knowledge than just make chemic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engineers employ mathematics, physics, and the engineering art to overcome technical problems in a safe and economical fashion. Yet, it is the chemical engineer alone that draws upon the vast and powerful science of chemistry to solve a wide range o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Historia de la ingeniería de proceso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os primeros procesos nacen de las necesidades básicas del hombre: alimentarse, abrigarse, desplazarse,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mbio progresivo de 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uevo dominio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arición de nuevos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a saber m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fko.com/history//h_intro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geniería 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ímica de 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orgánica: bioquímica, biotecnología, carboquímica, petro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química: productos “formulad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rmácia humana y veteri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lurgia química: metalurgía extrractiva y tratami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ímica mi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artir de algunas materias primas básicas (aire,agua, sal, azufre, gaz natural, calcario,arena, fosfatos,...), se producen los mayores productos químicos bás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ores producciones: ácido sulfúrico, nitrógeno, etileno, oxígeno, amoniaco, cal, ácido fosfórico, soda, cl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ces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Como se producen los siguientes productos químic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sulfú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 apa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fosf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n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elulosa03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62908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celulosa02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62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 C.</cp:lastModifiedBy>
  <dcterms:modified xsi:type="dcterms:W3CDTF">2005-07-27T19:30:16Z</dcterms:modified>
  <cp:revision>15</cp:revision>
  <dc:subject/>
  <dc:title>Análisis de Procesos IQ40A</dc:title>
</cp:coreProperties>
</file>