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1CE-809C-40FB-9745-6D6519BF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6E9-E3D7-4DA0-9B16-C1111443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A55-8A5A-44CC-8D5B-2B104D13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5EE-710B-4A22-8436-B3EFFEDB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360-8072-4114-BB3B-4FB4C72A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EF9-EEDF-4E85-94C4-5F24F9D3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A5E-9066-40B3-B264-C27441BB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18E-96D3-45CE-89FB-D7E1D063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CF4-7356-4214-BEA1-25D6F3A7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1D9-5F2E-4D13-AE44-E2D9D861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7ED-72B8-4B09-BF30-16069139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3EC-500E-467F-8F8C-48B7DB3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E6F5-6AB4-41E1-90F0-023DC1F7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esión es lo suficientemente baja para que se considere que el gas se comporta idealment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Cuánto calor se debe extraer/agregar para que el flujo salga a 450º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828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838080"/>
            <a:ext cx="8610480" cy="3492720"/>
            <a:chOff x="533520" y="838080"/>
            <a:chExt cx="8610480" cy="3492720"/>
          </a:xfrm>
        </p:grpSpPr>
        <p:sp>
          <p:nvSpPr>
            <p:cNvPr id="96" name=""/>
            <p:cNvSpPr/>
            <p:nvPr/>
          </p:nvSpPr>
          <p:spPr>
            <a:xfrm>
              <a:off x="3657600" y="1371600"/>
              <a:ext cx="251460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1676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209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572000" y="23623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1430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2286000"/>
              <a:ext cx="281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838080"/>
              <a:ext cx="2819520" cy="34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.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mol 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 mol 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75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62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397160"/>
          <a:ext cx="7315200" cy="4512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295640"/>
                <a:gridCol w="1371600"/>
                <a:gridCol w="1523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 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óxido de carbono (CO) se quema con un exceso de 100% de aire alimentado a 100ºC. Determina la temperatura de l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11280" y="3573360"/>
            <a:ext cx="4343400" cy="1675800"/>
            <a:chOff x="2411280" y="3573360"/>
            <a:chExt cx="4343400" cy="1675800"/>
          </a:xfrm>
        </p:grpSpPr>
        <p:sp>
          <p:nvSpPr>
            <p:cNvPr id="49" name=""/>
            <p:cNvSpPr/>
            <p:nvPr/>
          </p:nvSpPr>
          <p:spPr>
            <a:xfrm>
              <a:off x="3858840" y="3573360"/>
              <a:ext cx="198144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1280" y="4182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40280" y="418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849560" y="4716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24000" y="4365720"/>
            <a:ext cx="1008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5084640"/>
            <a:ext cx="14400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79 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645000"/>
            <a:ext cx="10796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16360" y="3141360"/>
            <a:ext cx="719280" cy="93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=0 Adiab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55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2642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=    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9405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,1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2,200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2,2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e: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·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00% exces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 (0,79/0,21) = 3,76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eando los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,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3,76 N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de las entalpías de cad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26.420 + 6,97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7,1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6,95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1·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6.420 + 6,97(100-25)) = -25.9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 (100-25) + 3,76·(6,95 (100-25)) = 530+3,76(5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(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)+1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+3,76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.900 +530+3,76(52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ej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70.640/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3716280"/>
          <a:ext cx="7956720" cy="2897280"/>
        </p:xfrm>
        <a:graphic>
          <a:graphicData uri="http://schemas.openxmlformats.org/drawingml/2006/table">
            <a:tbl>
              <a:tblPr/>
              <a:tblGrid>
                <a:gridCol w="1819440"/>
                <a:gridCol w="1135080"/>
                <a:gridCol w="974520"/>
                <a:gridCol w="1309680"/>
                <a:gridCol w="1170000"/>
                <a:gridCol w="154800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jercicio 4.5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óxido de etileno se forma por la oxidación catalítica del etileno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1/2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reacción complementaria no deseada es la combustión para formar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reacción d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3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+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el diagrama de flujo es el sigui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5:48:30Z</dcterms:created>
  <dc:creator>Maria Elena Lienqueo</dc:creator>
  <dc:description/>
  <dc:language>en-US</dc:language>
  <cp:lastModifiedBy>Maria Elena Lienqueo</cp:lastModifiedBy>
  <dcterms:modified xsi:type="dcterms:W3CDTF">2005-09-23T15:49:12Z</dcterms:modified>
  <cp:revision>1</cp:revision>
  <dc:subject/>
  <dc:title>Balances de Energía</dc:title>
</cp:coreProperties>
</file>