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BF5-234A-482F-B919-9E2FDFF6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C98-9289-428F-8C45-C6D1A524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BE18-A3AF-47E2-BDFE-9070C6346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AC7-DD02-4625-A7F2-FCE0376C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933-D9B4-485D-97CE-F8D752917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3112-2F63-423C-BCE9-3CF2C08F3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9AE4-EE0A-4716-B015-838D6BFE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7A56-C87A-48E6-B433-843EBBE4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4D30-2190-46A0-8953-74F174176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DB6-0F68-4F23-978B-D9E1DCD67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E2C-6981-42D9-B3DE-0FCA16DB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940D-26BD-4CF4-AA1B-CDB86A36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8064-EA92-42C3-907D-4F13A7FED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1523520"/>
            <a:ext cx="7010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EN ESTADO NO ESTACIONARIO</a:t>
            </a:r>
            <a:r>
              <a:rPr b="1" lang="es-ES" sz="3600" spc="-1" strike="noStrike">
                <a:solidFill>
                  <a:srgbClr val="000000"/>
                </a:solidFill>
                <a:latin typeface="Comic Sans MS"/>
              </a:rPr>
              <a:t> CON REACCION QUIM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4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n una planta química existe un reactor (tanque perfectamente agitado) de 800 lt. Este tanque contiene un compuesto A con una concentración de Ca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85 mol/lt. En un cierto instante, se agrega 150 lt de una solución de un compuesto B con una concentración de Cb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5 mol/lt. En el reactor se produce la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+ B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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+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velocidad de desaparición de A y B es:- r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a C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2.766*10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 (-13170/T)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 en ºK y ka en 1/se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73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la reacción ocurre a 20ºC ¿ Cuál es el tiempo necesario para que reaccione el 95% del compuesto B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jercicio 5.5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 un estanque perfectamente mezclado, se alimentan N gmol/min de CO puro y M gmol/min de oxígeno puro. La densidad molar de los gases dentro del estanque es C gmol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El volumen del estanque es V 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curre la siguiente reac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+ 1/2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una tasa de reacción r (gmol de CO consumido/cm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n), considerando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) volumen, tª y presión del estanque son cst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) la mezcla gaseosa es ideal (PV = nRT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) la tasa de reacción r es constante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119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) el estanque contiene inicialmente sólo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cuent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las variaciones de las fracciones molares en el tiemp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los valores en estado estacionar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olución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pecie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r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 = 1-x-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: estan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: N (gmol/min) de 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CV) = r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 -  x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r rV moles de CO consumidos se forman rV moles de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consumen  ½ rV moles de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y C V) = M - yQ –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2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La densidad es constante puesto que P y T son constantes y el gas es id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Volumen consta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rV - x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x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M -  yQ -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y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Q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y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M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V  2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ciones iniciales: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 = 0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soluciones de las ecuaciones diferenciales s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 K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(-Qt/CV)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272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emplazando las condiciones inicial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 =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e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(t)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e </a:t>
            </a:r>
            <a:r>
              <a:rPr b="0" lang="es-ES_tradnl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Qt/V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Q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(t) = 1 - x(t) - y(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 balance de masa global (la 3ª ecuación) obtenemos el valor de Q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C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 = M + N - Q + (rV - rV - 1/2 r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Wingdings 3"/>
                <a:ea typeface="Wingdings 3"/>
              </a:rPr>
              <a:t>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 = M + N - 1/2 r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79246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JO: C es una densidad molar y CV son moles totales (en este caso se “generan" mol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mplazando el valor de Q, y tomando el límite para t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se llega 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rV/N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+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V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  2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x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Symbol"/>
                <a:ea typeface="Symbol"/>
              </a:rPr>
              <a:t></a:t>
            </a:r>
            <a:r>
              <a:rPr b="0" lang="es-ES_tradnl" sz="2800" spc="-1" strike="noStrike" u="sng" baseline="-30000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x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1 -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1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V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28240" y="3049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jercicio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upuest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2 corrientes de reactantes (entrada) y una corriente de producto (salida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3962520"/>
            <a:ext cx="2514600" cy="1752480"/>
          </a:xfrm>
          <a:prstGeom prst="can">
            <a:avLst>
              <a:gd name="adj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3352680" y="2971440"/>
            <a:ext cx="1143000" cy="144792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1447920"/>
              <a:gd name="textAreaBottom" fmla="*/ 14482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rot="16200000">
            <a:off x="5256720" y="3047760"/>
            <a:ext cx="1143000" cy="1295640"/>
          </a:xfrm>
          <a:custGeom>
            <a:avLst/>
            <a:gdLst>
              <a:gd name="textAreaLeft" fmla="*/ -360 w 1143000"/>
              <a:gd name="textAreaRight" fmla="*/ 1143000 w 1143000"/>
              <a:gd name="textAreaTop" fmla="*/ 0 h 1295640"/>
              <a:gd name="textAreaBottom" fmla="*/ 1296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5181480"/>
            <a:ext cx="1295640" cy="304920"/>
          </a:xfrm>
          <a:prstGeom prst="rightArrow">
            <a:avLst>
              <a:gd name="adj1" fmla="val 50000"/>
              <a:gd name="adj2" fmla="val 1062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04812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3124080"/>
            <a:ext cx="175248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ctante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391520" y="4495680"/>
            <a:ext cx="175248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to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0320" y="6095880"/>
            <a:ext cx="66045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no hay transporte por límites no defini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tiene la re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resamos las “concentraciones” (densidades molares) en moles por unidad de volumen (C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PM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estado no estacionario, podemos expresar tantos balances independientes como especies presentes en el siste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7676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1981080" y="3276720"/>
                <a:ext cx="487692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ρ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762120" y="20574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s de masa por especies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8632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133720" y="1905120"/>
                <a:ext cx="5410080" cy="112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9" name=""/>
          <p:cNvSpPr/>
          <p:nvPr/>
        </p:nvSpPr>
        <p:spPr>
          <a:xfrm>
            <a:off x="35956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286000" y="3429000"/>
                <a:ext cx="525780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3809880" y="419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2286000" y="5029200"/>
                <a:ext cx="4495680" cy="115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"/>
          <p:cNvSpPr/>
          <p:nvPr/>
        </p:nvSpPr>
        <p:spPr>
          <a:xfrm>
            <a:off x="3733920" y="44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a ecuación de reacción química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 + B </a:t>
            </a:r>
            <a:r>
              <a:rPr b="1" lang="es-ES_tradnl" sz="3200" spc="-1" strike="noStrike">
                <a:solidFill>
                  <a:srgbClr val="ff3300"/>
                </a:solidFill>
                <a:latin typeface="Symbol"/>
                <a:ea typeface="Symbol"/>
              </a:rPr>
              <a:t></a:t>
            </a:r>
            <a:r>
              <a:rPr b="1" lang="es-ES_tradnl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bemos que por cada mol que se consume de A, se consume 1 mol de B y se generan n moles de D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uego, podemos relacionar los términos de generación y consum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r</a:t>
            </a:r>
            <a:r>
              <a:rPr b="0" lang="es-ES_tradnl" sz="32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 = 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1426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60240" indent="-660240" algn="just">
              <a:spcBef>
                <a:spcPts val="799"/>
              </a:spcBef>
              <a:buClr>
                <a:srgbClr val="000000"/>
              </a:buClr>
              <a:buFont typeface="Times New Roman"/>
              <a:buAutoNum type="roman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además consideramos densidad y volumen constante,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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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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V = 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llega al siguiente sistema de ecuaciones diferenci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6024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63384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612880" y="2666880"/>
                <a:ext cx="39164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0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143000" y="152388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3429000" y="4343400"/>
                <a:ext cx="24750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3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 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e1e1f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381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lance con reacción química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2912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68596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622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028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828800" y="1981080"/>
                <a:ext cx="518652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35100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905120" y="3581280"/>
                <a:ext cx="510516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- 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376704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514600" y="5029200"/>
                <a:ext cx="3886200" cy="9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D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 3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= - 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1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+ 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2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 3</m:t>
                            </m:r>
                          </m:sub>
                        </m:sSub>
                      </m:sub>
                    </m:sSub>
                    <m:r>
                      <m:rPr>
                        <m:lit/>
                        <m:nor/>
                      </m:rPr>
                      <m:t xml:space="preserve"> + 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914400" y="1143000"/>
            <a:ext cx="7696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or especie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6T14:09:53Z</dcterms:created>
  <dc:creator>Catedra medio ambiente</dc:creator>
  <dc:description/>
  <dc:language>en-US</dc:language>
  <cp:lastModifiedBy>Maria Elena Lienqueo C.</cp:lastModifiedBy>
  <dcterms:modified xsi:type="dcterms:W3CDTF">2005-09-30T21:14:24Z</dcterms:modified>
  <cp:revision>61</cp:revision>
  <dc:subject/>
  <dc:title>Análisis de Procesos</dc:title>
</cp:coreProperties>
</file>