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B729-1A87-4A10-9AD4-873331F1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E7C-7814-44BF-A46C-1EE04503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BC6-0D0E-44AA-ADC5-9B6378E6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0E6-EECB-4702-A00D-74CE8773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01E9-FEE7-417E-BC1A-956C2787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0064-0249-4991-8EB7-664E51DC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952F-6E6A-47CB-9894-CE7234F6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F22-B78E-4C35-B03F-A191E639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7A6-7370-4BB6-B0FC-BDE962AB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2E66-C82A-431A-9DDA-C0AEC963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F40-4510-4958-B77C-2F58967F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6848-E7E8-4E31-BBEF-F3988B3E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AF8C-D610-4D57-B2D4-B914D34F9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nálisis de Proces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IA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ule el balance diferencial de energía e integre la ecuación para obtener una relación entre la temperatura adimensional (T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 función del número adimensional (U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/(G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)) y (W/W*), c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 el peso del contenido del estanque, l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* el peso del contenido del estanque cuando está lleno, l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 el flujo suspensión, lb/h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temperatura del vapor,º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 la temperatura de la suspensión, º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 temperatura de alimentación de la suspensión, º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 el calor específico de la suspensión, BTU/(lb ºF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ransferencia de calor entre la camisa y la suspensión en el estanque se puede expresar según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 = U A 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) con U: coef. de transf. de cal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 área de transf de calor del estanque, ft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: área de transf de calor cuando el estanque esta lleno, ft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Calcule las temperaturas de la suspensión cuando el estanque está hasta la mitad de su capacidad y cuando está ll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precia las energías cinética y potencial frente a la energía intern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no hay ingreso de energía por límites indefinidos (B =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trabajo en el eje y el sistema es adiabático (W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y q = 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s consideraciones, el balance se reduce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385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438280" y="5715000"/>
                <a:ext cx="441972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U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utilizando U = H - PV 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sistemas líquidos, el término d(PV) es despreciable, la ecuación tiene la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ndo que H es una función de T, P y el número de moles de las especies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33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752480" y="1752480"/>
                <a:ext cx="556272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H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P V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37767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209680" y="3809880"/>
                <a:ext cx="381024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3433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5791320"/>
                <a:ext cx="52578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oniendo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es despreciable en sistemas líquidos, y es cero para gases ideal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Dado que H(T)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Cp (T 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luego,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e definen entalpías molares parciale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 =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El términ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se puede obtener a partir de los balances de masa dado que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i 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ueg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6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ficiente estequiométrico, con signo positivo si es producto y negativo si es reac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336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86000" y="4724280"/>
                <a:ext cx="53341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r 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ando los puntos 3 y 4, el product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resulta ser igual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stas consideraciones en la ecuación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otra parte, si referimos las entalpías a la temperatura en el sistema 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0496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066680" y="1905120"/>
                <a:ext cx="67057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limUpp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i1</m:t>
                        </m:r>
                      </m:lim>
                    </m:limLow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V r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2652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33520" y="3657600"/>
                <a:ext cx="81532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V r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37479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819520" y="5486400"/>
                <a:ext cx="38098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limLow>
                      <m:e>
                        <m:limUpp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/>
                            </m:nary>
                          </m:e>
                          <m:li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lim>
                        </m:limUpp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lim>
                    </m:limLow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d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ntalpía de la mezcla a la temperatura de entrada.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alpía de la mezcla a la temperatura del proc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utilizamos la definición de Cp promedio y reemplazamos en la ecuacion de balance de energía anterior, tenem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más, por termodinámica, se sabe que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bien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1/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todo en la ecuación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098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219320" y="3962520"/>
                <a:ext cx="693396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4526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09480" y="6019920"/>
                <a:ext cx="81536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ualando esta última expresión con la ecuación desarrollada por la regla de la cadena, se tie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8604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04920" y="3124080"/>
                <a:ext cx="8458200" cy="27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 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1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2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V r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= </m:t>
                        </m:r>
                      </m:e>
                      <m:e/>
                      <m:e/>
                      <m:e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</m:e>
                        </m:ba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_ 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1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-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 2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iendo términos y utilizand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o el calor de reacción igual a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ob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soluciones ideales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en general el término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es despreciable frente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ste término sólo será importante cuando los efectos de calor de mezcla sean considerables. Finalmente, la ecuación de balance se reduce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co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765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04920" y="2819520"/>
                <a:ext cx="853416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 1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 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V r </m:t>
                    </m:r>
                    <m:r>
                      <m:t xml:space="preserve">Δ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3219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52480" y="5932440"/>
                <a:ext cx="54864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V r </m:t>
                    </m:r>
                    <m:r>
                      <m:t xml:space="preserve">Δ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umulación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 + 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+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U +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ía interna, función de la temperatura, volumen, densidad, pre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ía pot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ía cin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definidos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│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rresponden a las respectivas energías por unidad de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ujo neto a través de limites indefinidos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or recibido y trabajo realizad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todos estos términos en la expresión de balance, dividiendo po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, haciendo tender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a cero se obtiene la expres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término de trabajo total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rmalmente se descompone en el trabajo asociado al ingreso y salida de material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el resto del trabajo, que se denomina trabajo del eje (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es decir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0" y="2743200"/>
                <a:ext cx="91440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U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B + q -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calcular el trabajo asociado al flujo de material (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se debe considerar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F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F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aplic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ia que recorre el material a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uzar los límites del sist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denotamos por P como la presión en el límite y S el área transversal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(P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el trabajo por unidad de masa, aplicando el concepto de densidad, tiene la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862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324480" y="5715000"/>
                <a:ext cx="28195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F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ρ</m:t>
                        </m:r>
                      </m:den>
                    </m:f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n el balance de energía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G Times 12pt Bold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otra parte, la entalpía se define como: H = U + P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por unidad de masa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reemplazar en la ecuación anterior del balance se ob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energía no estacionar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0" y="1905120"/>
                <a:ext cx="89917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U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B+ q -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0" y="5334120"/>
                <a:ext cx="88390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U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+ B + q -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consideran las siguientes simpl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sprecia las energías cinética y potencial frente a la energía intern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flujo de energía por límites indef (B = 0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 algn="just">
              <a:spcBef>
                <a:spcPts val="7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trabajo de eje (W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as consideraciones, el balance de la ecuación se reduce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o utilizando la definición:U = H - PV, se 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si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971800" y="4267080"/>
                <a:ext cx="46483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U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048120" y="5715000"/>
                <a:ext cx="55623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H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 P V 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_ </m:t>
                    </m:r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sistemas líquidos, el término d(PV) es despreciable, con esto la ecuación tiene la for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busca determinar la variación de la temperatura en el tiempo se hace necesario utiliza la definición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 C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ref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mente, se obtie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stema líquido sin reacción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478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0484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09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244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289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62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19520" y="2286000"/>
                <a:ext cx="403848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1575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438280" y="5257800"/>
                <a:ext cx="594360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 </m:t>
                        </m:r>
                        <m:r>
                          <m:t xml:space="preserve">(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 V 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ba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 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bar>
                      <m:barPr>
                        <m:pos m:val="bot"/>
                      </m:barP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bar>
                    <m:r>
                      <m:rPr>
                        <m:lit/>
                        <m:nor/>
                      </m:rPr>
                      <m:t xml:space="preserve"> + 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6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depósito contiene inicialmente V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agua a T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. En un momento determinado, se comienza a introducir agua a T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 con un caudal constante de Q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t/s, y mediante una válvula controlada se descargan un caudal Q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t/s constantemente. Despreciando las posible pérdidas de calor y suponiendo que la densidad y la capacidad calórica son constantes . Asuma que el tanque es perfectamente agitado, determi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La variación de la temperatura del agua del estanque con el tie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Determine el valor de la temperatura en el estado estacio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7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 un estanque cilíndrico inicialmente vacío, perfectamente agitado equipado de una camisa calefactora, se introduce una suspensión a una velocidad uniforme, junto con el paso de vapor por la camisa. El estanque tiene un diámetro de 3 ft y cuando está lleno, el nivel marca 5 ft. El flujo de suspensión alimentado es de 1200 lb/hr, con una temperatura de 70ºF. La capacidad calorífica de la suspensión es 1 Btu/(lb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F). El coeficiente de transferencia de calor es 100 Btu/(hr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F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2). La temperatura del vapor es de 200º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10-14T20:41:41Z</dcterms:modified>
  <cp:revision>59</cp:revision>
  <dc:subject/>
  <dc:title>Análisis de Procesos</dc:title>
</cp:coreProperties>
</file>