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482-8C15-483E-AC6E-5520B635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5DC-87DA-46E8-9380-8787B8CA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2FF-05ED-4449-973C-74A9CF07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5F5-29FC-4C9E-92EC-22069705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3F0-29F7-4779-AF33-1F1651A7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388-145B-493F-9C04-89B8D800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FAD-3A2C-42B6-BC0F-2FFF1D2F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0EB-FE38-4E2D-94E6-52A823E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569-4400-45E0-B268-67FB1DED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19F-B71A-4B89-9EC2-B9104766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A66-2CBD-4897-A693-1A34D76E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389-153C-4730-ADB8-A6A91EFB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0967-E5CB-41E8-9ECA-73F273700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lumna de Absor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362320" y="457200"/>
          <a:ext cx="441936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19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36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20760" y="657360"/>
          <a:ext cx="8289720" cy="56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760" y="657360"/>
                    <a:ext cx="8289720" cy="56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es estudiar el fenómeno de transferencia de materia para la absorción del dióxido de carbono presente en una mezcla con aire, utilizando agua potable y una solución diluida de hidróxido de sodio. Establecer una relación entre el coeficiente global de transferencia de masa y los flujos de líquido y gas y comparar los sistemas de absorción con y sin reacción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4:15:08Z</dcterms:created>
  <dc:creator>Angel Sanhueza</dc:creator>
  <dc:description/>
  <dc:language>en-US</dc:language>
  <cp:lastModifiedBy>Angel Sanhueza</cp:lastModifiedBy>
  <dcterms:modified xsi:type="dcterms:W3CDTF">2005-08-03T18:41:19Z</dcterms:modified>
  <cp:revision>2</cp:revision>
  <dc:subject/>
  <dc:title>Columna de Absorción </dc:title>
</cp:coreProperties>
</file>