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CDBE-78D6-417C-A6AA-63B12C66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5D51-1F66-43E8-8EE7-E18E090F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86A0-FDFE-4915-9922-F527A0F6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C364-6A81-4A7D-9A77-9D986C35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74A7-F4FC-4161-BE36-AC6C3A9D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42A-530B-4239-B198-79C92DC7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62CC-603F-402D-BC35-4BF01A0E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72F4-0BEE-4F16-835B-B2C7EB96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A6C7-85BD-4957-9184-68434732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1EED-FEB0-4183-A49B-C54CDB8F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0ED0-73DD-417E-88B9-937CF51F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83EA-47A1-4886-B58D-2D0A6FBD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CA6D-0AA6-4E1B-93E2-7FFE702AA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583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 experiencia está diseñada para poder estudiar los fenómenos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erencia simultánea de calor y materia que ocurren durante una operació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humidificación de aire utilizando agua calien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107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os fluidos circulan 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corrien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6337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equipo corresponde a una columna rellena cilíndrica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 altura del relleno es 40" y el diámetro de la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lumna es 6"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relleno corresponde a anillos Rasching de 3/4" (cilindros huecos de vidrio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619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ircuito de agua está constituido por un estanque termostatizado, una bomba centrífuga, tuberías de cobre de 3/4", una manguera de retorno de líquido al estanque, una placa orificio (conectada a un manómetro de mercurio, H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424720" cy="60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circuito de aire está conformado por un compresor, tuberías de cobre de 3/4", una placa orificio (conectada a un manómetro de tretracloruro de carbono, CC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y dos pares de termocuplas, a la entrada y salida del aire de la torre, para medir la temperatura de bulbo seco y de bulbo húmedo en ambos punt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218440" cy="619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emás se dispone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ocuplas a la entrad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a la salida de la columna para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r la temperatura del agua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351640" cy="619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libración de las placas orificio</a:t>
            </a:r>
            <a:br>
              <a:rPr sz="4400"/>
            </a:br>
            <a:br>
              <a:rPr sz="36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) Aire: Q (m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hr) = 3.01 ×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0.49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,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 (cm. CCl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), a 18º C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) Agua: Q (L/min.) = 1.04 ×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0.51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, </a:t>
            </a: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 (cm. Hg.)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43280" y="368280"/>
            <a:ext cx="5256000" cy="612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681800" cy="612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20:03:50Z</dcterms:created>
  <dc:creator>georgette</dc:creator>
  <dc:description/>
  <dc:language>en-US</dc:language>
  <cp:lastModifiedBy>georgette</cp:lastModifiedBy>
  <dcterms:modified xsi:type="dcterms:W3CDTF">2005-07-22T23:04:43Z</dcterms:modified>
  <cp:revision>7</cp:revision>
  <dc:subject/>
  <dc:title>Esta experiencia está diseñada para poder estudiar los fenómenos de transferencia simultánea de calor y materia que ocurren durante una operación de humidificación de aire utilizando agua caliente.</dc:title>
</cp:coreProperties>
</file>