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E5A-BBE4-46B2-B319-5B424ADF5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55D-D1F3-461E-9673-969E7CEB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90D6-A634-43E2-B5CD-6FF01FDE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72A2-A0EA-489D-A0EE-B69E1798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B6E42-8072-488C-8D55-61E556A6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969D-1932-47C5-AA77-FD8870D6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BF02-45FA-4A9A-B1A4-64471F1A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B820-3BA9-44F3-9DCB-88B3AEAE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FA1E-74E5-4716-94AA-A0975F19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9D21-2DF8-493D-8EAF-054338C2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52F9-41B7-435A-BF8C-64D55FD2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F1FC-34CC-4803-AFE7-692073AB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859E-9E22-47EF-88C4-15708C1E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AEC8-45F6-4816-B0C9-01EDB28D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CBC5-539B-4628-99B4-1A6B7061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44AE-9E67-4E0A-9EF7-4C0658CB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ACE0-E90F-46B1-9F85-3A158A50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CC6-C743-4997-BD6A-B44BF6F4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CE60-FC31-4B8E-B634-7DFDEE27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805-4989-4E47-8E58-5BE1232A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1ED9-4FD3-426C-97BA-C43187E3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F768-404D-4E5D-8915-596EBDF8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BE62-7B40-4299-A976-F8082C89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798A-3506-4A72-84DA-DBF2DE1B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5FD5-86E1-4ECB-87F9-A26D67B170D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F90F-31F0-4C4F-B352-F466EA825586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ntercambiadores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1676520"/>
            <a:ext cx="660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Analizar el comportamiento de un Intercambiador de Calor en General, fluido frío, fluido  cali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1371600" y="4419720"/>
                <a:ext cx="55627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U</m:t>
                    </m:r>
                    <m:r>
                      <m:t xml:space="preserve">⋅</m:t>
                    </m:r>
                    <m:r>
                      <m:t xml:space="preserve">Δ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1207440" y="3581280"/>
            <a:ext cx="34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ransferencia de Calor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219320" y="2743200"/>
                <a:ext cx="4343400" cy="21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17480" y="190512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 Global de Transferencia de Cal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81080" y="2895480"/>
            <a:ext cx="5334120" cy="304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16765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411480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971800" y="16002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57800" y="1676520"/>
            <a:ext cx="2209680" cy="1218960"/>
          </a:xfrm>
          <a:custGeom>
            <a:avLst/>
            <a:gdLst/>
            <a:ahLst/>
            <a:rect l="l" t="t" r="r" b="b"/>
            <a:pathLst>
              <a:path w="1392" h="768">
                <a:moveTo>
                  <a:pt x="0" y="768"/>
                </a:moveTo>
                <a:cubicBezTo>
                  <a:pt x="240" y="752"/>
                  <a:pt x="480" y="736"/>
                  <a:pt x="672" y="672"/>
                </a:cubicBezTo>
                <a:cubicBezTo>
                  <a:pt x="864" y="608"/>
                  <a:pt x="1032" y="496"/>
                  <a:pt x="1152" y="384"/>
                </a:cubicBezTo>
                <a:cubicBezTo>
                  <a:pt x="1272" y="272"/>
                  <a:pt x="1332" y="136"/>
                  <a:pt x="1392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3200400"/>
            <a:ext cx="1828800" cy="1143000"/>
          </a:xfrm>
          <a:custGeom>
            <a:avLst/>
            <a:gdLst/>
            <a:ahLst/>
            <a:rect l="l" t="t" r="r" b="b"/>
            <a:pathLst>
              <a:path w="1152" h="720">
                <a:moveTo>
                  <a:pt x="1152" y="0"/>
                </a:moveTo>
                <a:cubicBezTo>
                  <a:pt x="1140" y="96"/>
                  <a:pt x="1128" y="192"/>
                  <a:pt x="1056" y="288"/>
                </a:cubicBezTo>
                <a:cubicBezTo>
                  <a:pt x="984" y="384"/>
                  <a:pt x="896" y="504"/>
                  <a:pt x="720" y="576"/>
                </a:cubicBezTo>
                <a:cubicBezTo>
                  <a:pt x="544" y="648"/>
                  <a:pt x="272" y="684"/>
                  <a:pt x="0" y="72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895120"/>
            <a:ext cx="76212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2057400"/>
            <a:ext cx="1143000" cy="9907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78720" y="685800"/>
            <a:ext cx="30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eficientes Local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4-08-18T18:53:04Z</dcterms:modified>
  <cp:revision>312</cp:revision>
  <dc:subject/>
  <dc:title>Reactor Agitado</dc:title>
</cp:coreProperties>
</file>