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7.wmf" ContentType="image/x-wmf"/>
  <Override PartName="/ppt/media/image22.jpeg" ContentType="image/jpeg"/>
  <Override PartName="/ppt/media/image42.wmf" ContentType="image/x-wmf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png" ContentType="image/png"/>
  <Override PartName="/ppt/media/image24.jpeg" ContentType="image/jpeg"/>
  <Override PartName="/ppt/media/image14.png" ContentType="image/png"/>
  <Override PartName="/ppt/media/image33.png" ContentType="image/png"/>
  <Override PartName="/ppt/media/image34.jpeg" ContentType="image/jpeg"/>
  <Override PartName="/ppt/media/image40.wmf" ContentType="image/x-wmf"/>
  <Override PartName="/ppt/media/image31.jpeg" ContentType="image/jpeg"/>
  <Override PartName="/ppt/media/image9.wmf" ContentType="image/x-wmf"/>
  <Override PartName="/ppt/media/image39.wmf" ContentType="image/x-wmf"/>
  <Override PartName="/ppt/media/image41.wmf" ContentType="image/x-wmf"/>
  <Override PartName="/ppt/media/image38.jpeg" ContentType="image/jpeg"/>
  <Override PartName="/ppt/media/image44.jpeg" ContentType="image/jpeg"/>
  <Override PartName="/ppt/media/image32.png" ContentType="image/png"/>
  <Override PartName="/ppt/media/image36.jpeg" ContentType="image/jpeg"/>
  <Override PartName="/ppt/media/image43.wmf" ContentType="image/x-wmf"/>
  <Override PartName="/ppt/media/image45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3.jpeg" ContentType="image/jpeg"/>
  <Override PartName="/ppt/media/image30.png" ContentType="image/png"/>
  <Override PartName="/ppt/media/image37.jpeg" ContentType="image/jpeg"/>
  <Override PartName="/ppt/media/image12.wmf" ContentType="image/x-wmf"/>
  <Override PartName="/ppt/media/image4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35.jpeg" ContentType="image/jpeg"/>
  <Override PartName="/ppt/media/image10.png" ContentType="image/pn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604-7F99-4C47-99AD-0445DF71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499-6C55-4F4E-824E-FB819D3A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3BE-A556-464C-9E1B-66ABA7AE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F00-7F45-4691-8570-920C9855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03A7-3E9D-4F58-9F77-170D46E0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C663-B6E8-4D11-9033-381F3041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C44A-B30D-472D-B773-F27AC277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B400-97CE-44A3-9155-5C2AB65A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228C-CCEB-4806-A009-C7FDD4C8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C97D-004F-49EA-A6BD-1F2463B4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3A65-9466-4224-93F4-8BB4CB35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0F2-07F6-401C-A863-9844CAE9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8A0B-5FBF-473B-BC5A-119BEA82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DC56-3F97-4920-8EFA-5CFACCA3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0100-3362-4688-BEEC-D7748B8D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047C-DDE2-469C-9AB4-B7E06677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4A5B-53BE-4499-BE91-2725F9A3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B97-8BBA-4C06-9B2D-A0934279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E1C-1AA6-4B09-B7B7-8E88A8A3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CA2-239F-40F6-9FE7-E2EDE577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363-BAE3-4CDB-B373-6DD3ACA4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523-48E2-4027-BEDF-06085C1E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A6C-2A29-41A5-A3A4-EDB0EE9D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0E0-4518-412E-A8A9-1B5F20F4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8794-4121-4E44-9BE4-42246750D0B8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D6D0-02D8-49F8-9FFF-49A4608ECB43}" type="slidenum">
              <a:rPr b="0" lang="es-MX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9900"/>
                </a:solidFill>
                <a:latin typeface="Arial"/>
              </a:rPr>
              <a:t>Propiedades Mecánic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eaeaea"/>
                </a:solidFill>
                <a:latin typeface="Arial"/>
              </a:rPr>
              <a:t>Ensayos de Tracción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Modulo de You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2349360"/>
                <a:ext cx="56880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E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Módulo de elasticidad (módulo de Young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5760" y="1598760"/>
          <a:ext cx="8226360" cy="4497120"/>
        </p:xfrm>
        <a:graphic>
          <a:graphicData uri="http://schemas.openxmlformats.org/drawingml/2006/table">
            <a:tbl>
              <a:tblPr/>
              <a:tblGrid>
                <a:gridCol w="2892240"/>
                <a:gridCol w="1003320"/>
                <a:gridCol w="1012680"/>
                <a:gridCol w="1079640"/>
                <a:gridCol w="1152720"/>
                <a:gridCol w="1085760"/>
              </a:tblGrid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s-ES_tradnl" sz="24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mb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7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00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10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22 K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al Carbon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inoxidable austenític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eaciones de titani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eaciones de alumini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190836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Resiliencia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capacidad de un material para absorber energía cuando se deforma elásticamente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900000" y="263700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Módulo de Resiliencia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3789360"/>
            <a:ext cx="8226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Corresponde a la energía de deformación por unidad de volumen requerida para deformar el material hasta el límite elástico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038560" y="30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5280" y="476280"/>
                <a:ext cx="8209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·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67280" y="3213000"/>
                <a:ext cx="480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82" name=""/>
          <p:cNvGraphicFramePr/>
          <p:nvPr/>
        </p:nvGraphicFramePr>
        <p:xfrm>
          <a:off x="108000" y="3235320"/>
          <a:ext cx="9036000" cy="3622680"/>
        </p:xfrm>
        <a:graphic>
          <a:graphicData uri="http://schemas.openxmlformats.org/drawingml/2006/table">
            <a:tbl>
              <a:tblPr/>
              <a:tblGrid>
                <a:gridCol w="3987720"/>
                <a:gridCol w="1428840"/>
                <a:gridCol w="1971720"/>
                <a:gridCol w="164772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(G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M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lang="es-ES_tradnl" sz="28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kPa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medio 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alto C para resor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6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uralumini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b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om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00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4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rílic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395280" y="2349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Para el caso de un resor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89160" y="29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620640"/>
          <a:ext cx="88200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820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Tenacidad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6882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capacidad para absorber  energía en el rango plástico. Corresponde al área bajo la curv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fuerzo y deformación verdader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esfuerzo y la deformación verdaderos se definen com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24160" y="278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04720" y="4508640"/>
                <a:ext cx="863928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263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cumplen las siguientes relacione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054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76360" y="1557360"/>
                <a:ext cx="5477040" cy="18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826920" y="371520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Estas ecuaciones son válida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hasta la deformación uniforme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5400" y="69192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ás allá de este punto se cumple qu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2268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340000" y="1268280"/>
                <a:ext cx="42973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759120" y="378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332000" y="2581200"/>
          <a:ext cx="684036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81200"/>
                    <a:ext cx="6840360" cy="3949920"/>
                  </a:xfrm>
                  <a:prstGeom prst="rect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Deformación verdadera local en el cuello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s la deformación necesaria para deformarla muestra desde la carga máxima hasta la fractura.  Se calcula a partir d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80000" y="45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27280" y="3789360"/>
                <a:ext cx="309708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Ajuste de Hollomon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la zona de deformación plástica uniforme se puede relacionar el esfuerzo verdadero con la deformación verdadera por: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394080" y="422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411280" y="3789360"/>
                <a:ext cx="391500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ε</m:t>
                        </m:r>
                      </m:e>
                      <m:sub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184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=0 el material es perfectamente plástic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=1 corresponde a un sólido elástic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ormalmente para la mayoría de los materiales, 0.10 &lt; n &lt;0.5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95280" y="2205000"/>
          <a:ext cx="8317080" cy="4076640"/>
        </p:xfrm>
        <a:graphic>
          <a:graphicData uri="http://schemas.openxmlformats.org/drawingml/2006/table">
            <a:tbl>
              <a:tblPr/>
              <a:tblGrid>
                <a:gridCol w="2562480"/>
                <a:gridCol w="3127320"/>
                <a:gridCol w="1079640"/>
                <a:gridCol w="1547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eta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ó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(MPa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05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2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E 434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6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mplado y Revenido a 540º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7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cero 0.6%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mplado y Revenido a 705ºC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1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br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5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atón 70/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cocid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expresión  corresponde a la velocidad de endurecimiento por deformación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se calcula graficando  hasta la deformación plástica uniforme. La pendiente de la recta resultante corresponde a </a:t>
            </a:r>
            <a:r>
              <a:rPr b="0" i="1" lang="es-ES_tradnl" sz="3200" spc="-1" strike="noStrike">
                <a:solidFill>
                  <a:srgbClr val="eaeaea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708360" y="1268280"/>
                <a:ext cx="8762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2560680" y="514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042920" y="4941720"/>
                <a:ext cx="6583320" cy="11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σ</m:t>
                            </m:r>
                          </m:e>
                        </m:d>
                      </m:num>
                      <m:den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ε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ε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Arial"/>
              </a:rPr>
              <a:t>Relaciones de “n” con respecto al tipo de estructu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905120" y="1598760"/>
          <a:ext cx="612288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98760"/>
                    <a:ext cx="61228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Distribución de esfuerzos en el cuell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17988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urante la formación de cuello aparece un estado triaxial de esfuerzo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284720" y="1628640"/>
          <a:ext cx="397512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628640"/>
                    <a:ext cx="397512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Formación de cuel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168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Efecto de la velocidad de deformación sobre las propiedades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o de los parámetros importantes en la determinación de las propiedades mecánicas, lo constituye la velocidad de deformación </a:t>
            </a:r>
            <a:r>
              <a:rPr b="0" lang="es-ES_tradnl" sz="3200" spc="-1" strike="noStrike">
                <a:solidFill>
                  <a:srgbClr val="eaeaea"/>
                </a:solidFill>
                <a:latin typeface="Symbol"/>
                <a:ea typeface="Symbol"/>
              </a:rPr>
              <a:t>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, definida po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5912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40000" y="3933720"/>
                <a:ext cx="4341960" cy="19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≡</m:t>
                    </m:r>
                    <m:f>
                      <m:num>
                        <m:r>
                          <m:t xml:space="preserve">d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Arial"/>
              </a:rPr>
              <a:t>Relación entre el esfuerzo de fluencia y la velocidad de deformación</a:t>
            </a:r>
            <a:r>
              <a:rPr b="1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771640" y="1989000"/>
                <a:ext cx="360072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738600" y="44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116000" y="3789360"/>
                <a:ext cx="713916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 {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den>
                            </m:f>
                          </m:e>
                          <m:e/>
                        </m:d>
                      </m:e>
                      <m:sub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77708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Velocidades de deformación</a:t>
            </a: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5760" y="1598760"/>
          <a:ext cx="8226360" cy="4705200"/>
        </p:xfrm>
        <a:graphic>
          <a:graphicData uri="http://schemas.openxmlformats.org/drawingml/2006/table">
            <a:tbl>
              <a:tblPr/>
              <a:tblGrid>
                <a:gridCol w="1812600"/>
                <a:gridCol w="6413760"/>
              </a:tblGrid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ango (s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po de Tes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8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 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–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luencia (creep) a  </a:t>
                      </a:r>
                      <a:r>
                        <a:rPr b="1" i="1" lang="es-ES_tradnl" sz="24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= cte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 de tracción estátic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de tracción o compresión dinámico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a alta velocidad usando barras de impact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1" lang="es-ES_tradnl" sz="2400" spc="-1" strike="noStrike" baseline="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sayos a muy alta velocidad usando explosivos o propulsores de ga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Consideraciones para “m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Los metales a temperatura ambiente tienen un valor de “m” menor o igual a 0.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Este índice varía con la temperatura, mayor temperatura mayor índ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Depende de la velocidad de movimiento de dislocaciones (TARE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620280"/>
            <a:ext cx="82263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Arial"/>
              </a:rPr>
              <a:t>El Ensayo de tracción se realiza bajo la norma ASTM E-8 ASTM A 370, o bien la norma chilena NCH 200, entre otras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Arial"/>
              </a:rPr>
              <a:t>Su importancia radica en que es válido y aceptado para especificación de materiales en ingenierí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Efecto de la temperatura sobre las propiedades  en tracció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195640" y="1598760"/>
          <a:ext cx="5329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98760"/>
                    <a:ext cx="5329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Influencia sobre la temp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347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979640" y="1413000"/>
          <a:ext cx="5040360" cy="42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413000"/>
                    <a:ext cx="504036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Arial"/>
              </a:rPr>
              <a:t>Fenómeno del punto de fluencia</a:t>
            </a:r>
            <a:r>
              <a:rPr b="0" lang="es-MX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fenómeno de punto de fluencia se da en algunos materiales que contienen solutos especialmente intersticiales como el acero de bajo contenido en carbono y consiste en la aparición de una oscilación de la curva esfuerzo – deformación cerca del inicio de la deformación plástica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55760" y="839880"/>
            <a:ext cx="82263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Acero de Construcción A 44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27760" y="514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5832720" cy="4077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4105080" cy="236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5760" y="1536840"/>
            <a:ext cx="8226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Tracción en planchas de ace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2482920"/>
            <a:ext cx="5292720" cy="39164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851280" y="2492280"/>
            <a:ext cx="52927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46200" y="40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fig22b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2092320" cy="3743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98832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9" name="fig22c" descr=""/>
          <p:cNvPicPr/>
          <p:nvPr/>
        </p:nvPicPr>
        <p:blipFill>
          <a:blip r:embed="rId2"/>
          <a:stretch/>
        </p:blipFill>
        <p:spPr>
          <a:xfrm>
            <a:off x="6804000" y="1125360"/>
            <a:ext cx="2149560" cy="38163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07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fig22a" descr=""/>
          <p:cNvPicPr/>
          <p:nvPr/>
        </p:nvPicPr>
        <p:blipFill>
          <a:blip r:embed="rId3"/>
          <a:stretch/>
        </p:blipFill>
        <p:spPr>
          <a:xfrm>
            <a:off x="250920" y="1125360"/>
            <a:ext cx="2063520" cy="3672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505320" y="25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3" name="fig22d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2073240" cy="3816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95280" y="515772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Fractura Dúct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76720" y="5229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Fractura Frág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6" name="fig17" descr=""/>
          <p:cNvPicPr/>
          <p:nvPr/>
        </p:nvPicPr>
        <p:blipFill>
          <a:blip r:embed="rId5"/>
          <a:stretch/>
        </p:blipFill>
        <p:spPr>
          <a:xfrm>
            <a:off x="250920" y="1197000"/>
            <a:ext cx="4116240" cy="3724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57540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8" name="fig144" descr=""/>
          <p:cNvPicPr/>
          <p:nvPr/>
        </p:nvPicPr>
        <p:blipFill>
          <a:blip r:embed="rId6"/>
          <a:stretch/>
        </p:blipFill>
        <p:spPr>
          <a:xfrm>
            <a:off x="5076720" y="1268280"/>
            <a:ext cx="34513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9900"/>
                </a:solidFill>
                <a:latin typeface="Arial"/>
              </a:rPr>
              <a:t>Resumen del Ensayo de Tracció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22636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fuerzo de Flue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fuerzo máximo (UT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odulo de Young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silie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largami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ción de Ár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enac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ndurecimiento por deform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fluencia de la temperatu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fluencia de la velocidad del ensay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luencia heterogéne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Tipo de fractu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Ensayo de Flex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4720" y="1557360"/>
          <a:ext cx="23749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3749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900000" y="2428920"/>
          <a:ext cx="778212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428920"/>
                    <a:ext cx="778212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2771640" y="1557360"/>
          <a:ext cx="4248360" cy="107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1557360"/>
                    <a:ext cx="4248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468360" y="400536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Ensayo de Compresió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333360"/>
            <a:ext cx="8893080" cy="619128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4360" y="260280"/>
            <a:ext cx="8501400" cy="6192720"/>
            <a:chOff x="684360" y="260280"/>
            <a:chExt cx="8501400" cy="6192720"/>
          </a:xfrm>
        </p:grpSpPr>
        <p:sp>
          <p:nvSpPr>
            <p:cNvPr id="218" name=""/>
            <p:cNvSpPr/>
            <p:nvPr/>
          </p:nvSpPr>
          <p:spPr>
            <a:xfrm flipV="1">
              <a:off x="1790280" y="778680"/>
              <a:ext cx="1440" cy="49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5680" y="874080"/>
              <a:ext cx="169560" cy="23112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0080" y="5688720"/>
              <a:ext cx="479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9280" y="5373000"/>
              <a:ext cx="169200" cy="238320"/>
            </a:xfrm>
            <a:custGeom>
              <a:avLst/>
              <a:gdLst/>
              <a:ahLst/>
              <a:rect l="l" t="t" r="r" b="b"/>
              <a:pathLst>
                <a:path w="128" h="132">
                  <a:moveTo>
                    <a:pt x="0" y="0"/>
                  </a:moveTo>
                  <a:lnTo>
                    <a:pt x="128" y="64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789920" y="2668320"/>
              <a:ext cx="973800" cy="306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4640" y="1889640"/>
              <a:ext cx="2867760" cy="794520"/>
            </a:xfrm>
            <a:custGeom>
              <a:avLst/>
              <a:gdLst/>
              <a:ahLst/>
              <a:rect l="l" t="t" r="r" b="b"/>
              <a:pathLst>
                <a:path w="2167" h="440">
                  <a:moveTo>
                    <a:pt x="0" y="440"/>
                  </a:moveTo>
                  <a:lnTo>
                    <a:pt x="124" y="340"/>
                  </a:lnTo>
                  <a:lnTo>
                    <a:pt x="252" y="248"/>
                  </a:lnTo>
                  <a:lnTo>
                    <a:pt x="388" y="172"/>
                  </a:lnTo>
                  <a:lnTo>
                    <a:pt x="532" y="108"/>
                  </a:lnTo>
                  <a:lnTo>
                    <a:pt x="684" y="60"/>
                  </a:lnTo>
                  <a:lnTo>
                    <a:pt x="836" y="24"/>
                  </a:lnTo>
                  <a:lnTo>
                    <a:pt x="991" y="4"/>
                  </a:lnTo>
                  <a:lnTo>
                    <a:pt x="1147" y="0"/>
                  </a:lnTo>
                  <a:lnTo>
                    <a:pt x="1307" y="8"/>
                  </a:lnTo>
                  <a:lnTo>
                    <a:pt x="1459" y="32"/>
                  </a:lnTo>
                  <a:lnTo>
                    <a:pt x="1615" y="72"/>
                  </a:lnTo>
                  <a:lnTo>
                    <a:pt x="1763" y="128"/>
                  </a:lnTo>
                  <a:lnTo>
                    <a:pt x="1903" y="196"/>
                  </a:lnTo>
                  <a:lnTo>
                    <a:pt x="2039" y="280"/>
                  </a:lnTo>
                  <a:lnTo>
                    <a:pt x="2167" y="37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616360" y="2465640"/>
              <a:ext cx="7380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16360" y="2465640"/>
              <a:ext cx="11088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53440" y="2566800"/>
              <a:ext cx="1440" cy="3170160"/>
            </a:xfrm>
            <a:prstGeom prst="line">
              <a:avLst/>
            </a:prstGeom>
            <a:ln w="25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80160" y="2408040"/>
              <a:ext cx="229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fuerzo de fractur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87160" y="2401200"/>
              <a:ext cx="528840" cy="361080"/>
            </a:xfrm>
            <a:custGeom>
              <a:avLst/>
              <a:gdLst/>
              <a:ahLst/>
              <a:rect l="l" t="t" r="r" b="b"/>
              <a:pathLst>
                <a:path w="400" h="200">
                  <a:moveTo>
                    <a:pt x="0" y="44"/>
                  </a:moveTo>
                  <a:lnTo>
                    <a:pt x="16" y="44"/>
                  </a:lnTo>
                  <a:lnTo>
                    <a:pt x="28" y="40"/>
                  </a:lnTo>
                  <a:lnTo>
                    <a:pt x="40" y="36"/>
                  </a:lnTo>
                  <a:lnTo>
                    <a:pt x="52" y="32"/>
                  </a:lnTo>
                  <a:lnTo>
                    <a:pt x="68" y="28"/>
                  </a:lnTo>
                  <a:lnTo>
                    <a:pt x="80" y="24"/>
                  </a:lnTo>
                  <a:lnTo>
                    <a:pt x="92" y="20"/>
                  </a:lnTo>
                  <a:lnTo>
                    <a:pt x="104" y="20"/>
                  </a:lnTo>
                  <a:lnTo>
                    <a:pt x="116" y="16"/>
                  </a:lnTo>
                  <a:lnTo>
                    <a:pt x="128" y="12"/>
                  </a:lnTo>
                  <a:lnTo>
                    <a:pt x="140" y="8"/>
                  </a:lnTo>
                  <a:lnTo>
                    <a:pt x="148" y="8"/>
                  </a:lnTo>
                  <a:lnTo>
                    <a:pt x="160" y="4"/>
                  </a:lnTo>
                  <a:lnTo>
                    <a:pt x="168" y="4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04" y="4"/>
                  </a:lnTo>
                  <a:lnTo>
                    <a:pt x="208" y="8"/>
                  </a:lnTo>
                  <a:lnTo>
                    <a:pt x="208" y="12"/>
                  </a:lnTo>
                  <a:lnTo>
                    <a:pt x="204" y="20"/>
                  </a:lnTo>
                  <a:lnTo>
                    <a:pt x="200" y="24"/>
                  </a:lnTo>
                  <a:lnTo>
                    <a:pt x="196" y="32"/>
                  </a:lnTo>
                  <a:lnTo>
                    <a:pt x="188" y="44"/>
                  </a:lnTo>
                  <a:lnTo>
                    <a:pt x="180" y="52"/>
                  </a:lnTo>
                  <a:lnTo>
                    <a:pt x="172" y="60"/>
                  </a:lnTo>
                  <a:lnTo>
                    <a:pt x="164" y="72"/>
                  </a:lnTo>
                  <a:lnTo>
                    <a:pt x="156" y="84"/>
                  </a:lnTo>
                  <a:lnTo>
                    <a:pt x="144" y="92"/>
                  </a:lnTo>
                  <a:lnTo>
                    <a:pt x="140" y="104"/>
                  </a:lnTo>
                  <a:lnTo>
                    <a:pt x="132" y="116"/>
                  </a:lnTo>
                  <a:lnTo>
                    <a:pt x="128" y="124"/>
                  </a:lnTo>
                  <a:lnTo>
                    <a:pt x="124" y="136"/>
                  </a:lnTo>
                  <a:lnTo>
                    <a:pt x="120" y="148"/>
                  </a:lnTo>
                  <a:lnTo>
                    <a:pt x="120" y="156"/>
                  </a:lnTo>
                  <a:lnTo>
                    <a:pt x="124" y="164"/>
                  </a:lnTo>
                  <a:lnTo>
                    <a:pt x="124" y="172"/>
                  </a:lnTo>
                  <a:lnTo>
                    <a:pt x="128" y="180"/>
                  </a:lnTo>
                  <a:lnTo>
                    <a:pt x="136" y="184"/>
                  </a:lnTo>
                  <a:lnTo>
                    <a:pt x="144" y="188"/>
                  </a:lnTo>
                  <a:lnTo>
                    <a:pt x="152" y="196"/>
                  </a:lnTo>
                  <a:lnTo>
                    <a:pt x="160" y="196"/>
                  </a:lnTo>
                  <a:lnTo>
                    <a:pt x="168" y="200"/>
                  </a:lnTo>
                  <a:lnTo>
                    <a:pt x="180" y="200"/>
                  </a:lnTo>
                  <a:lnTo>
                    <a:pt x="192" y="196"/>
                  </a:lnTo>
                  <a:lnTo>
                    <a:pt x="204" y="196"/>
                  </a:lnTo>
                  <a:lnTo>
                    <a:pt x="220" y="188"/>
                  </a:lnTo>
                  <a:lnTo>
                    <a:pt x="240" y="180"/>
                  </a:lnTo>
                  <a:lnTo>
                    <a:pt x="256" y="168"/>
                  </a:lnTo>
                  <a:lnTo>
                    <a:pt x="276" y="160"/>
                  </a:lnTo>
                  <a:lnTo>
                    <a:pt x="296" y="148"/>
                  </a:lnTo>
                  <a:lnTo>
                    <a:pt x="316" y="140"/>
                  </a:lnTo>
                  <a:lnTo>
                    <a:pt x="332" y="136"/>
                  </a:lnTo>
                  <a:lnTo>
                    <a:pt x="352" y="132"/>
                  </a:lnTo>
                  <a:lnTo>
                    <a:pt x="368" y="132"/>
                  </a:lnTo>
                  <a:lnTo>
                    <a:pt x="384" y="136"/>
                  </a:lnTo>
                  <a:lnTo>
                    <a:pt x="400" y="1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38840" y="2364840"/>
              <a:ext cx="185040" cy="230760"/>
            </a:xfrm>
            <a:custGeom>
              <a:avLst/>
              <a:gdLst/>
              <a:ahLst/>
              <a:rect l="l" t="t" r="r" b="b"/>
              <a:pathLst>
                <a:path w="140" h="128">
                  <a:moveTo>
                    <a:pt x="140" y="128"/>
                  </a:moveTo>
                  <a:lnTo>
                    <a:pt x="0" y="84"/>
                  </a:lnTo>
                  <a:lnTo>
                    <a:pt x="120" y="0"/>
                  </a:lnTo>
                  <a:lnTo>
                    <a:pt x="14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94120" y="4310640"/>
              <a:ext cx="2591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eformación a fractur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59720" y="4570560"/>
              <a:ext cx="582480" cy="527040"/>
            </a:xfrm>
            <a:custGeom>
              <a:avLst/>
              <a:gdLst/>
              <a:ahLst/>
              <a:rect l="l" t="t" r="r" b="b"/>
              <a:pathLst>
                <a:path w="440" h="292">
                  <a:moveTo>
                    <a:pt x="0" y="292"/>
                  </a:moveTo>
                  <a:lnTo>
                    <a:pt x="8" y="276"/>
                  </a:lnTo>
                  <a:lnTo>
                    <a:pt x="16" y="256"/>
                  </a:lnTo>
                  <a:lnTo>
                    <a:pt x="24" y="240"/>
                  </a:lnTo>
                  <a:lnTo>
                    <a:pt x="36" y="224"/>
                  </a:lnTo>
                  <a:lnTo>
                    <a:pt x="44" y="208"/>
                  </a:lnTo>
                  <a:lnTo>
                    <a:pt x="56" y="188"/>
                  </a:lnTo>
                  <a:lnTo>
                    <a:pt x="64" y="172"/>
                  </a:lnTo>
                  <a:lnTo>
                    <a:pt x="76" y="156"/>
                  </a:lnTo>
                  <a:lnTo>
                    <a:pt x="84" y="144"/>
                  </a:lnTo>
                  <a:lnTo>
                    <a:pt x="92" y="128"/>
                  </a:lnTo>
                  <a:lnTo>
                    <a:pt x="104" y="116"/>
                  </a:lnTo>
                  <a:lnTo>
                    <a:pt x="112" y="104"/>
                  </a:lnTo>
                  <a:lnTo>
                    <a:pt x="120" y="92"/>
                  </a:lnTo>
                  <a:lnTo>
                    <a:pt x="128" y="84"/>
                  </a:lnTo>
                  <a:lnTo>
                    <a:pt x="132" y="76"/>
                  </a:lnTo>
                  <a:lnTo>
                    <a:pt x="140" y="72"/>
                  </a:lnTo>
                  <a:lnTo>
                    <a:pt x="144" y="68"/>
                  </a:lnTo>
                  <a:lnTo>
                    <a:pt x="148" y="68"/>
                  </a:lnTo>
                  <a:lnTo>
                    <a:pt x="152" y="68"/>
                  </a:lnTo>
                  <a:lnTo>
                    <a:pt x="152" y="68"/>
                  </a:lnTo>
                  <a:lnTo>
                    <a:pt x="156" y="72"/>
                  </a:lnTo>
                  <a:lnTo>
                    <a:pt x="156" y="76"/>
                  </a:lnTo>
                  <a:lnTo>
                    <a:pt x="156" y="84"/>
                  </a:lnTo>
                  <a:lnTo>
                    <a:pt x="156" y="92"/>
                  </a:lnTo>
                  <a:lnTo>
                    <a:pt x="160" y="100"/>
                  </a:lnTo>
                  <a:lnTo>
                    <a:pt x="160" y="108"/>
                  </a:lnTo>
                  <a:lnTo>
                    <a:pt x="160" y="116"/>
                  </a:lnTo>
                  <a:lnTo>
                    <a:pt x="156" y="124"/>
                  </a:lnTo>
                  <a:lnTo>
                    <a:pt x="156" y="132"/>
                  </a:lnTo>
                  <a:lnTo>
                    <a:pt x="160" y="144"/>
                  </a:lnTo>
                  <a:lnTo>
                    <a:pt x="160" y="152"/>
                  </a:lnTo>
                  <a:lnTo>
                    <a:pt x="160" y="160"/>
                  </a:lnTo>
                  <a:lnTo>
                    <a:pt x="160" y="168"/>
                  </a:lnTo>
                  <a:lnTo>
                    <a:pt x="160" y="176"/>
                  </a:lnTo>
                  <a:lnTo>
                    <a:pt x="164" y="184"/>
                  </a:lnTo>
                  <a:lnTo>
                    <a:pt x="168" y="196"/>
                  </a:lnTo>
                  <a:lnTo>
                    <a:pt x="176" y="200"/>
                  </a:lnTo>
                  <a:lnTo>
                    <a:pt x="180" y="204"/>
                  </a:lnTo>
                  <a:lnTo>
                    <a:pt x="188" y="208"/>
                  </a:lnTo>
                  <a:lnTo>
                    <a:pt x="196" y="208"/>
                  </a:lnTo>
                  <a:lnTo>
                    <a:pt x="208" y="208"/>
                  </a:lnTo>
                  <a:lnTo>
                    <a:pt x="216" y="208"/>
                  </a:lnTo>
                  <a:lnTo>
                    <a:pt x="228" y="204"/>
                  </a:lnTo>
                  <a:lnTo>
                    <a:pt x="240" y="200"/>
                  </a:lnTo>
                  <a:lnTo>
                    <a:pt x="252" y="196"/>
                  </a:lnTo>
                  <a:lnTo>
                    <a:pt x="264" y="188"/>
                  </a:lnTo>
                  <a:lnTo>
                    <a:pt x="276" y="180"/>
                  </a:lnTo>
                  <a:lnTo>
                    <a:pt x="296" y="164"/>
                  </a:lnTo>
                  <a:lnTo>
                    <a:pt x="320" y="148"/>
                  </a:lnTo>
                  <a:lnTo>
                    <a:pt x="340" y="128"/>
                  </a:lnTo>
                  <a:lnTo>
                    <a:pt x="360" y="104"/>
                  </a:lnTo>
                  <a:lnTo>
                    <a:pt x="380" y="80"/>
                  </a:lnTo>
                  <a:lnTo>
                    <a:pt x="404" y="56"/>
                  </a:lnTo>
                  <a:lnTo>
                    <a:pt x="420" y="28"/>
                  </a:lnTo>
                  <a:lnTo>
                    <a:pt x="4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85560" y="5025960"/>
              <a:ext cx="158400" cy="259920"/>
            </a:xfrm>
            <a:custGeom>
              <a:avLst/>
              <a:gdLst/>
              <a:ahLst/>
              <a:rect l="l" t="t" r="r" b="b"/>
              <a:pathLst>
                <a:path w="120" h="144">
                  <a:moveTo>
                    <a:pt x="120" y="48"/>
                  </a:moveTo>
                  <a:lnTo>
                    <a:pt x="12" y="144"/>
                  </a:lnTo>
                  <a:lnTo>
                    <a:pt x="0" y="0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018160" y="5300280"/>
              <a:ext cx="579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113200" y="4996800"/>
              <a:ext cx="633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214000" y="4678920"/>
              <a:ext cx="57960" cy="195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14800" y="4367880"/>
              <a:ext cx="57960" cy="194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390040" y="4183920"/>
              <a:ext cx="6336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510280" y="3872880"/>
              <a:ext cx="5796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605680" y="3569400"/>
              <a:ext cx="6300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706480" y="3251520"/>
              <a:ext cx="57960" cy="194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806920" y="3065400"/>
              <a:ext cx="57960" cy="195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902320" y="2755080"/>
              <a:ext cx="63000" cy="18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982960" y="2444040"/>
              <a:ext cx="57960" cy="18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097800" y="2313720"/>
              <a:ext cx="5400" cy="14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12840" y="614160"/>
              <a:ext cx="558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ffset yield strength: Límite elástico convencional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50280" y="1076400"/>
              <a:ext cx="391680" cy="1233720"/>
            </a:xfrm>
            <a:custGeom>
              <a:avLst/>
              <a:gdLst/>
              <a:ahLst/>
              <a:rect l="l" t="t" r="r" b="b"/>
              <a:pathLst>
                <a:path w="296" h="683">
                  <a:moveTo>
                    <a:pt x="296" y="0"/>
                  </a:moveTo>
                  <a:lnTo>
                    <a:pt x="212" y="124"/>
                  </a:lnTo>
                  <a:lnTo>
                    <a:pt x="140" y="256"/>
                  </a:lnTo>
                  <a:lnTo>
                    <a:pt x="80" y="392"/>
                  </a:lnTo>
                  <a:lnTo>
                    <a:pt x="32" y="535"/>
                  </a:lnTo>
                  <a:lnTo>
                    <a:pt x="0" y="6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5680" y="2135160"/>
              <a:ext cx="169560" cy="253080"/>
            </a:xfrm>
            <a:custGeom>
              <a:avLst/>
              <a:gdLst/>
              <a:ahLst/>
              <a:rect l="l" t="t" r="r" b="b"/>
              <a:pathLst>
                <a:path w="128" h="140">
                  <a:moveTo>
                    <a:pt x="128" y="20"/>
                  </a:moveTo>
                  <a:lnTo>
                    <a:pt x="48" y="140"/>
                  </a:lnTo>
                  <a:lnTo>
                    <a:pt x="0" y="0"/>
                  </a:lnTo>
                  <a:lnTo>
                    <a:pt x="12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2080" y="2812680"/>
              <a:ext cx="1727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eforma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55880" y="3208680"/>
              <a:ext cx="116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uniform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92560" y="1976400"/>
              <a:ext cx="1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45520" y="1407240"/>
              <a:ext cx="277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Resistencia tensil o U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6720" y="1609560"/>
              <a:ext cx="359640" cy="222120"/>
            </a:xfrm>
            <a:custGeom>
              <a:avLst/>
              <a:gdLst/>
              <a:ahLst/>
              <a:rect l="l" t="t" r="r" b="b"/>
              <a:pathLst>
                <a:path w="272" h="123">
                  <a:moveTo>
                    <a:pt x="0" y="56"/>
                  </a:moveTo>
                  <a:lnTo>
                    <a:pt x="8" y="52"/>
                  </a:lnTo>
                  <a:lnTo>
                    <a:pt x="16" y="44"/>
                  </a:lnTo>
                  <a:lnTo>
                    <a:pt x="24" y="40"/>
                  </a:lnTo>
                  <a:lnTo>
                    <a:pt x="36" y="32"/>
                  </a:lnTo>
                  <a:lnTo>
                    <a:pt x="44" y="28"/>
                  </a:lnTo>
                  <a:lnTo>
                    <a:pt x="52" y="20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72" y="8"/>
                  </a:lnTo>
                  <a:lnTo>
                    <a:pt x="80" y="4"/>
                  </a:lnTo>
                  <a:lnTo>
                    <a:pt x="88" y="4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2" y="4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20"/>
                  </a:lnTo>
                  <a:lnTo>
                    <a:pt x="116" y="28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12" y="52"/>
                  </a:lnTo>
                  <a:lnTo>
                    <a:pt x="108" y="60"/>
                  </a:lnTo>
                  <a:lnTo>
                    <a:pt x="108" y="68"/>
                  </a:lnTo>
                  <a:lnTo>
                    <a:pt x="108" y="76"/>
                  </a:lnTo>
                  <a:lnTo>
                    <a:pt x="108" y="84"/>
                  </a:lnTo>
                  <a:lnTo>
                    <a:pt x="104" y="88"/>
                  </a:lnTo>
                  <a:lnTo>
                    <a:pt x="108" y="96"/>
                  </a:lnTo>
                  <a:lnTo>
                    <a:pt x="112" y="104"/>
                  </a:lnTo>
                  <a:lnTo>
                    <a:pt x="116" y="112"/>
                  </a:lnTo>
                  <a:lnTo>
                    <a:pt x="128" y="119"/>
                  </a:lnTo>
                  <a:lnTo>
                    <a:pt x="136" y="119"/>
                  </a:lnTo>
                  <a:lnTo>
                    <a:pt x="152" y="123"/>
                  </a:lnTo>
                  <a:lnTo>
                    <a:pt x="164" y="119"/>
                  </a:lnTo>
                  <a:lnTo>
                    <a:pt x="180" y="119"/>
                  </a:lnTo>
                  <a:lnTo>
                    <a:pt x="196" y="115"/>
                  </a:lnTo>
                  <a:lnTo>
                    <a:pt x="212" y="112"/>
                  </a:lnTo>
                  <a:lnTo>
                    <a:pt x="228" y="108"/>
                  </a:lnTo>
                  <a:lnTo>
                    <a:pt x="244" y="100"/>
                  </a:lnTo>
                  <a:lnTo>
                    <a:pt x="256" y="96"/>
                  </a:lnTo>
                  <a:lnTo>
                    <a:pt x="272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66720" y="1616760"/>
              <a:ext cx="169200" cy="257760"/>
            </a:xfrm>
            <a:custGeom>
              <a:avLst/>
              <a:gdLst/>
              <a:ahLst/>
              <a:rect l="l" t="t" r="r" b="b"/>
              <a:pathLst>
                <a:path w="128" h="143">
                  <a:moveTo>
                    <a:pt x="128" y="80"/>
                  </a:moveTo>
                  <a:lnTo>
                    <a:pt x="0" y="143"/>
                  </a:lnTo>
                  <a:lnTo>
                    <a:pt x="28" y="0"/>
                  </a:lnTo>
                  <a:lnTo>
                    <a:pt x="12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84360" y="260280"/>
                  <a:ext cx="1136520" cy="12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6782400" y="5224680"/>
                  <a:ext cx="1058760" cy="12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l</m:t>
                          </m:r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6" name=""/>
            <p:cNvSpPr/>
            <p:nvPr/>
          </p:nvSpPr>
          <p:spPr>
            <a:xfrm rot="14726400">
              <a:off x="3314880" y="1697040"/>
              <a:ext cx="419400" cy="1454040"/>
            </a:xfrm>
            <a:custGeom>
              <a:avLst/>
              <a:gdLst>
                <a:gd name="textAreaLeft" fmla="*/ 267840 w 419400"/>
                <a:gd name="textAreaRight" fmla="*/ 419760 w 419400"/>
                <a:gd name="textAreaTop" fmla="*/ 37800 h 1454040"/>
                <a:gd name="textAreaBottom" fmla="*/ 1416240 h 145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nsayo de Durez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72738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779480" y="272880"/>
            <a:ext cx="55771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077920" y="272880"/>
            <a:ext cx="498024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1260720" y="2599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Arial"/>
              </a:rPr>
              <a:t>Ensayo de Charp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285264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nventado en la Década de 1920</a:t>
            </a: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or el Francés George </a:t>
            </a: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HARPY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rma</a:t>
            </a:r>
            <a:br>
              <a:rPr sz="4400"/>
            </a:br>
            <a:r>
              <a:rPr b="0" lang="es-MX" sz="4400" spc="-1" strike="noStrike">
                <a:solidFill>
                  <a:srgbClr val="eaeaea"/>
                </a:solidFill>
                <a:latin typeface="Arial"/>
              </a:rPr>
              <a:t>ASTM E-2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614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Temperatura de 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78040" y="2481120"/>
            <a:ext cx="3353040" cy="2349720"/>
          </a:xfrm>
          <a:custGeom>
            <a:avLst/>
            <a:gdLst/>
            <a:ahLst/>
            <a:rect l="l" t="t" r="r" b="b"/>
            <a:pathLst>
              <a:path w="2112" h="1480">
                <a:moveTo>
                  <a:pt x="0" y="1456"/>
                </a:moveTo>
                <a:cubicBezTo>
                  <a:pt x="152" y="1468"/>
                  <a:pt x="304" y="1480"/>
                  <a:pt x="432" y="1456"/>
                </a:cubicBezTo>
                <a:cubicBezTo>
                  <a:pt x="560" y="1432"/>
                  <a:pt x="680" y="1384"/>
                  <a:pt x="768" y="1312"/>
                </a:cubicBezTo>
                <a:cubicBezTo>
                  <a:pt x="856" y="1240"/>
                  <a:pt x="904" y="1144"/>
                  <a:pt x="960" y="1024"/>
                </a:cubicBezTo>
                <a:cubicBezTo>
                  <a:pt x="1016" y="904"/>
                  <a:pt x="1056" y="720"/>
                  <a:pt x="1104" y="592"/>
                </a:cubicBezTo>
                <a:cubicBezTo>
                  <a:pt x="1152" y="464"/>
                  <a:pt x="1192" y="336"/>
                  <a:pt x="1248" y="256"/>
                </a:cubicBezTo>
                <a:cubicBezTo>
                  <a:pt x="1304" y="176"/>
                  <a:pt x="1344" y="152"/>
                  <a:pt x="1440" y="112"/>
                </a:cubicBezTo>
                <a:cubicBezTo>
                  <a:pt x="1536" y="72"/>
                  <a:pt x="1712" y="32"/>
                  <a:pt x="1824" y="16"/>
                </a:cubicBezTo>
                <a:cubicBezTo>
                  <a:pt x="1936" y="0"/>
                  <a:pt x="2024" y="8"/>
                  <a:pt x="2112" y="1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8360" y="2049480"/>
            <a:ext cx="8458200" cy="3431520"/>
            <a:chOff x="468360" y="2049480"/>
            <a:chExt cx="8458200" cy="3431520"/>
          </a:xfrm>
        </p:grpSpPr>
        <p:sp>
          <p:nvSpPr>
            <p:cNvPr id="391" name=""/>
            <p:cNvSpPr/>
            <p:nvPr/>
          </p:nvSpPr>
          <p:spPr>
            <a:xfrm flipV="1">
              <a:off x="2297160" y="2049480"/>
              <a:ext cx="0" cy="27432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68360" y="2201760"/>
              <a:ext cx="8458200" cy="3279240"/>
              <a:chOff x="468360" y="2201760"/>
              <a:chExt cx="8458200" cy="3279240"/>
            </a:xfrm>
          </p:grpSpPr>
          <p:sp>
            <p:nvSpPr>
              <p:cNvPr id="393" name=""/>
              <p:cNvSpPr/>
              <p:nvPr/>
            </p:nvSpPr>
            <p:spPr>
              <a:xfrm>
                <a:off x="2297160" y="4792680"/>
                <a:ext cx="411480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8360" y="220176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eaeaea"/>
                    </a:solidFill>
                    <a:latin typeface="Times New Roman"/>
                  </a:rPr>
                  <a:t>ENERGÍ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36000" y="5021280"/>
                <a:ext cx="259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eaeaea"/>
                    </a:solidFill>
                    <a:latin typeface="Times New Roman"/>
                  </a:rPr>
                  <a:t>TEMPERATUR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468360" y="3573360"/>
            <a:ext cx="4343400" cy="2273400"/>
            <a:chOff x="468360" y="3573360"/>
            <a:chExt cx="4343400" cy="2273400"/>
          </a:xfrm>
        </p:grpSpPr>
        <p:sp>
          <p:nvSpPr>
            <p:cNvPr id="397" name=""/>
            <p:cNvSpPr/>
            <p:nvPr/>
          </p:nvSpPr>
          <p:spPr>
            <a:xfrm>
              <a:off x="4354560" y="3573360"/>
              <a:ext cx="0" cy="1219320"/>
            </a:xfrm>
            <a:prstGeom prst="line">
              <a:avLst/>
            </a:prstGeom>
            <a:ln w="93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73680" y="5021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eaeaea"/>
                  </a:solidFill>
                  <a:latin typeface="Times New Roman"/>
                </a:rPr>
                <a:t>T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8360" y="5021280"/>
              <a:ext cx="275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eaeaea"/>
                  </a:solidFill>
                  <a:latin typeface="Times New Roman"/>
                </a:rPr>
                <a:t>TEMPERATURA  DE TRANSICIÓ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221280" y="5249520"/>
              <a:ext cx="752400" cy="2286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9900"/>
                </a:solidFill>
                <a:latin typeface="Arial"/>
              </a:rPr>
              <a:t>Curvas de 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981080" y="228600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5410080"/>
            <a:ext cx="48769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060720"/>
            <a:ext cx="3352680" cy="2349360"/>
          </a:xfrm>
          <a:custGeom>
            <a:avLst/>
            <a:gdLst/>
            <a:ahLst/>
            <a:rect l="l" t="t" r="r" b="b"/>
            <a:pathLst>
              <a:path w="2112" h="1480">
                <a:moveTo>
                  <a:pt x="0" y="1456"/>
                </a:moveTo>
                <a:cubicBezTo>
                  <a:pt x="152" y="1468"/>
                  <a:pt x="304" y="1480"/>
                  <a:pt x="432" y="1456"/>
                </a:cubicBezTo>
                <a:cubicBezTo>
                  <a:pt x="560" y="1432"/>
                  <a:pt x="680" y="1384"/>
                  <a:pt x="768" y="1312"/>
                </a:cubicBezTo>
                <a:cubicBezTo>
                  <a:pt x="856" y="1240"/>
                  <a:pt x="904" y="1144"/>
                  <a:pt x="960" y="1024"/>
                </a:cubicBezTo>
                <a:cubicBezTo>
                  <a:pt x="1016" y="904"/>
                  <a:pt x="1056" y="720"/>
                  <a:pt x="1104" y="592"/>
                </a:cubicBezTo>
                <a:cubicBezTo>
                  <a:pt x="1152" y="464"/>
                  <a:pt x="1192" y="336"/>
                  <a:pt x="1248" y="256"/>
                </a:cubicBezTo>
                <a:cubicBezTo>
                  <a:pt x="1304" y="176"/>
                  <a:pt x="1344" y="152"/>
                  <a:pt x="1440" y="112"/>
                </a:cubicBezTo>
                <a:cubicBezTo>
                  <a:pt x="1536" y="72"/>
                  <a:pt x="1712" y="32"/>
                  <a:pt x="1824" y="16"/>
                </a:cubicBezTo>
                <a:cubicBezTo>
                  <a:pt x="1936" y="0"/>
                  <a:pt x="2024" y="8"/>
                  <a:pt x="2112" y="1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3733920"/>
            <a:ext cx="2590920" cy="1676160"/>
          </a:xfrm>
          <a:custGeom>
            <a:avLst/>
            <a:gdLst/>
            <a:ahLst/>
            <a:rect l="l" t="t" r="r" b="b"/>
            <a:pathLst>
              <a:path w="1632" h="1056">
                <a:moveTo>
                  <a:pt x="0" y="1056"/>
                </a:moveTo>
                <a:cubicBezTo>
                  <a:pt x="100" y="1052"/>
                  <a:pt x="200" y="1048"/>
                  <a:pt x="288" y="1008"/>
                </a:cubicBezTo>
                <a:cubicBezTo>
                  <a:pt x="376" y="968"/>
                  <a:pt x="464" y="896"/>
                  <a:pt x="528" y="816"/>
                </a:cubicBezTo>
                <a:cubicBezTo>
                  <a:pt x="592" y="736"/>
                  <a:pt x="608" y="632"/>
                  <a:pt x="672" y="528"/>
                </a:cubicBezTo>
                <a:cubicBezTo>
                  <a:pt x="736" y="424"/>
                  <a:pt x="848" y="264"/>
                  <a:pt x="912" y="192"/>
                </a:cubicBezTo>
                <a:cubicBezTo>
                  <a:pt x="976" y="120"/>
                  <a:pt x="1000" y="120"/>
                  <a:pt x="1056" y="96"/>
                </a:cubicBezTo>
                <a:cubicBezTo>
                  <a:pt x="1112" y="72"/>
                  <a:pt x="1152" y="64"/>
                  <a:pt x="1248" y="48"/>
                </a:cubicBezTo>
                <a:cubicBezTo>
                  <a:pt x="1344" y="32"/>
                  <a:pt x="1488" y="16"/>
                  <a:pt x="1632" y="0"/>
                </a:cubicBezTo>
              </a:path>
            </a:pathLst>
          </a:custGeom>
          <a:noFill/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2362320"/>
            <a:ext cx="4114800" cy="1143000"/>
          </a:xfrm>
          <a:custGeom>
            <a:avLst/>
            <a:gdLst/>
            <a:ahLst/>
            <a:rect l="l" t="t" r="r" b="b"/>
            <a:pathLst>
              <a:path w="2592" h="720">
                <a:moveTo>
                  <a:pt x="0" y="720"/>
                </a:moveTo>
                <a:cubicBezTo>
                  <a:pt x="24" y="692"/>
                  <a:pt x="48" y="664"/>
                  <a:pt x="96" y="624"/>
                </a:cubicBezTo>
                <a:cubicBezTo>
                  <a:pt x="144" y="584"/>
                  <a:pt x="208" y="528"/>
                  <a:pt x="288" y="480"/>
                </a:cubicBezTo>
                <a:cubicBezTo>
                  <a:pt x="368" y="432"/>
                  <a:pt x="480" y="376"/>
                  <a:pt x="576" y="336"/>
                </a:cubicBezTo>
                <a:cubicBezTo>
                  <a:pt x="672" y="296"/>
                  <a:pt x="752" y="272"/>
                  <a:pt x="864" y="240"/>
                </a:cubicBezTo>
                <a:cubicBezTo>
                  <a:pt x="976" y="208"/>
                  <a:pt x="1112" y="168"/>
                  <a:pt x="1248" y="144"/>
                </a:cubicBezTo>
                <a:cubicBezTo>
                  <a:pt x="1384" y="120"/>
                  <a:pt x="1552" y="112"/>
                  <a:pt x="1680" y="96"/>
                </a:cubicBezTo>
                <a:cubicBezTo>
                  <a:pt x="1808" y="80"/>
                  <a:pt x="1864" y="64"/>
                  <a:pt x="2016" y="48"/>
                </a:cubicBezTo>
                <a:cubicBezTo>
                  <a:pt x="2168" y="32"/>
                  <a:pt x="2380" y="16"/>
                  <a:pt x="2592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330800"/>
            <a:ext cx="2590920" cy="1079280"/>
          </a:xfrm>
          <a:custGeom>
            <a:avLst/>
            <a:gdLst/>
            <a:ahLst/>
            <a:rect l="l" t="t" r="r" b="b"/>
            <a:pathLst>
              <a:path w="1632" h="680">
                <a:moveTo>
                  <a:pt x="0" y="680"/>
                </a:moveTo>
                <a:cubicBezTo>
                  <a:pt x="52" y="664"/>
                  <a:pt x="104" y="648"/>
                  <a:pt x="192" y="584"/>
                </a:cubicBezTo>
                <a:cubicBezTo>
                  <a:pt x="280" y="520"/>
                  <a:pt x="440" y="368"/>
                  <a:pt x="528" y="296"/>
                </a:cubicBezTo>
                <a:cubicBezTo>
                  <a:pt x="616" y="224"/>
                  <a:pt x="672" y="184"/>
                  <a:pt x="720" y="152"/>
                </a:cubicBezTo>
                <a:cubicBezTo>
                  <a:pt x="768" y="120"/>
                  <a:pt x="784" y="120"/>
                  <a:pt x="816" y="104"/>
                </a:cubicBezTo>
                <a:cubicBezTo>
                  <a:pt x="848" y="88"/>
                  <a:pt x="856" y="72"/>
                  <a:pt x="912" y="56"/>
                </a:cubicBezTo>
                <a:cubicBezTo>
                  <a:pt x="968" y="40"/>
                  <a:pt x="1032" y="16"/>
                  <a:pt x="1152" y="8"/>
                </a:cubicBezTo>
                <a:cubicBezTo>
                  <a:pt x="1272" y="0"/>
                  <a:pt x="1452" y="4"/>
                  <a:pt x="1632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34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00ff"/>
                </a:solidFill>
                <a:latin typeface="Times New Roman"/>
              </a:rPr>
              <a:t>FC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5b2ff"/>
                </a:solidFill>
                <a:latin typeface="Times New Roman"/>
              </a:rPr>
              <a:t>0,22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0,31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0080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0,43%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530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°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67080" y="54100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8128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100°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1752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ENERGÍA (J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nsayo de Tenacidad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7" name="johnbrownlibertyship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4530960" cy="2332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39640" y="3860640"/>
            <a:ext cx="4826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Liberty Ship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2700 fabric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400 fisur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20 se partieron en 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176720" cy="2968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5724360" y="3068640"/>
            <a:ext cx="2592720" cy="19479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012000" y="52293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Titan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172040" y="1484280"/>
            <a:ext cx="4971960" cy="4600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-252360" y="1484280"/>
            <a:ext cx="51116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Deformación Plá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71640" y="1125360"/>
          <a:ext cx="7561080" cy="548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7561080" cy="54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-53172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9900"/>
                </a:solidFill>
                <a:latin typeface="Arial"/>
              </a:rPr>
              <a:t>Fractur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4440" y="30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324000" y="1052640"/>
          <a:ext cx="3813120" cy="53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38131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61372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427640" y="1341360"/>
                <a:ext cx="43383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4427640" y="3573360"/>
            <a:ext cx="42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</a:rPr>
              <a:t>Kc : Factor crítico de Intensidad de tens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Modos de Frac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768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44360" y="1341360"/>
          <a:ext cx="899964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341360"/>
                    <a:ext cx="899964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0" y="5084640"/>
            <a:ext cx="24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: Tens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43280" y="5157720"/>
            <a:ext cx="24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I: en Plan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67280" y="5300640"/>
            <a:ext cx="24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Arial"/>
              </a:rPr>
              <a:t>Modo III: Cizal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aeaea"/>
                </a:solidFill>
                <a:latin typeface="Arial"/>
              </a:rPr>
              <a:t>Dependencia entre Kc y el espesor  del  material</a:t>
            </a:r>
            <a:r>
              <a:rPr b="0" lang="es-MX" sz="4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909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219640" y="260280"/>
                <a:ext cx="345600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042920" y="2276640"/>
          <a:ext cx="7705800" cy="43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76640"/>
                    <a:ext cx="7705800" cy="43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Como detectar una grie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728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Ultrasonid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Tintas penetrant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Corriente Edd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Partículas magnética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Arial"/>
              </a:rPr>
              <a:t>Rayos X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Tipos de Griet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859280" y="1413000"/>
          <a:ext cx="345600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13000"/>
                    <a:ext cx="34560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116000" y="1844640"/>
                <a:ext cx="3024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0044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332000" y="4581360"/>
                <a:ext cx="3313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6792840" y="43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4716360" y="3933720"/>
          <a:ext cx="3527640" cy="22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933720"/>
                    <a:ext cx="352764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00"/>
                </a:solidFill>
                <a:latin typeface="Arial"/>
              </a:rPr>
              <a:t>Fati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435640" y="1773000"/>
            <a:ext cx="3457440" cy="2664000"/>
            <a:chOff x="5435640" y="1773000"/>
            <a:chExt cx="3457440" cy="2664000"/>
          </a:xfrm>
        </p:grpSpPr>
        <p:grpSp>
          <p:nvGrpSpPr>
            <p:cNvPr id="460" name=""/>
            <p:cNvGrpSpPr/>
            <p:nvPr/>
          </p:nvGrpSpPr>
          <p:grpSpPr>
            <a:xfrm>
              <a:off x="5435640" y="1773000"/>
              <a:ext cx="3457440" cy="1921680"/>
              <a:chOff x="5435640" y="1773000"/>
              <a:chExt cx="3457440" cy="192168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7195680" y="1773000"/>
                <a:ext cx="0" cy="1906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6118920" y="1788480"/>
                <a:ext cx="2109600" cy="19062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97360" y="1788840"/>
                <a:ext cx="3113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79800" y="3668040"/>
                <a:ext cx="3113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95680" y="2040840"/>
                <a:ext cx="7563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58760" y="3400200"/>
                <a:ext cx="7563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15120" y="2327760"/>
                <a:ext cx="479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35240" y="3103920"/>
                <a:ext cx="479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10080" y="1788840"/>
                <a:ext cx="98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206400" y="3668040"/>
                <a:ext cx="989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35640" y="1978200"/>
                <a:ext cx="1032840" cy="488160"/>
              </a:xfrm>
              <a:prstGeom prst="rect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eaeaea"/>
                    </a:solidFill>
                    <a:latin typeface="Arial"/>
                    <a:ea typeface="Arial"/>
                  </a:rPr>
                  <a:t>tracción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5517720" y="3948480"/>
              <a:ext cx="1396440" cy="4885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  <a:ea typeface="Arial"/>
                </a:rPr>
                <a:t>compresión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16000" y="31114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s-MX" sz="9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06360" y="4106520"/>
            <a:ext cx="4012920" cy="2346480"/>
            <a:chOff x="1206360" y="4106520"/>
            <a:chExt cx="4012920" cy="2346480"/>
          </a:xfrm>
        </p:grpSpPr>
        <p:grpSp>
          <p:nvGrpSpPr>
            <p:cNvPr id="475" name=""/>
            <p:cNvGrpSpPr/>
            <p:nvPr/>
          </p:nvGrpSpPr>
          <p:grpSpPr>
            <a:xfrm>
              <a:off x="1468080" y="4106520"/>
              <a:ext cx="3202560" cy="1635120"/>
              <a:chOff x="1468080" y="4106520"/>
              <a:chExt cx="3202560" cy="1635120"/>
            </a:xfrm>
          </p:grpSpPr>
          <p:sp>
            <p:nvSpPr>
              <p:cNvPr id="476" name=""/>
              <p:cNvSpPr/>
              <p:nvPr/>
            </p:nvSpPr>
            <p:spPr>
              <a:xfrm>
                <a:off x="1480680" y="5741640"/>
                <a:ext cx="3189960" cy="0"/>
              </a:xfrm>
              <a:prstGeom prst="line">
                <a:avLst/>
              </a:prstGeom>
              <a:ln w="38160">
                <a:solidFill>
                  <a:srgbClr val="65b2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1468080" y="4106520"/>
                <a:ext cx="0" cy="1634760"/>
              </a:xfrm>
              <a:prstGeom prst="line">
                <a:avLst/>
              </a:prstGeom>
              <a:ln w="38160">
                <a:solidFill>
                  <a:srgbClr val="65b2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468080" y="5306760"/>
                <a:ext cx="3177000" cy="0"/>
              </a:xfrm>
              <a:prstGeom prst="line">
                <a:avLst/>
              </a:prstGeom>
              <a:ln w="38160">
                <a:solidFill>
                  <a:srgbClr val="65b2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1206360" y="4925880"/>
              <a:ext cx="3233520" cy="782280"/>
            </a:xfrm>
            <a:custGeom>
              <a:avLst/>
              <a:gdLst/>
              <a:ahLst/>
              <a:rect l="l" t="t" r="r" b="b"/>
              <a:pathLst>
                <a:path w="3802" h="784">
                  <a:moveTo>
                    <a:pt x="0" y="781"/>
                  </a:moveTo>
                  <a:cubicBezTo>
                    <a:pt x="309" y="398"/>
                    <a:pt x="619" y="16"/>
                    <a:pt x="945" y="16"/>
                  </a:cubicBezTo>
                  <a:cubicBezTo>
                    <a:pt x="1271" y="16"/>
                    <a:pt x="1627" y="784"/>
                    <a:pt x="1957" y="781"/>
                  </a:cubicBezTo>
                  <a:cubicBezTo>
                    <a:pt x="2287" y="778"/>
                    <a:pt x="2618" y="2"/>
                    <a:pt x="2925" y="1"/>
                  </a:cubicBezTo>
                  <a:cubicBezTo>
                    <a:pt x="3232" y="0"/>
                    <a:pt x="3517" y="386"/>
                    <a:pt x="3802" y="773"/>
                  </a:cubicBezTo>
                </a:path>
              </a:pathLst>
            </a:custGeom>
            <a:noFill/>
            <a:ln w="38160">
              <a:solidFill>
                <a:srgbClr val="65b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31440" y="4434120"/>
              <a:ext cx="9835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MX" sz="2400" spc="-1" strike="noStrike" baseline="-25000">
                  <a:solidFill>
                    <a:srgbClr val="eaeaea"/>
                  </a:solidFill>
                  <a:latin typeface="Times New Roman"/>
                  <a:ea typeface="Times New Roman"/>
                </a:rPr>
                <a:t>m</a:t>
              </a:r>
              <a:r>
                <a:rPr b="0" lang="es-ES" sz="2400" spc="-1" strike="noStrike" baseline="-25000">
                  <a:solidFill>
                    <a:srgbClr val="eaeaea"/>
                  </a:solidFill>
                  <a:latin typeface="Times New Roman"/>
                  <a:ea typeface="Times New Roman"/>
                </a:rPr>
                <a:t>á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40160" y="5798520"/>
              <a:ext cx="93420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mí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3560" y="5033880"/>
              <a:ext cx="67572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eaeaea"/>
                  </a:solidFill>
                  <a:latin typeface="Symbol"/>
                  <a:ea typeface="Symbol"/>
                </a:rPr>
                <a:t></a:t>
              </a:r>
              <a:r>
                <a:rPr b="0" lang="es-ES" sz="2400" spc="-1" strike="noStrike" baseline="-30000">
                  <a:solidFill>
                    <a:srgbClr val="eaeaea"/>
                  </a:solidFill>
                  <a:latin typeface="Times New Roman"/>
                  <a:ea typeface="Times New Roman"/>
                </a:rPr>
                <a:t>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140360" y="5734080"/>
            <a:ext cx="1058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° 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ic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6000" y="254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71640" y="3645000"/>
            <a:ext cx="390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16080" y="1652760"/>
            <a:ext cx="158760" cy="295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00000" y="1989000"/>
            <a:ext cx="4176720" cy="1856880"/>
            <a:chOff x="900000" y="1989000"/>
            <a:chExt cx="4176720" cy="1856880"/>
          </a:xfrm>
        </p:grpSpPr>
        <p:sp>
          <p:nvSpPr>
            <p:cNvPr id="488" name=""/>
            <p:cNvSpPr/>
            <p:nvPr/>
          </p:nvSpPr>
          <p:spPr>
            <a:xfrm>
              <a:off x="1216080" y="1989000"/>
              <a:ext cx="3011760" cy="556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28200" y="2236320"/>
              <a:ext cx="0" cy="16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00000" y="226728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16080" y="2545920"/>
              <a:ext cx="158400" cy="295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19320" y="2558520"/>
              <a:ext cx="155160" cy="282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219320" y="1658880"/>
            <a:ext cx="155520" cy="282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98640" y="1398600"/>
            <a:ext cx="458640" cy="1114560"/>
          </a:xfrm>
          <a:custGeom>
            <a:avLst/>
            <a:gdLst>
              <a:gd name="textAreaLeft" fmla="*/ 80280 w 458640"/>
              <a:gd name="textAreaRight" fmla="*/ 332640 w 458640"/>
              <a:gd name="textAreaTop" fmla="*/ 149040 h 1114560"/>
              <a:gd name="textAreaBottom" fmla="*/ 965520 h 111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112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00"/>
                </a:solidFill>
                <a:latin typeface="Arial"/>
              </a:rPr>
              <a:t>CURVAS S-N (Wohler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209680" y="2362320"/>
            <a:ext cx="0" cy="3200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562720"/>
            <a:ext cx="4191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54280" y="2590920"/>
            <a:ext cx="2908440" cy="2070000"/>
          </a:xfrm>
          <a:custGeom>
            <a:avLst/>
            <a:gdLst/>
            <a:ahLst/>
            <a:rect l="l" t="t" r="r" b="b"/>
            <a:pathLst>
              <a:path w="1832" h="1304">
                <a:moveTo>
                  <a:pt x="8" y="0"/>
                </a:moveTo>
                <a:cubicBezTo>
                  <a:pt x="4" y="56"/>
                  <a:pt x="0" y="112"/>
                  <a:pt x="8" y="192"/>
                </a:cubicBezTo>
                <a:cubicBezTo>
                  <a:pt x="16" y="272"/>
                  <a:pt x="32" y="400"/>
                  <a:pt x="56" y="480"/>
                </a:cubicBezTo>
                <a:cubicBezTo>
                  <a:pt x="80" y="560"/>
                  <a:pt x="120" y="616"/>
                  <a:pt x="152" y="672"/>
                </a:cubicBezTo>
                <a:cubicBezTo>
                  <a:pt x="184" y="728"/>
                  <a:pt x="208" y="768"/>
                  <a:pt x="248" y="816"/>
                </a:cubicBezTo>
                <a:cubicBezTo>
                  <a:pt x="288" y="864"/>
                  <a:pt x="336" y="912"/>
                  <a:pt x="392" y="960"/>
                </a:cubicBezTo>
                <a:cubicBezTo>
                  <a:pt x="448" y="1008"/>
                  <a:pt x="520" y="1064"/>
                  <a:pt x="584" y="1104"/>
                </a:cubicBezTo>
                <a:cubicBezTo>
                  <a:pt x="648" y="1144"/>
                  <a:pt x="704" y="1176"/>
                  <a:pt x="776" y="1200"/>
                </a:cubicBezTo>
                <a:cubicBezTo>
                  <a:pt x="848" y="1224"/>
                  <a:pt x="912" y="1232"/>
                  <a:pt x="1016" y="1248"/>
                </a:cubicBezTo>
                <a:cubicBezTo>
                  <a:pt x="1120" y="1264"/>
                  <a:pt x="1264" y="1288"/>
                  <a:pt x="1400" y="1296"/>
                </a:cubicBezTo>
                <a:cubicBezTo>
                  <a:pt x="1536" y="1304"/>
                  <a:pt x="1712" y="1296"/>
                  <a:pt x="1832" y="1296"/>
                </a:cubicBezTo>
              </a:path>
            </a:pathLst>
          </a:custGeom>
          <a:noFill/>
          <a:ln w="38160">
            <a:solidFill>
              <a:srgbClr val="65b2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553080" y="5181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N° de cic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2133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Times New Roman"/>
              </a:rPr>
              <a:t>Esfuerzo Aplic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9900"/>
                </a:solidFill>
                <a:latin typeface="Arial"/>
              </a:rPr>
              <a:t>Fati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844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026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087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62480" y="34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152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7" name="fig24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087800" cy="42480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6543720" y="24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09" name="fig 244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5760720" cy="2079720"/>
          </a:xfrm>
          <a:prstGeom prst="rect">
            <a:avLst/>
          </a:prstGeom>
          <a:ln w="0">
            <a:noFill/>
          </a:ln>
        </p:spPr>
      </p:pic>
      <p:pic>
        <p:nvPicPr>
          <p:cNvPr id="510" name="fig17b" descr=""/>
          <p:cNvPicPr/>
          <p:nvPr/>
        </p:nvPicPr>
        <p:blipFill>
          <a:blip r:embed="rId3"/>
          <a:stretch/>
        </p:blipFill>
        <p:spPr>
          <a:xfrm>
            <a:off x="4356000" y="3284640"/>
            <a:ext cx="36007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5977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11240" y="272880"/>
            <a:ext cx="71136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5760" y="1168560"/>
            <a:ext cx="8226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900000" y="259920"/>
            <a:ext cx="605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9900"/>
                </a:solidFill>
                <a:latin typeface="Arial"/>
              </a:rPr>
              <a:t>Ductil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a ductilidad se mide por la deformación ingenieril de fractura  y por la reducción de áre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89480" y="42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2349360"/>
                <a:ext cx="655164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547640" y="4149720"/>
                <a:ext cx="237492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859280" y="4076640"/>
                <a:ext cx="33847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os Amestica</cp:lastModifiedBy>
  <dcterms:modified xsi:type="dcterms:W3CDTF">2005-08-09T16:17:57Z</dcterms:modified>
  <cp:revision>68</cp:revision>
  <dc:subject/>
  <dc:title>PowerPoint Presentation</dc:title>
</cp:coreProperties>
</file>