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4FF-C1D2-4922-B5AA-10B4F003D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B37-4A28-447E-B576-58903D15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9A73-EDAC-4431-8EC1-E205DA7E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9D2-F648-411D-997F-A5F0FF0C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4AC-D222-431E-AFD2-AD02855E4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5691-C052-42AB-B7DE-B563031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9F18-0DFC-4079-B05D-F9633870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D7AE-0FF3-4EA1-86D9-31B3DFF2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4F2C-B0C7-46A9-A89A-222F1C94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703F-6380-4E34-A731-A90254E4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B5C4-FC7A-4D58-8F1A-42424634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C6F-A546-42C3-804C-AA36152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E8E0-83E8-421F-BA6C-7A376E99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4FCD-FB21-47EA-A603-3A12B4C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FCB-7435-4B8F-A4FB-D00D8373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244A-6EEE-4031-A714-135BE608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B02D-1C02-4ECD-BAFA-381E54BD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58E-1BF1-49F6-8E04-6C86D198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F1A6-569D-4F6F-B967-78759341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EA19-3830-4295-B0BC-9A3339DA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E0D-36C6-4329-833D-BC890F1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A00F-A5CD-4E08-8FE2-B023E876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D86-7EB1-4D5B-9B78-1A46E22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3C8-5978-42B3-988D-6AAE5C58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DEEC-12DF-43DD-BE0B-86236440720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C014-69FB-4474-A029-8D98C7ED6025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amaño de Talleres y Cuadrilla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4019760" cy="1590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835280" y="4005360"/>
            <a:ext cx="5688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47380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00000" y="738360"/>
            <a:ext cx="69836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mplo en Aren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-743040"/>
            <a:ext cx="75438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ercicio en clas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izar el siguiente problema en AR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tiene un equipo que puede tener 3 tipos distintos de fa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sigue una distribución exponencial de media 4, 1 y 8 días respectivam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en dos talleres de reparación: Mecánica (capacidad 2), Eléctrica (capacidad 2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cánica se demora en reparar 3 días con una distribución exponencial, y Eléctrica 4 días con la misma distribu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da falla tiene una probabilidad de 0.6, 0.6 y 0.7 de requerir taller mecánico, y 0.5, 0.3, 0.4 de requerir taller eléctr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ar el tiempo medio de espera en cola de ambos talleres y la tasa de ocupación de los talleres, si los talleres trabajan en serie y en paralelo. Para un tiempo de simulación de 200 dí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roduc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maño óptimo de personal de manten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Interv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o de f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53640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tiempo promedio de espera en la cola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el número promedio de trabajos en cur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uál es la probabilidad de que el servicio esté sin us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llegada de trabajos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tasa de servicio por unidad de tiemp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s: tiempo medio de tr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q: Tiempo de espera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16360" y="3213000"/>
                <a:ext cx="33843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700360" y="5140440"/>
                <a:ext cx="3600360" cy="17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q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ρ</m:t>
                              </m:r>
                            </m:num>
                            <m:den>
                              <m:r>
                                <m:t xml:space="preserve">μ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</m:den>
                          </m:f>
                        </m:e>
                        <m:e>
                          <m:r>
                            <m:t xml:space="preserve">,</m:t>
                          </m:r>
                        </m:e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t xml:space="preserve">λ</m:t>
                          </m:r>
                          <m:eqArr>
                            <m:e>
                              <m:f>
                                <m:num>
                                  <m:r>
                                    <m:t xml:space="preserve">μ</m:t>
                                  </m:r>
                                </m:num>
                                <m:den/>
                              </m:f>
                            </m:e>
                          </m:eqAr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stema con n recur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empo medio que un recursos esta 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79640" y="2205000"/>
            <a:ext cx="518472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708360" y="5300640"/>
            <a:ext cx="1584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abilidad de que un recurso este desocup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tidad esperada tareas en la co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975280" cy="1843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843280" y="4797360"/>
            <a:ext cx="331128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516720" y="4797360"/>
            <a:ext cx="1727280" cy="1300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979640" y="4797360"/>
            <a:ext cx="1008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mpo de espera en la c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1657440" cy="1004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771640" y="3645000"/>
            <a:ext cx="36734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úmero esperado de tareas en servic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259236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oría de col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quiere minimizar el costo glo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operación de un recur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costo de fa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561636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5T02:57:21Z</dcterms:created>
  <dc:creator>Vivi</dc:creator>
  <dc:description/>
  <dc:language>en-US</dc:language>
  <cp:lastModifiedBy>Vivi</cp:lastModifiedBy>
  <dcterms:modified xsi:type="dcterms:W3CDTF">2005-08-05T03:51:27Z</dcterms:modified>
  <cp:revision>6</cp:revision>
  <dc:subject/>
  <dc:title>Tamaño de Talleres y Cuadrillas</dc:title>
</cp:coreProperties>
</file>