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90D-88FC-4E85-BA46-78DEC4FE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6EB-BBE4-4009-A32A-18159D65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E8B-293D-46A2-AF54-7280CFF7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35E-2F8C-4132-822A-D536CEFC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C356-EE63-4A26-A7EC-E3851676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A989-C270-4593-82C5-581F79D1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497-E68D-454C-9BFF-0417349C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1602-67AE-435E-BEDF-9D8D58A5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A41C-78A3-4DEB-A153-1F79427D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FE0E-5FD8-4B3B-AFCC-996C9773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5E7C-FD37-4D5B-9570-64A45079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2D7-6915-430F-8432-A6841BD3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17F3-FB0E-430A-B1AA-F43E8CAD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01EF-8EB3-4A77-B8F5-AEB01BF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32E1-34A5-4093-9B64-3724376B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05BC-B172-4147-BC56-87319A10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C762-5DE1-4F38-8F37-DC6A19CD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973-25C2-46A1-B7D6-7E80E8F7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6AE-3882-4A3C-80DA-2D61BDFA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3B6-8391-49C2-85D5-86B28C60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CE9-AADC-4705-8998-F17B0F5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DD9-3CCA-45E8-946A-AD21202A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558B-2172-4B8F-9F61-0FE29E3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7C1-0B2D-43DE-BB42-F3E6FACC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ACA-32AC-4B8A-8983-1B1743950C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7EA9-B8F5-45E3-92C5-D0C72B1A16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onibilidad y costo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r. Ing. Rodrigo Pascual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/me57a/murty95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0-22 de abril de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mplo ilustra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en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 (en vida útil)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as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670 u/ho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da útil de diseño de la pla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30 año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pera 16 horas/d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4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6320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 y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 62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ño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i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2,7231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m/año, A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=65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cio unitario 60 um/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stos de operación (excluyendo salarios) alcanzan los 54,7 10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um/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s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blecer optimo de dispon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3227400"/>
            <a:ext cx="4724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a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3280" y="1509840"/>
                <a:ext cx="525780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ida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útil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43280" y="3068640"/>
                <a:ext cx="5113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s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m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724280"/>
                <a:ext cx="460872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,</m:t>
                            </m:r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ño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6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</m:t>
                            </m:r>
                          </m:sub>
                        </m:sSub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61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m</m:t>
                            </m:r>
                            <m:r>
                              <m:t xml:space="preserve">u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4319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35542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09520" y="3498840"/>
            <a:ext cx="6923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9640" y="2798640"/>
            <a:ext cx="33336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3680" y="2322360"/>
            <a:ext cx="3047760" cy="743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43909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re resultados al ajustar el primer modelo propuesto por (Murty, 1995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48000" y="2328840"/>
            <a:ext cx="53388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203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o de mantenimiento no puede superar en 20% el máximo 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348000" y="2306520"/>
            <a:ext cx="5338800" cy="4121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76720" y="4365720"/>
            <a:ext cx="561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43657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e el modelo propuesto para considerar el efecto de la implementación de TPM. Tome en cuenta que durante el segundo año del estudio, 25% del parque de equipos recibía atención TPM de parte del oper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43280" y="3484440"/>
            <a:ext cx="5257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póte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=Ci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6000" y="1413000"/>
            <a:ext cx="4038840" cy="111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526104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82296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121440" cy="123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4038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09560" y="1600200"/>
            <a:ext cx="592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 agregado, empí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posiciones múltiples de l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árametros d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s fijos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operacio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Intervención mantenimiento (um/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ecio unitario (um/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arámetros y variab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nomin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tasa de producción efectiv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osto de operación por unidad de produc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tilidad = u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Ingresos – Cost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Ingresos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s=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osto global por unidad de tiemp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 Global = Costo Fijo + Costo Operacional + Costo Interv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sto operacional por unidad de tiemp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modelos para el costo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2951280" cy="114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3914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ción de parámetr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el primero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003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35280" y="5589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99700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2200" y="4097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920" y="36385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028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56160" y="57531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7280" y="3592440"/>
            <a:ext cx="11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inter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300720" y="2924280"/>
                <a:ext cx="193680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dad por unidad de tiem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052720" y="1989000"/>
            <a:ext cx="4038480" cy="51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038480" cy="447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3213000"/>
            <a:ext cx="1512720" cy="806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24000" y="4149720"/>
            <a:ext cx="4038840" cy="162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84360" y="5013360"/>
            <a:ext cx="50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028960" y="5118120"/>
                <a:ext cx="93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8:49:22Z</dcterms:created>
  <dc:creator>Rodrigo Pascual</dc:creator>
  <dc:description/>
  <dc:language>en-US</dc:language>
  <cp:lastModifiedBy>Vivi</cp:lastModifiedBy>
  <dcterms:modified xsi:type="dcterms:W3CDTF">2005-09-21T02:59:01Z</dcterms:modified>
  <cp:revision>19</cp:revision>
  <dc:subject/>
  <dc:title>Disponibilidad y costo de intervención</dc:title>
</cp:coreProperties>
</file>