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03FCDF-ECDC-43CD-BE44-F558A3CE40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5DF8D-9E2F-4B8B-848B-6DEE9060B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8E601E-280E-48E6-ADB0-A384F3D796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DC4F38-D88D-48A6-9B60-DF8A9A6E24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AE24B-611D-44AB-B35E-C6F92F082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625BF-CF46-4152-A5E7-04AE226F3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1B869-1A39-4730-AD3D-78EFEB9E4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2ADED-40A5-4F41-9D6A-12D8DA8A3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6A926-73BF-44BB-9A17-BD332B079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6D69A-59E4-4234-A847-9FB3FD002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97D16-ADB8-4B75-BE18-A3827423C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BAD71-B6A3-4C32-B3B2-DDC4ED31C4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27FB0-AB5B-4738-B34B-C838037D9B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00200"/>
            <a:ext cx="777240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MENTO DE SEGURIDAD MINERA</a:t>
            </a:r>
            <a:br>
              <a:rPr sz="4400"/>
            </a:br>
            <a:r>
              <a:rPr b="0" lang="en-US" sz="4400" spc="-1" strike="noStrike">
                <a:solidFill>
                  <a:srgbClr val="000000"/>
                </a:solidFill>
                <a:latin typeface="Times New Roman"/>
              </a:rPr>
              <a:t>(Decreto Supremo 72)</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ntilación (4)</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emás de lo anterior, la legislación establece como han de efectuarse las mediciones de los parámetros que esta específica. Por ejemplo: (...) </a:t>
            </a:r>
            <a:r>
              <a:rPr b="0" lang="en-US" sz="3200" spc="-1" strike="noStrike">
                <a:solidFill>
                  <a:srgbClr val="000000"/>
                </a:solidFill>
                <a:latin typeface="Times New Roman"/>
                <a:ea typeface="Times New Roman"/>
              </a:rPr>
              <a:t>La temperatura máxima, medida en el </a:t>
            </a:r>
            <a:r>
              <a:rPr b="0" lang="en-US" sz="4000" spc="-1" strike="noStrike">
                <a:solidFill>
                  <a:srgbClr val="000000"/>
                </a:solidFill>
                <a:latin typeface="Times New Roman"/>
                <a:ea typeface="Times New Roman"/>
              </a:rPr>
              <a:t>termómetro de bulbo húmedo</a:t>
            </a:r>
            <a:r>
              <a:rPr b="0" lang="en-US" sz="3200" spc="-1" strike="noStrike">
                <a:solidFill>
                  <a:srgbClr val="000000"/>
                </a:solidFill>
                <a:latin typeface="Times New Roman"/>
                <a:ea typeface="Times New Roman"/>
              </a:rPr>
              <a:t>, en el interior de la mina no podrá exceder de treinta grados (30º) centígrado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luencia de la legislación (1)</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viamente la legislación debe cumplirse, por lo que esta condiciona fuertemente las actividades mineras, algunos ejemplo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rt. 391. La ventilación se hará por medios eficaces, exentos de todo peligro para el personal y se deberá evitar, técnicamente en lo posible, la ventilación auxiliar en la faena.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luencia de la legislación (2)</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rt. 392. La temperatura máxima, medida en el termómetro de bulbo húmedo, en el interior de la mina no podrá exceder de treinta grados (30º) centígrados con una duración de la jornada de trabajo de ocho (8) horas, y deberá disminuirse la jornada a seis (6) horas si dicha temperatura se eleva a treinta y dos grados (32º) centígrados, la cual será la temperatura máxima admisible en minas subterráneas en explotació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luencia de la legislación (3)</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ramente efectuar 4 turnos de trabajo de 6 horas por sobrepasar la temperatura en 2ºC no es muy práctico, por las disminuciones de producción inherentes a los cambios de turno. De todas maneras, es un problema de planificación en que la legislación está afectan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luencia de la legislación (4)</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rt. 395. Toda corriente de aire viciado que pudiera perjudicar la salud o la seguridad de los trabajadores, será cuidadosamente desviada de las faenas o de las vías destinadas al tránsito normal de las personas.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o se permitirá el uso de aire viciado para ventilar frentes en explotació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luencia de la legislación (5)</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aire viciado es indeseable, pero imposible de evitar, por eso se ventilan las minas, en un circuito de ventilación podría llegar a ser necesario desarrollos adicionales para evitar el contacto de este aire con ciertas zonas, lo que influye obviamente en el diseño de las faen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luencia de la legislación (6)</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rt. 400. El Administrador deberá elaborar y mantener actualizado un procedimiento de evacuación de personal en casos de emergencia. Dicho procedimiento debe considerar, entre otras, las siguientes materias:</a:t>
            </a:r>
            <a:endParaRPr b="0" lang="en-US" sz="2600" spc="-1" strike="noStrike">
              <a:solidFill>
                <a:srgbClr val="000000"/>
              </a:solidFill>
              <a:latin typeface="Times New Roman"/>
            </a:endParaRPr>
          </a:p>
          <a:p>
            <a:pPr marL="3121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endParaRPr b="0" lang="en-US" sz="2600" spc="-1" strike="noStrike">
              <a:solidFill>
                <a:srgbClr val="000000"/>
              </a:solidFill>
              <a:latin typeface="Times New Roman"/>
            </a:endParaRPr>
          </a:p>
          <a:p>
            <a:pPr marL="3121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 Sistemas de alarma.</a:t>
            </a:r>
            <a:endParaRPr b="0" lang="en-US" sz="2600" spc="-1" strike="noStrike">
              <a:solidFill>
                <a:srgbClr val="000000"/>
              </a:solidFill>
              <a:latin typeface="Times New Roman"/>
            </a:endParaRPr>
          </a:p>
          <a:p>
            <a:pPr marL="3121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b) Tipo de emergencia.</a:t>
            </a:r>
            <a:endParaRPr b="0" lang="en-US" sz="2600" spc="-1" strike="noStrike">
              <a:solidFill>
                <a:srgbClr val="000000"/>
              </a:solidFill>
              <a:latin typeface="Times New Roman"/>
            </a:endParaRPr>
          </a:p>
          <a:p>
            <a:pPr marL="3121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 Instrucción del personal.</a:t>
            </a:r>
            <a:endParaRPr b="0" lang="en-US" sz="2600" spc="-1" strike="noStrike">
              <a:solidFill>
                <a:srgbClr val="000000"/>
              </a:solidFill>
              <a:latin typeface="Times New Roman"/>
            </a:endParaRPr>
          </a:p>
          <a:p>
            <a:pPr marL="3121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 Simulacros, y</a:t>
            </a:r>
            <a:endParaRPr b="0" lang="en-US" sz="2600" spc="-1" strike="noStrike">
              <a:solidFill>
                <a:srgbClr val="000000"/>
              </a:solidFill>
              <a:latin typeface="Times New Roman"/>
            </a:endParaRPr>
          </a:p>
          <a:p>
            <a:pPr marL="3121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 Señalización interna de la mina e indicación de las vías de escape.</a:t>
            </a:r>
            <a:endParaRPr b="0" lang="en-US" sz="2600" spc="-1" strike="noStrike">
              <a:solidFill>
                <a:srgbClr val="000000"/>
              </a:solidFill>
              <a:latin typeface="Times New Roman"/>
            </a:endParaRPr>
          </a:p>
          <a:p>
            <a:pPr marL="3121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luencia de la legislación (7)</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27432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cipalmente los puntos de instrucción al personal y realización de simulacros, claramente afectan al desarrollo normal de las labores realizadas al interior min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luencia de la Legislación (8)</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30481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Ver mas artículos en paper en U-cursos Fragmento_DS_72.doc</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ido </a:t>
            </a:r>
            <a:endParaRPr b="0" lang="en-US" sz="4400" spc="-1" strike="noStrike">
              <a:solidFill>
                <a:srgbClr val="000000"/>
              </a:solidFill>
              <a:latin typeface="Times New Roman"/>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sión general de la normativ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entación del DS 72</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 qué forma la legislación influencia las condiciones operacionales y el diseño de las actividades mineras (ventilació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idades (1)</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Decreto Supremo 72 establece las condiciones de seguridad que se debe seguir para el diseño y operación de una mina (rajo y subterránea) en Chil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demás establece como ha de operarse, para asegurar un nivel de seguridad adecuado, aquellas minas construidas previas a la publicación de la normativa, cuyo diseño está fuera de los márgenes descrit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 lo referente a parámetros operacionales, TODAS las minas deben adaptarse a la normativ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nalizaremos específicamente como el DS 72 se preocupa del problema de la ventilación en la minería subterráne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idades (2)</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DS 72 se divide principalmente en dos grandes capítulos: Explotación de minas a cielo abierto y Explotación de minas subterráne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da uno de estos capítulos se divide a su vez en: Generalidades, Transporte, Maquinaria Diesel, Ventilación, Explosivos, Fortificación, Equipos de levante, Prevención y control de incendios y Electric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idades (3)</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rt. 333: </a:t>
            </a:r>
            <a:r>
              <a:rPr b="0" lang="en-US" sz="2200" spc="-1" strike="noStrike">
                <a:solidFill>
                  <a:srgbClr val="000000"/>
                </a:solidFill>
                <a:latin typeface="Times New Roman"/>
                <a:ea typeface="Times New Roman"/>
              </a:rPr>
              <a:t>En toda mina en explotación deberán existir, por lo menos, dos labores principales de comunicación con la superficie, ya sean piques, chiflones o socavones, de manera que la interrupción de una de ellas no afecte el tránsito expedito por la otra. Las labores en servicio activo de la mina deberán, a su vez, tener comunicación expedita con las labores principales de comunicación a la superficie, las que se mantendrán siempre en buen estado de conservación y  salubridad.</a:t>
            </a:r>
            <a:endParaRPr b="0" lang="en-US" sz="2200" spc="-1" strike="noStrike">
              <a:solidFill>
                <a:srgbClr val="000000"/>
              </a:solidFill>
              <a:latin typeface="Times New Roman"/>
            </a:endParaRPr>
          </a:p>
          <a:p>
            <a:pPr marL="3153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Las referidas labores principales de comunicación con la superficie deberán tener los elementos necesarios para la fácil circulación de las personas en tal forma que, en caso de emergencia, éstas no tengan necesidad de hacer uso de la maquinaria de movilización para salir a la superficie.</a:t>
            </a:r>
            <a:r>
              <a:rPr b="0" lang="en-US" sz="2200" spc="-1" strike="noStrike">
                <a:solidFill>
                  <a:srgbClr val="000000"/>
                </a:solidFill>
                <a:latin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idades (4)</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ros artículos del capítulo primero, al igual que Art. 333, definen en términos generales, pero con cierto detalle técnico, cómo se debe proceder en ciertas prácticas específicas de la actividad minera pero que son comunes para todas faenas (por ejemplo: la excavación de una chimene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ntilación (1)</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e qué debe preocuparse el circuito de ventilación?</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De suministrar al interior de la mina de una adecuada cantidad y calidad del aire para el trabajo de personal y equipo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Quién define cuales son estas cantidades y en qué términos de calidad?</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Claramente está definido por ley, detalladamente en el Decreto Supremo 72: Reglamento de seguridad Minera.</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ntilación (2)</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tidad de aire: la legislación establece la cantidad mínima de aire que debe suministrarse por persona al interior de la mina, teniendo en cuenta el número de trabajadores, extensiones de las faenas, </a:t>
            </a:r>
            <a:r>
              <a:rPr b="0" lang="en-US" sz="2800" spc="-1" strike="noStrike">
                <a:solidFill>
                  <a:srgbClr val="000000"/>
                </a:solidFill>
                <a:latin typeface="Times New Roman"/>
                <a:ea typeface="Times New Roman"/>
              </a:rPr>
              <a:t>el tipo de maquinaria de combustión interna, las emanaciones naturales de las minas y las secciones de las galerías</a:t>
            </a:r>
            <a:r>
              <a:rPr b="0" lang="en-US" sz="2800" spc="-1" strike="noStrike">
                <a:solidFill>
                  <a:srgbClr val="000000"/>
                </a:solidFill>
                <a:latin typeface="Times New Roman"/>
              </a:rPr>
              <a:t>. Se limita el número de trabajadores a no más de 75 personas para cada circuito.</a:t>
            </a: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ntilación (3)</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alidad del aire: se regula la temperatura  máxima del aire interior mina, el tipo de ventiladores a utilizar para cada labor (reconocimiento, operación, etc.), la cantidad mínima de oxigeno, concentraciones máximas de gases nocivos (legislación del Ministerio de Salud Pública) y velocida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9T01:53:43Z</dcterms:created>
  <dc:creator>Invitado</dc:creator>
  <dc:description/>
  <dc:language>en-US</dc:language>
  <cp:lastModifiedBy>Invitado</cp:lastModifiedBy>
  <dcterms:modified xsi:type="dcterms:W3CDTF">2005-05-29T06:23:16Z</dcterms:modified>
  <cp:revision>28</cp:revision>
  <dc:subject/>
  <dc:title>REGLAMENTO DE SEGURIDAD MINERA (Decreto Supremo 72)</dc:title>
</cp:coreProperties>
</file>