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23C-848B-48EA-8802-10FADC92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129-411C-41BA-A115-BAC878C6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353-DE10-4EC3-94A3-A32B4270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E23-9B24-4911-8A2F-C6E8D1CD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5D3-C135-4F19-AACE-A0CF1E7C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A0A-3390-45B9-AE4D-79E03A0B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F5E-4C36-4CAC-8A7E-545DC612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4D6-A1A3-42F5-91C6-C6CB68F0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B248-D189-4E0D-9234-4312A0DB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7C3-E33E-448D-9717-DEEA23AA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ACA-C76C-4BCC-8896-01665F50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CDE-BD31-493B-B6F8-C012783B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4AC2-01B8-4C4F-974C-B071C05F6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mulación de un tu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 operativo en producción (3 equipos en espera de operado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 man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 en perforación de producción (resto de la flota en reser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, LHD-2, LHD-3,LHD-4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 mante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le Simba a mantención. Un Simba en perforación (resto de la flota en reser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uadrillas de tronadura comienzan a cargar tiros (dos camionet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camionetas en terr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2, LHD-3 salen a mantención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5 entra en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drillas de tronadura trabaj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completa de perforación oper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ra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drilla 1 se retira, cuadrilla 2 termina conexiones finales para tronar. Se trasladan en camion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hay equipos operativos ni operadores al interior mina (para simplificar, pues SLC permite tronar en distintos niveles sin interrumpir la operación en ot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onadura, 5 galerías en distintos niveles (final de la hora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tención esta lo suficiente mente alejado (continua operacio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ntilación por tronadura, no hay actividad en la 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1, LHD-4, LHD-5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s operativos, 1 en mantención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HD-2 se suma a la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Simbas ope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amionetas en terreno (1 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tención termina actividades al final de la hora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(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a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ólo LHD-1 en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de perforación inactiva por salida de tu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amionetas en terreno (1persona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udal horario requerido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-181080" y="1268280"/>
          <a:ext cx="8242560" cy="48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268280"/>
                    <a:ext cx="824256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lusion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ramente la demanda por aire al interior mina es variable en el tiempo, aunque las operaciones estén previamente planific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demanda por aire refleja directamente el nivel de actividad en la m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blem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terminar la variabilidad horaria de la demanda de aire al interior mina según las diferentes actividades realiz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ondremos que la calidad de aire no se ve afectada, esto es, nos interesaremos sólo por la variabilidad horaria de la CANTIDAD demandada de 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blema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nalizaremos esta variabilidad en base a actividades previamente planific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supondrá un circuito de ventilación que debe satisfacer el conjunto de estas activ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ina explotada mediante SLC (Sub Level Cav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considera un turno de 8 ho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total de 5 equipos LHD (con su respectivo oper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72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(por cada LHD; rango habitual 126-84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, depende del tamaño del equi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de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ota total de 3 equipos Simba (con su respectivo operad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Sólo el operador, es un equipo eléct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onadu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 cuadrillas a cargo (3 personas cada u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 por explosivos: 71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galería de producción tronada (60-75 min de ventilación aprox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ten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ller con 3 equipos en mantención de capacidad, 6 personas en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s de ventilación: 300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ara ventilación de gases (es variable, depende de las actividades que se realic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hículos men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6 camionetas para el desplazamiento de jefes de turno y monitores en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 de ventilación: 0.26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caballo de potencia, supondremos P=120H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ividades simuladas 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s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persona (legislación exige como mínimo 3 m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/min por perso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8T18:22:04Z</dcterms:created>
  <dc:creator>Familia</dc:creator>
  <dc:description/>
  <dc:language>en-US</dc:language>
  <cp:lastModifiedBy>Familia</cp:lastModifiedBy>
  <dcterms:modified xsi:type="dcterms:W3CDTF">2005-09-07T16:01:12Z</dcterms:modified>
  <cp:revision>25</cp:revision>
  <dc:subject/>
  <dc:title>Simulación de un turno</dc:title>
</cp:coreProperties>
</file>