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026A-F3C3-477A-820A-3A29FAB70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78390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15640" y="3843720"/>
            <a:ext cx="78390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D196-A49A-40DA-B541-AF6806EB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3825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32520" y="1341000"/>
            <a:ext cx="3825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15640" y="3843720"/>
            <a:ext cx="3825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32520" y="3843720"/>
            <a:ext cx="3825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E822-809F-44A9-87E7-4DF9E37D6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25239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766320" y="1341000"/>
            <a:ext cx="25239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16640" y="1341000"/>
            <a:ext cx="25239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15640" y="3843720"/>
            <a:ext cx="25239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766320" y="3843720"/>
            <a:ext cx="25239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16640" y="3843720"/>
            <a:ext cx="25239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0D86-A1B6-4821-B4E9-90BD464C5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822E-F952-4C03-A2E8-BBB89C5FB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15640" y="1341000"/>
            <a:ext cx="7839000" cy="47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FEE57-9D3E-4FD6-BE82-6A83AED0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78390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BF8C-435A-4CD2-A91A-D379A8B5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382536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32520" y="1341000"/>
            <a:ext cx="382536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4270-BB92-45AB-8644-656207BA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4342-AD5A-485F-ABDC-FB826D71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6690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97AB7-6898-4F8E-8E65-3A7707DB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3825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32520" y="1341000"/>
            <a:ext cx="382536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15640" y="3843720"/>
            <a:ext cx="3825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EE8A-A863-4FA1-8C13-A0C16CCC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15640" y="1341000"/>
            <a:ext cx="7839000" cy="47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E251-EFA1-43F5-8B5C-CBACEF15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382536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32520" y="1341000"/>
            <a:ext cx="3825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32520" y="3843720"/>
            <a:ext cx="3825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726E-4BF3-4EA1-854E-DD2B8E0C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3825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32520" y="1341000"/>
            <a:ext cx="3825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15640" y="3843720"/>
            <a:ext cx="78390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7238-FF60-4A68-BA8A-5EBA33C5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78390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15640" y="3843720"/>
            <a:ext cx="78390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72DD1-D6D4-4F40-B88C-64F304C9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3825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32520" y="1341000"/>
            <a:ext cx="3825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15640" y="3843720"/>
            <a:ext cx="3825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32520" y="3843720"/>
            <a:ext cx="3825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70120-2719-4320-9A16-F55234930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25239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766320" y="1341000"/>
            <a:ext cx="25239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16640" y="1341000"/>
            <a:ext cx="25239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15640" y="3843720"/>
            <a:ext cx="25239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766320" y="3843720"/>
            <a:ext cx="25239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16640" y="3843720"/>
            <a:ext cx="25239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9A51-8F81-4D20-9635-2A4B7C27C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78390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62CC-F0A9-4CAE-856B-D8CF3D01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382536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2520" y="1341000"/>
            <a:ext cx="382536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8135-295A-4333-822A-280699C8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2780-64DA-4D23-AC0A-9CB968DA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6690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61B2-6AAC-4B6C-AE35-4D5736E5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3825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32520" y="1341000"/>
            <a:ext cx="382536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15640" y="3843720"/>
            <a:ext cx="3825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142D-BC08-4722-B15E-4329061E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382536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32520" y="1341000"/>
            <a:ext cx="3825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32520" y="3843720"/>
            <a:ext cx="3825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30B6-4367-4C75-B744-19A773CA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3825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2520" y="1341000"/>
            <a:ext cx="3825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15640" y="3843720"/>
            <a:ext cx="78390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BE96-56A4-4860-B75E-0BC992A3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83664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11120" y="65736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93800" y="65736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34960" y="107964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05040" y="107964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55640" y="54936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68360" y="11970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15640" y="1341000"/>
            <a:ext cx="78390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2F28-DB5C-4877-BE7A-B6362654AC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76CE-7D27-4391-8354-7CA7A16676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undimiento por sub nive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LC - DISEÑ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spaciamiento horizontal de subnivel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741672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Nuevos experimentos no encuentran evidencia de esta interacción. (WMC Leinster 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everance Marker Trial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, Massmin 2004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ntonc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3276720" y="4076640"/>
                <a:ext cx="223020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1692360" y="530064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Opinión pers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cho de la taja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92360" y="1168560"/>
            <a:ext cx="591336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348000" y="1052640"/>
            <a:ext cx="5595840" cy="55641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ilu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755640" y="3284640"/>
                <a:ext cx="280836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187280" y="2205000"/>
                <a:ext cx="15843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6804000" y="3068640"/>
            <a:ext cx="0" cy="25923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500720" y="3068640"/>
            <a:ext cx="23047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08720" y="1773360"/>
            <a:ext cx="1296720" cy="1296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1773360"/>
            <a:ext cx="165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ilu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50920" y="4724280"/>
                <a:ext cx="347796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E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6300720" y="2637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492000" y="263700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 SL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78390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cho galería de producción: 5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o galería de producción: 4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nsidad material tronado: interme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ho galería de producción: plan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y del mineral: 5 g/ton A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y estéril: 2 g/ton A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ometría convenc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u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203640" y="1557360"/>
            <a:ext cx="5761080" cy="40561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 flipV="1">
            <a:off x="8172360" y="2276640"/>
            <a:ext cx="0" cy="223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995640" y="2276640"/>
            <a:ext cx="4176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4000" y="1916280"/>
            <a:ext cx="287964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ltura de extracción se estima en 2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 = 80%*W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 = 4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Ubicación de subniveles en la ver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hs=25*2/3=16.7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roxim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Hs = 16.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ución 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245120" y="1125360"/>
            <a:ext cx="4898880" cy="54453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148360" y="3716280"/>
            <a:ext cx="302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172360" y="3716280"/>
            <a:ext cx="0" cy="2449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2421000"/>
            <a:ext cx="3024000" cy="43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W´= 8,8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Wt = 8,8 + 4 – 1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Wt = 1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dt&lt;11/2 &lt; 5.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&lt;5.5/2 &lt;2.75 m = 2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o ht = 25 &gt; 18 us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d &lt;11/0.65 &lt; 16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Como conviene que estén un poco más jun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d = 15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Solución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1187280" y="2852640"/>
            <a:ext cx="503280" cy="432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2852640"/>
            <a:ext cx="503280" cy="432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50920" y="4221000"/>
            <a:ext cx="503280" cy="432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64000" y="4149720"/>
            <a:ext cx="1729080" cy="431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50920" y="1844640"/>
            <a:ext cx="503280" cy="432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10920" y="465300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11280" y="227628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10920" y="22766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9280" y="3068640"/>
            <a:ext cx="684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1332000" y="3284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71640" y="3716280"/>
            <a:ext cx="863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6.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40328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20364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03280" y="3068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08000" y="2852640"/>
            <a:ext cx="863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.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804000" y="2205000"/>
            <a:ext cx="79236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093080" y="2205000"/>
            <a:ext cx="792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6227640" y="2205000"/>
            <a:ext cx="79236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6516720" y="2205000"/>
            <a:ext cx="792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5940360" y="2205000"/>
            <a:ext cx="79236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300720" y="1700280"/>
            <a:ext cx="1582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 =2.7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almen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78390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os son metodologías de calculo preliminares, para hacer estudios d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actibilida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 un diseño más avanzado se utilizan modelos de flujo computacionales para determinar la geometría del elipsoide de extrac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los computacion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268360" y="1700280"/>
            <a:ext cx="5284800" cy="43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los computacion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364000" y="1341360"/>
            <a:ext cx="3318120" cy="50911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4238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posición gener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258920" y="1352520"/>
            <a:ext cx="664992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ación de la geometrí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593388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eño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78390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Basado en el flujo gravitac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upuestos (Kvapi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puesto: Las leyes del flujo gravitacional son independientes del tamaño de los fragmentos de mate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udio de flujo de mineral a granel se puede estudiar en modelos de arena o gr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ESTUDIO DE MODELOS DE SI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2524320" cy="3962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029200" y="1828800"/>
            <a:ext cx="2540160" cy="4219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133720" y="1752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1752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38280" y="1447920"/>
            <a:ext cx="38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72200" y="144792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38280" y="6019920"/>
            <a:ext cx="4648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 independiente de ángulo fo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ometría simplifica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36912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cho efectivo de tira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940360" y="1197000"/>
            <a:ext cx="2987640" cy="27604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940360" y="4076640"/>
            <a:ext cx="3024360" cy="2751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576108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imensiones del elipsoide de extracció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922560" y="1413000"/>
            <a:ext cx="4899240" cy="5445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9280" y="1773360"/>
            <a:ext cx="3672000" cy="22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Recet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ltura de extracción 20 – 30 m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ctualmente existen minas con los subniveles más sepa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24000" y="4437000"/>
            <a:ext cx="338436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spaciamiento vertical de subnive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8552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spaciamiento horizontal de subnivel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390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upues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nteracción de los elipsoides de movimi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WT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40% W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mplica entonc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2924280"/>
            <a:ext cx="5040360" cy="2666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979640" y="5589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gener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hs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9T17:38:01Z</dcterms:created>
  <dc:creator>Pablo Abalos Aguirre</dc:creator>
  <dc:description/>
  <dc:language>en-US</dc:language>
  <cp:lastModifiedBy>Pablo Abalos Aguirre</cp:lastModifiedBy>
  <dcterms:modified xsi:type="dcterms:W3CDTF">2005-09-29T23:10:28Z</dcterms:modified>
  <cp:revision>31</cp:revision>
  <dc:subject/>
  <dc:title>Hundimiento por sub niveles</dc:title>
</cp:coreProperties>
</file>