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360-3302-4C46-8D69-6C9D63A1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D28-DB08-458F-A587-D2D81BD5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017-99B5-4D14-AFA7-BC67B337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139-445F-4FA9-9B62-61DEFA56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093-82F0-4934-9301-9E1659E6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02B-6C9B-4751-848E-466F9090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4D2-6568-414D-8818-32F3F9C8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9F0-25FA-43E6-8831-E21E0A3B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A07-2724-4C72-9010-16821F1A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476-DF8A-494B-A4DA-105B9E65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498-03D7-46AA-BD30-9BBB7737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AC3-D41F-4765-8FD8-CE495BF6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6D07-F0AC-46C0-B1FE-10D97E693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68440" y="495360"/>
          <a:ext cx="828828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95360"/>
                    <a:ext cx="828828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68440" y="420840"/>
          <a:ext cx="842472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20840"/>
                    <a:ext cx="842472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95280" y="446040"/>
          <a:ext cx="865980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6598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433440"/>
          <a:ext cx="848700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33440"/>
                    <a:ext cx="8487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65080" y="506520"/>
          <a:ext cx="79297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506520"/>
                    <a:ext cx="79297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95360" y="433440"/>
          <a:ext cx="8448480" cy="71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33440"/>
                    <a:ext cx="8448480" cy="71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44680"/>
          <a:ext cx="826308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44680"/>
                    <a:ext cx="826308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93640" y="531720"/>
          <a:ext cx="81392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81392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04880" y="544680"/>
          <a:ext cx="83138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44680"/>
                    <a:ext cx="83138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84120" y="457200"/>
          <a:ext cx="838692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8692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53172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41320" y="531720"/>
          <a:ext cx="765648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531720"/>
                    <a:ext cx="765648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457200"/>
          <a:ext cx="855972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55972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8160" y="568440"/>
          <a:ext cx="826308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68440"/>
                    <a:ext cx="82630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45720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5720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905120" y="1371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20840"/>
          <a:ext cx="847404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20840"/>
                    <a:ext cx="847404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9120" y="557280"/>
          <a:ext cx="842472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57280"/>
                    <a:ext cx="842472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6520" y="482760"/>
          <a:ext cx="84740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82760"/>
                    <a:ext cx="84740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7:26:19Z</dcterms:created>
  <dc:creator>jalvarez</dc:creator>
  <dc:description/>
  <dc:language>en-US</dc:language>
  <cp:lastModifiedBy>jalvarez</cp:lastModifiedBy>
  <cp:lastPrinted>2005-09-09T15:52:49Z</cp:lastPrinted>
  <dcterms:modified xsi:type="dcterms:W3CDTF">2006-09-12T17:27:59Z</dcterms:modified>
  <cp:revision>18</cp:revision>
  <dc:subject/>
  <dc:title>Sin título de diapositiva</dc:title>
</cp:coreProperties>
</file>