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681-8F41-4C4E-B280-C2891356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611-2DE0-49E9-B213-7336C6EB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4DA-25CC-4D91-A518-4C5844F2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984-6580-4F43-9DFE-D91983BF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9C5-0F5C-4036-9FF3-DBB19DE4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EFF-33AC-4860-B3F4-3974B6D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DB1-BD1C-4B53-A2AD-4EF0B04F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CBF-9247-4264-8EC6-2FA05D2D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908-6957-443E-BCE6-00CB060D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C5C-5CB6-4D83-9C82-DAEAE850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2F9-D1C1-48F7-A665-1B17AE20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C0C-DC6E-48CE-A017-DA8E2FC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A068-C6C2-439C-841B-D1C7A2689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1120" y="568440"/>
          <a:ext cx="81630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68440"/>
                    <a:ext cx="81630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57280" y="482760"/>
          <a:ext cx="8410680" cy="592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82760"/>
                    <a:ext cx="841068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1120" y="619200"/>
          <a:ext cx="8262720" cy="60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9200"/>
                    <a:ext cx="826272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68440" y="495360"/>
          <a:ext cx="83883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95360"/>
                    <a:ext cx="83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531720"/>
          <a:ext cx="78296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31720"/>
                    <a:ext cx="78296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69800" y="531720"/>
          <a:ext cx="8201160" cy="578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20116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97000" y="495360"/>
          <a:ext cx="86598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495360"/>
                    <a:ext cx="86598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19200" y="544680"/>
          <a:ext cx="83120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44680"/>
                    <a:ext cx="83120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85760" y="495360"/>
          <a:ext cx="88693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95360"/>
                    <a:ext cx="88693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22120" y="531720"/>
          <a:ext cx="8510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31720"/>
                    <a:ext cx="8510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82760" y="519120"/>
          <a:ext cx="832464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19120"/>
                    <a:ext cx="832464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57280" y="407880"/>
          <a:ext cx="826272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7880"/>
                    <a:ext cx="826272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95360" y="581040"/>
          <a:ext cx="820080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81040"/>
                    <a:ext cx="820080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68320" y="2165400"/>
          <a:ext cx="552924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165400"/>
                    <a:ext cx="552924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97000" y="457200"/>
          <a:ext cx="8597880" cy="6556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000" y="457200"/>
                    <a:ext cx="859788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45960" y="457200"/>
          <a:ext cx="86839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57200"/>
                    <a:ext cx="86839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82760" y="519120"/>
          <a:ext cx="84121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19120"/>
                    <a:ext cx="84121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7000" y="469800"/>
          <a:ext cx="859788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469800"/>
                    <a:ext cx="859788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0154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0154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9200" y="395280"/>
          <a:ext cx="831204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395280"/>
                    <a:ext cx="831204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82880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339840"/>
          <a:ext cx="81392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9840"/>
                    <a:ext cx="81392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1120" y="606600"/>
          <a:ext cx="816300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34880" y="587520"/>
          <a:ext cx="8275680" cy="56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587520"/>
                    <a:ext cx="827568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1120" y="816120"/>
          <a:ext cx="7804080" cy="57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16120"/>
                    <a:ext cx="780408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76200" y="358920"/>
          <a:ext cx="8393040" cy="61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58920"/>
                    <a:ext cx="839304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53:10Z</dcterms:created>
  <dc:creator>jalvarez</dc:creator>
  <dc:description/>
  <dc:language>en-US</dc:language>
  <cp:lastModifiedBy>jalvarez</cp:lastModifiedBy>
  <cp:lastPrinted>2006-10-14T18:20:02Z</cp:lastPrinted>
  <dcterms:modified xsi:type="dcterms:W3CDTF">2006-10-16T16:30:07Z</dcterms:modified>
  <cp:revision>16</cp:revision>
  <dc:subject/>
  <dc:title>Sin título de diapositiva</dc:title>
</cp:coreProperties>
</file>