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7C5-D2D1-4AAC-98CA-203E29B5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25A-45CB-4692-9251-F804277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E19-686B-493F-ACA1-6115EBC2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E57-BEB4-4D29-B2D7-2FF57D04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ECD-0A98-4584-8C6D-0ED4BB7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3C2-7F61-4D30-B11F-90FB0190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A2A-BC34-4030-A69B-A12895E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12A-0680-4863-A758-CD09ABE5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3D7-AC05-4A75-AC20-D5E9414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244-6118-4D73-8634-425E19E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B35-3D0A-415C-9B90-BD32606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C6E-8EB7-47BB-8A9D-AA94A5F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C62E-9E8B-46E5-8F1D-50F9CCE3E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482760"/>
          <a:ext cx="7756560" cy="627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82760"/>
                    <a:ext cx="7756560" cy="62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743040"/>
          <a:ext cx="7792920" cy="54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43040"/>
                    <a:ext cx="779292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44680" y="668160"/>
          <a:ext cx="835020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35020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92280" y="495360"/>
          <a:ext cx="80658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495360"/>
                    <a:ext cx="80658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57200"/>
          <a:ext cx="832464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32464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92000" y="593640"/>
          <a:ext cx="7917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93640"/>
                    <a:ext cx="7917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17480" y="593640"/>
          <a:ext cx="7867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7867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41320" y="681120"/>
          <a:ext cx="797868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81120"/>
                    <a:ext cx="79786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8160" y="519120"/>
          <a:ext cx="81885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19120"/>
                    <a:ext cx="81885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9120" y="568440"/>
          <a:ext cx="838692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8692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53920" y="5257800"/>
          <a:ext cx="7310520" cy="407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920" y="5257800"/>
                    <a:ext cx="7310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44680"/>
          <a:ext cx="84121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44680"/>
                    <a:ext cx="84121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557280"/>
          <a:ext cx="795348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7280"/>
                    <a:ext cx="795348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2:47:56Z</dcterms:created>
  <dc:creator>jalvarez</dc:creator>
  <dc:description/>
  <dc:language>en-US</dc:language>
  <cp:lastModifiedBy>jalvarez</cp:lastModifiedBy>
  <cp:lastPrinted>2006-08-02T20:43:56Z</cp:lastPrinted>
  <dcterms:modified xsi:type="dcterms:W3CDTF">2006-08-04T14:31:48Z</dcterms:modified>
  <cp:revision>12</cp:revision>
  <dc:subject/>
  <dc:title>Sin título de diapositiva</dc:title>
</cp:coreProperties>
</file>