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31B-8DCC-4717-A9F0-042382AB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746-87E4-48E5-A84E-2C7D1AB9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084-22E9-496A-94D6-DA846E7C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611-EF4E-491D-89B7-A7455FE7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B8F-4872-4527-80F3-F75475DE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9CB-DAA9-434E-93A9-735C14A2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F33-A9AF-4441-8C87-6788C714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724-04E0-4ABB-884E-94656430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566-701A-4701-AACD-5CEB5CD2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490-2536-4DF5-BA10-5F4D6BB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10C-17F5-4D91-BC06-C6AEFF4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C1C-8DA3-4405-B04B-060E6ABF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ED6E-DEF0-4D5C-BE6F-C142CB1B2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482760"/>
          <a:ext cx="775656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82760"/>
                    <a:ext cx="775656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743040"/>
          <a:ext cx="7792920" cy="54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43040"/>
                    <a:ext cx="7792920" cy="54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44680" y="668160"/>
          <a:ext cx="835020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68160"/>
                    <a:ext cx="835020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92280" y="495360"/>
          <a:ext cx="80658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495360"/>
                    <a:ext cx="80658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457200"/>
          <a:ext cx="832464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57200"/>
                    <a:ext cx="832464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92000" y="593640"/>
          <a:ext cx="7917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93640"/>
                    <a:ext cx="7917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17480" y="593640"/>
          <a:ext cx="78678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78678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41320" y="681120"/>
          <a:ext cx="79786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79786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8160" y="519120"/>
          <a:ext cx="81885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19120"/>
                    <a:ext cx="81885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9120" y="568440"/>
          <a:ext cx="838692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8692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53920" y="5257800"/>
          <a:ext cx="7310520" cy="407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920" y="5257800"/>
                    <a:ext cx="7310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9120" y="544680"/>
          <a:ext cx="84121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44680"/>
                    <a:ext cx="84121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557280"/>
          <a:ext cx="795348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7280"/>
                    <a:ext cx="795348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2:47:56Z</dcterms:created>
  <dc:creator>jalvarez</dc:creator>
  <dc:description/>
  <dc:language>en-US</dc:language>
  <cp:lastModifiedBy>jalvarez</cp:lastModifiedBy>
  <cp:lastPrinted>2006-08-02T20:43:56Z</cp:lastPrinted>
  <dcterms:modified xsi:type="dcterms:W3CDTF">2006-08-04T14:31:48Z</dcterms:modified>
  <cp:revision>12</cp:revision>
  <dc:subject/>
  <dc:title>Sin título de diapositiva</dc:title>
</cp:coreProperties>
</file>