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753-2052-4CA1-95B0-954517F8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96F-4123-41E1-AEE4-9D62C8C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CF0-7DF9-4A0E-A49C-61CD1B0C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D82-28B7-407C-A3C5-8126DC99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659-4B92-49FA-8A31-F6717700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3C7-EC45-4598-AAD1-753C1F7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C96-0063-4F12-8BCD-829814A5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2E7-FA97-4EE5-938E-D4932FBF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188-612E-4BE7-91C8-0D1B1F4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2E6-2100-47E8-9DF9-1D7BE73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C49-A847-4F41-A0A7-8349314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246-6A70-411C-966D-87712968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6551-E190-49AD-8B90-56355A4A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2760" y="482760"/>
          <a:ext cx="835020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3502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4200" y="519120"/>
          <a:ext cx="81151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1151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568440"/>
          <a:ext cx="84726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68440"/>
                    <a:ext cx="8472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81040"/>
          <a:ext cx="83502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502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469800"/>
          <a:ext cx="8510760" cy="624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69800"/>
                    <a:ext cx="8510760" cy="62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93640"/>
          <a:ext cx="83250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93640"/>
                    <a:ext cx="83250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7480" y="531720"/>
          <a:ext cx="80154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0154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3869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3869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544680"/>
          <a:ext cx="84250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44680"/>
                    <a:ext cx="8425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43040" y="568440"/>
          <a:ext cx="822492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22492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495360"/>
          <a:ext cx="84992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95360"/>
                    <a:ext cx="84992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407880"/>
          <a:ext cx="848700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8700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5936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936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2760" y="433440"/>
          <a:ext cx="851040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1040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568440"/>
          <a:ext cx="857268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68440"/>
                    <a:ext cx="85726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48276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8-04T17:22:52Z</cp:lastPrinted>
  <dcterms:modified xsi:type="dcterms:W3CDTF">2006-08-07T19:52:27Z</dcterms:modified>
  <cp:revision>19</cp:revision>
  <dc:subject/>
  <dc:title>Sin título de diapositiva</dc:title>
</cp:coreProperties>
</file>