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41F-EDC5-41CC-A002-E1E50D46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C1D-B984-414E-A16A-D36EE1C9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2FA-8B88-4D97-BAB9-B7F657AB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6C8-2032-44A7-B3A5-66ED5426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042-B565-4742-8ECF-41EF1F45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3CD-F39B-4DE4-BDE9-88CBE7FE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D3A-E936-4A05-B493-C3FC53A2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ADB-14A5-4D9D-B5C4-6A636273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3BC-E571-45B6-B97B-1F5405C4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515-2DF2-4AA1-96D9-C0278E34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6F5-EB7D-46F6-A577-D90E3B8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A9E-D48F-46FF-89A6-10E5F16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DA7-506F-40E9-9593-81711833A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2120" y="506520"/>
          <a:ext cx="868392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06520"/>
                    <a:ext cx="868392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1720" y="457200"/>
          <a:ext cx="8621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621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557280"/>
          <a:ext cx="8547120" cy="76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57280"/>
                    <a:ext cx="854712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38320" y="457200"/>
          <a:ext cx="737244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57200"/>
                    <a:ext cx="73724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3-18T17:47:12Z</cp:lastPrinted>
  <dcterms:modified xsi:type="dcterms:W3CDTF">2005-03-18T19:09:09Z</dcterms:modified>
  <cp:revision>7</cp:revision>
  <dc:subject/>
  <dc:title>Sin título de diapositiva</dc:title>
</cp:coreProperties>
</file>