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E6D-E9E2-498F-A9E8-33940393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6F1-4C5B-415E-B89B-56401C53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56D-65C3-42A4-89AA-D9326B6C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714-114A-4FE1-B8CC-DEDB9D5B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F29-7728-44FD-9125-3B454688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64A-6114-46C9-AC89-3C22FCB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186-3CB0-4C8C-8F8D-B0057F26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F57-9B3A-4779-A9B2-B3868901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E9F-F6C4-451D-B765-29C170F1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280-35F4-4F3E-A5E8-2A202C8A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FA1-B0FB-4681-B96C-05D244A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503-52B4-4C4F-B801-605AEE6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25C-6B7B-470E-99E5-B762953F3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1880" y="766800"/>
          <a:ext cx="76197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766800"/>
                    <a:ext cx="76197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89000" y="743040"/>
          <a:ext cx="737244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43040"/>
                    <a:ext cx="737244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62080" y="469800"/>
          <a:ext cx="767088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469800"/>
                    <a:ext cx="767088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39680" y="865080"/>
          <a:ext cx="737244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65080"/>
                    <a:ext cx="737244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62160" y="1150920"/>
          <a:ext cx="67914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150920"/>
                    <a:ext cx="67914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841320"/>
          <a:ext cx="8015040" cy="54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41320"/>
                    <a:ext cx="801504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8720" y="655560"/>
          <a:ext cx="747216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55560"/>
                    <a:ext cx="7472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76400" y="692280"/>
          <a:ext cx="71625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92280"/>
                    <a:ext cx="71625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754200"/>
          <a:ext cx="828828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54200"/>
                    <a:ext cx="828828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89000" y="717480"/>
          <a:ext cx="78296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17480"/>
                    <a:ext cx="78296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52560" y="655560"/>
          <a:ext cx="741024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55560"/>
                    <a:ext cx="7410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717480"/>
          <a:ext cx="799128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71748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12760" y="82872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2872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3-22T17:04:09Z</cp:lastPrinted>
  <dcterms:modified xsi:type="dcterms:W3CDTF">2005-03-22T17:14:48Z</dcterms:modified>
  <cp:revision>9</cp:revision>
  <dc:subject/>
  <dc:title>Sin título de diapositiva</dc:title>
</cp:coreProperties>
</file>