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5D9-D384-4B8D-9C60-AC2E3C29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6C6-A887-45C2-ACBE-AA37F7F4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5A3-7674-4FA0-B8C2-9670A69D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31D-65E8-4BD5-93B4-D753EF90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6A5-FD7A-4F55-8CC1-A57616B4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282-BD84-4E41-A075-E0B7A85C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485-7A8E-4135-9780-F8110FEF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C1F-5988-4B40-B49A-89AD1CF5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A83-C858-46A2-B499-F0742F02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239-71E3-4A37-8320-329BE856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9F1-0A47-40EC-958E-94F6CAF2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A5A-BD4C-4D65-9935-D31A967F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E4EA-0BBE-4E5B-B945-C2A35AE8E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841320"/>
          <a:ext cx="774360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841320"/>
                    <a:ext cx="774360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11404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1140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7000" y="743040"/>
          <a:ext cx="776916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668160"/>
          <a:ext cx="77313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68160"/>
                    <a:ext cx="77313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5-04-05T14:28:57Z</cp:lastPrinted>
  <dcterms:modified xsi:type="dcterms:W3CDTF">2005-04-06T13:34:12Z</dcterms:modified>
  <cp:revision>11</cp:revision>
  <dc:subject/>
  <dc:title>Sin título de diapositiva</dc:title>
</cp:coreProperties>
</file>