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4C1-A8E6-4AD4-88F4-F312148E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BFC-F51B-4730-BBBD-7F62801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DC9-89CF-4779-813D-20AFF53F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230-7C2A-4BE9-B5E9-0C962504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290-D8EC-4725-8398-DA29052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659-C902-47EA-ACB3-59E1C114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647-340C-418B-8683-EFEF239A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40F-E684-42AB-8944-3EDD1E0D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786-8B6D-4156-8F3D-29A981EB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2AA-4920-4289-B57F-F1636CC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F24-93A8-453E-A30A-1FDDF0C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E25-6188-4631-85BC-720E769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B00E-F87D-4FCC-B51F-B70AC6B9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4-05T14:28:57Z</cp:lastPrinted>
  <dcterms:modified xsi:type="dcterms:W3CDTF">2005-04-06T13:34:12Z</dcterms:modified>
  <cp:revision>11</cp:revision>
  <dc:subject/>
  <dc:title>Sin título de diapositiva</dc:title>
</cp:coreProperties>
</file>