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FAB-8BC1-4D86-AC79-EBFF87D2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4C9-AEAE-4660-922B-0C7D60B9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26B-2168-41F3-8308-54D64646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34B-A8E3-42DA-9A2D-C3BC3E94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E3F-0E9E-43B4-9A20-89642C9E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76F-1224-475F-9476-BF9EAFB7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197-BB0D-4227-9F40-42FCC63A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B2D-576F-49FC-8078-014F6B2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7A4-F3A6-45F1-91BA-3C31B02A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58F-DEF7-463E-8A45-67B507A4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654-9998-4FC3-87D7-D462222C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0C3-B6E5-48AA-921A-0D6D7B62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F7F9-BF06-4F6E-9265-C7188174D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927000"/>
          <a:ext cx="7532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7000"/>
                    <a:ext cx="7532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65080" y="606600"/>
          <a:ext cx="77691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7691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076400" y="890640"/>
          <a:ext cx="77436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7436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692280"/>
          <a:ext cx="8288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288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544680"/>
          <a:ext cx="8350200" cy="61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44680"/>
                    <a:ext cx="835020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43040" y="681120"/>
          <a:ext cx="7940520" cy="512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794052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57280" y="557280"/>
          <a:ext cx="8448480" cy="611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48480" cy="61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04880" y="692280"/>
          <a:ext cx="8275680" cy="68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92280"/>
                    <a:ext cx="82756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743040"/>
          <a:ext cx="8510400" cy="55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43040"/>
                    <a:ext cx="85104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076400" y="890640"/>
          <a:ext cx="7891560" cy="56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90640"/>
                    <a:ext cx="78915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531720"/>
          <a:ext cx="8350200" cy="748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748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816120"/>
          <a:ext cx="828828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16120"/>
                    <a:ext cx="828828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446040"/>
          <a:ext cx="8350200" cy="77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77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16120" y="692280"/>
          <a:ext cx="81406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92280"/>
                    <a:ext cx="81406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557280"/>
          <a:ext cx="863424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57280"/>
                    <a:ext cx="863424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68440" y="606600"/>
          <a:ext cx="825156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06600"/>
                    <a:ext cx="825156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68160" y="531720"/>
          <a:ext cx="8386920" cy="708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31720"/>
                    <a:ext cx="8386920" cy="708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717480"/>
          <a:ext cx="7619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717480"/>
                    <a:ext cx="7619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4-11T16:17:10Z</cp:lastPrinted>
  <dcterms:modified xsi:type="dcterms:W3CDTF">2005-04-11T17:02:02Z</dcterms:modified>
  <cp:revision>33</cp:revision>
  <dc:subject/>
  <dc:title>Sin título de diapositiva</dc:title>
</cp:coreProperties>
</file>