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F0F-1F4B-486A-9AFD-4B7F3646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900-5A56-41BB-B3DF-570F0F33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B16-826D-456B-A606-94197C58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2EA-47DD-4AC6-A69C-1DFA320E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9A7-9F4C-40A3-A615-DAB9DD38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182-C0FB-4DA0-BA36-660FC57D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EE6-3E48-4F02-BD3E-F691B9FD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C93-6DEC-418D-B5E7-68925E9F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8A0-D24A-48F8-ADD7-015AEE1D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0AC-7EE5-4A59-ADBC-D525876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5CE-6B64-4423-AD28-2813191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841-5710-494F-96FD-4F1136BB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6EDE-4358-4C43-A3B8-3DF9FDC3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76400" y="890640"/>
          <a:ext cx="7743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743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92280"/>
          <a:ext cx="8288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288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44680"/>
          <a:ext cx="8350200" cy="61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5020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43040" y="681120"/>
          <a:ext cx="79405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79405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57280" y="557280"/>
          <a:ext cx="8448480" cy="61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4848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743040"/>
          <a:ext cx="85104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43040"/>
                    <a:ext cx="85104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816120"/>
          <a:ext cx="828828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16120"/>
                    <a:ext cx="828828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446040"/>
          <a:ext cx="8350200" cy="77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77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557280"/>
          <a:ext cx="863424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7280"/>
                    <a:ext cx="863424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68440" y="606600"/>
          <a:ext cx="825156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06600"/>
                    <a:ext cx="825156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68160" y="531720"/>
          <a:ext cx="8386920" cy="708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386920" cy="708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4-11T16:17:10Z</cp:lastPrinted>
  <dcterms:modified xsi:type="dcterms:W3CDTF">2005-04-11T17:02:02Z</dcterms:modified>
  <cp:revision>33</cp:revision>
  <dc:subject/>
  <dc:title>Sin título de diapositiva</dc:title>
</cp:coreProperties>
</file>