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D258-77FB-4B29-A94F-4590BD8F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5CB8-9129-4496-946A-EE7A622D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4058-72EA-4FC2-8B2B-98479EE5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8F3A-9561-402E-BF40-B8D3464F8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FD4E-4C21-48D1-9CEE-96F96575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66B4-F072-429A-B67F-01CA4590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5505-5D88-4ABD-92D9-206ADAF9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4013-ABE3-4DCB-8AF3-F06DEAD6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3950-A9EA-477A-8A0D-1D3564FB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1D0A-2CD8-4E26-A012-F86131DA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36EB-DA9B-4406-B718-AE62B104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9A88-9525-4CB3-8F6F-1EFF9C29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0576-9195-46BC-8814-5B16C18B4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6600" y="681120"/>
          <a:ext cx="8299440" cy="57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81120"/>
                    <a:ext cx="8299440" cy="57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28720" y="766800"/>
          <a:ext cx="786744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766800"/>
                    <a:ext cx="786744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30080" y="730080"/>
          <a:ext cx="7767720" cy="533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730080"/>
                    <a:ext cx="7767720" cy="53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57280" y="531720"/>
          <a:ext cx="8361360" cy="735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531720"/>
                    <a:ext cx="8361360" cy="735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84120" y="519120"/>
          <a:ext cx="8621640" cy="612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519120"/>
                    <a:ext cx="8621640" cy="61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54200" y="495360"/>
          <a:ext cx="8238960" cy="664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95360"/>
                    <a:ext cx="8238960" cy="66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81120" y="915840"/>
          <a:ext cx="8113680" cy="50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915840"/>
                    <a:ext cx="811368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44680" y="841320"/>
          <a:ext cx="8474040" cy="551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841320"/>
                    <a:ext cx="847404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30360" y="1014480"/>
          <a:ext cx="7867440" cy="517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014480"/>
                    <a:ext cx="7867440" cy="51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717480" y="519120"/>
          <a:ext cx="8164440" cy="663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519120"/>
                    <a:ext cx="8164440" cy="66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014480" y="692280"/>
          <a:ext cx="7607160" cy="695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692280"/>
                    <a:ext cx="7607160" cy="69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17480" y="557280"/>
          <a:ext cx="8164440" cy="633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557280"/>
                    <a:ext cx="8164440" cy="63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28720" y="743040"/>
          <a:ext cx="7632720" cy="581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743040"/>
                    <a:ext cx="7632720" cy="58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865080" y="692280"/>
          <a:ext cx="7917120" cy="61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92280"/>
                    <a:ext cx="7917120" cy="61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336680" y="878040"/>
          <a:ext cx="7062840" cy="555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878040"/>
                    <a:ext cx="7062840" cy="55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88920" y="655560"/>
          <a:ext cx="7743960" cy="622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55560"/>
                    <a:ext cx="7743960" cy="622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28720" y="544680"/>
          <a:ext cx="7656480" cy="70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544680"/>
                    <a:ext cx="7656480" cy="70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03160" y="792000"/>
          <a:ext cx="7782120" cy="46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792000"/>
                    <a:ext cx="7782120" cy="46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jalvarez</cp:lastModifiedBy>
  <cp:lastPrinted>2005-04-12T21:52:54Z</cp:lastPrinted>
  <dcterms:modified xsi:type="dcterms:W3CDTF">2005-04-14T15:46:39Z</dcterms:modified>
  <cp:revision>23</cp:revision>
  <dc:subject/>
  <dc:title>Sin título de diapositiva</dc:title>
</cp:coreProperties>
</file>