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0F0-5D8C-483F-9414-4FA58913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719-7B4F-4035-BABF-6CC0A99C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0E1-DAFA-4BAF-8297-CA334724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418-0BF1-4023-BDFE-5D8C6769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1DD-BFDC-401C-A3B8-E98A2D1C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047-8BDD-4BE4-A2CE-8506CA8E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96C-2275-4902-8B27-B8801519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5AF-4DA8-43FE-BBC8-E3F1E1BF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F0B-676B-411A-91A0-9FE81358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009-E64E-4EE2-80F2-34795505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591D-3F61-44A0-9818-3352AA36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05D-E7B3-47BB-8C00-4DB4FA0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FD19-50E7-4512-8A77-0494A6EF5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50840" y="865080"/>
          <a:ext cx="772020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65080"/>
                    <a:ext cx="77202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593640"/>
          <a:ext cx="7866000" cy="74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93640"/>
                    <a:ext cx="7866000" cy="74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04640" y="839880"/>
          <a:ext cx="833472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839880"/>
                    <a:ext cx="833472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816120"/>
          <a:ext cx="82011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2011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9200" y="754200"/>
          <a:ext cx="8324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754200"/>
                    <a:ext cx="8324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78040" y="655560"/>
          <a:ext cx="779292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79292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681120"/>
          <a:ext cx="85359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81120"/>
                    <a:ext cx="85359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19200" y="655560"/>
          <a:ext cx="92390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92390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55560" y="63036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3036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766800"/>
          <a:ext cx="84232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766800"/>
                    <a:ext cx="84232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42960" y="668160"/>
          <a:ext cx="83250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25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3640" y="816120"/>
          <a:ext cx="82263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16120"/>
                    <a:ext cx="82263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1120" y="915840"/>
          <a:ext cx="77803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803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27000" y="642960"/>
          <a:ext cx="792972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642960"/>
                    <a:ext cx="792972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568440"/>
          <a:ext cx="83246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3246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14T19:46:10Z</cp:lastPrinted>
  <dcterms:modified xsi:type="dcterms:W3CDTF">2005-04-14T20:24:33Z</dcterms:modified>
  <cp:revision>9</cp:revision>
  <dc:subject/>
  <dc:title>Sin título de diapositiva</dc:title>
</cp:coreProperties>
</file>