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C85-E028-4E2E-B04F-550B05E5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DAB-F7D8-419B-83F0-3C87B2B8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B03-8CB2-41BB-9858-CC3AC571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714-AF8C-4317-B98C-8EADA485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F3D-5FC2-4F29-A37C-37D9813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95F-5FCE-4DB8-897C-856025B6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A0D-BC7B-48E2-BC77-7F3582D1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AAC-70B2-452F-B0AF-E0E5E848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E4A-48D6-4DBF-BC1C-1EDADDD0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814-DED5-4A1C-8D37-DA448A7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702-A15B-4125-A168-1E7FC5B3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FD3-B38C-4AEC-9166-555620C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7FE6-8270-40C1-874A-ECB02478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9200" y="655560"/>
          <a:ext cx="7927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7927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704880"/>
          <a:ext cx="86835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6835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44680" y="619200"/>
          <a:ext cx="74707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7470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42960" y="531720"/>
          <a:ext cx="8164440" cy="570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531720"/>
                    <a:ext cx="81644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93640" y="593640"/>
          <a:ext cx="8301240" cy="601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30124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93640" y="619200"/>
          <a:ext cx="84614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4614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82760" y="692280"/>
          <a:ext cx="85104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92280"/>
                    <a:ext cx="85104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3640" y="593640"/>
          <a:ext cx="8164440" cy="603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1644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681120"/>
          <a:ext cx="84247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1120"/>
                    <a:ext cx="84247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9600" y="865080"/>
          <a:ext cx="868356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865080"/>
                    <a:ext cx="868356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1120" y="544680"/>
          <a:ext cx="807696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07696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717480"/>
          <a:ext cx="82008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17480"/>
                    <a:ext cx="82008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717480"/>
          <a:ext cx="79534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17480"/>
                    <a:ext cx="79534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19120" y="198360"/>
          <a:ext cx="846144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98360"/>
                    <a:ext cx="846144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33360" y="260280"/>
          <a:ext cx="846144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60280"/>
                    <a:ext cx="846144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606600"/>
          <a:ext cx="83250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06600"/>
                    <a:ext cx="83250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92280"/>
          <a:ext cx="82882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92280"/>
                    <a:ext cx="82882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386920" cy="678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386920" cy="678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9200" y="581040"/>
          <a:ext cx="83865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3865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5840" y="446040"/>
          <a:ext cx="7793280" cy="55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446040"/>
                    <a:ext cx="779328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6040"/>
          <a:ext cx="8472600" cy="794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6040"/>
                    <a:ext cx="8472600" cy="79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568440"/>
          <a:ext cx="859788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8440"/>
                    <a:ext cx="859788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2T16:21:17Z</cp:lastPrinted>
  <dcterms:modified xsi:type="dcterms:W3CDTF">2005-04-22T16:35:28Z</dcterms:modified>
  <cp:revision>27</cp:revision>
  <dc:subject/>
  <dc:title>Sin título de diapositiva</dc:title>
</cp:coreProperties>
</file>