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487-A2B1-4A83-B1DC-A56B4047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84D-5B2C-4E67-9DF8-987FEA7A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774-3859-4E24-A70E-83645100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3B8-9244-4E14-981E-BC70735F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1D9-2275-4498-B194-10F3CDA5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243-6B73-4A9B-B500-F6CAC624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2B5-C131-40AA-A62E-656ED757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D41-A83E-4E5C-B037-527355A0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0B24-0B6A-4F64-9EE7-D2C4B5C1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E24-9EA0-4C08-8BF7-738483A9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4CC-4B86-40C3-BF7D-8BF9D170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65D2-BAC0-452D-8FF6-DEF3F927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2365-DC4F-4AC5-9FCE-9A88EF5DA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3920" y="593640"/>
          <a:ext cx="7867800" cy="63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93640"/>
                    <a:ext cx="7867800" cy="63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8160" y="469800"/>
          <a:ext cx="8226720" cy="702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69800"/>
                    <a:ext cx="8226720" cy="70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07880" y="446040"/>
          <a:ext cx="8560080" cy="670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46040"/>
                    <a:ext cx="8560080" cy="67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17480" y="619200"/>
          <a:ext cx="813924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619200"/>
                    <a:ext cx="813924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39680" y="655560"/>
          <a:ext cx="71247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55560"/>
                    <a:ext cx="71247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55560" y="581040"/>
          <a:ext cx="8374320" cy="54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79400" y="668160"/>
          <a:ext cx="76201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68160"/>
                    <a:ext cx="76201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93640"/>
          <a:ext cx="8078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93640"/>
                    <a:ext cx="8078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8856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8856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498160" cy="63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498160" cy="63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28720" y="619200"/>
          <a:ext cx="7953480" cy="56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19200"/>
                    <a:ext cx="795348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5-04-19T19:37:46Z</cp:lastPrinted>
  <dcterms:modified xsi:type="dcterms:W3CDTF">2005-04-26T15:29:40Z</dcterms:modified>
  <cp:revision>11</cp:revision>
  <dc:subject/>
  <dc:title>Sin título de diapositiva</dc:title>
</cp:coreProperties>
</file>