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D9C-D673-4C49-88A7-C1A14961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14C-6971-4B55-B3FF-A8851D2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7E7-6EAA-47CA-BA06-B6C04317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00D-148A-468A-9C18-1E6A4D90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DCE-48D7-4CF7-8C91-CECE1B5F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E24-60BB-49B9-BAB1-0A218431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47D-E639-4DC5-ADD1-F971C9E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0B8-32D4-48AF-A25D-AC11E6D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912-1B1A-4582-B075-8129FD61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78B-CB90-4071-B20C-851CF10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A90-BC8B-40D9-AEA1-0281FA6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C9A-1F44-406F-BC4E-A1A843E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C8E-F94E-4DCE-A98C-7EC5933C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7760" y="704880"/>
          <a:ext cx="74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04880"/>
                    <a:ext cx="74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92280" y="531720"/>
          <a:ext cx="8288280" cy="681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288280" cy="68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95360" y="655560"/>
          <a:ext cx="847260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39680" y="630360"/>
          <a:ext cx="7581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581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6800" y="630360"/>
          <a:ext cx="804060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30360"/>
                    <a:ext cx="80406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681120"/>
          <a:ext cx="804060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81120"/>
                    <a:ext cx="804060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1320" y="642960"/>
          <a:ext cx="77929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77929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04880" y="457200"/>
          <a:ext cx="80661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57200"/>
                    <a:ext cx="80661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606600"/>
          <a:ext cx="8647200" cy="65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647200" cy="65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5-01-27T20:21:25Z</cp:lastPrinted>
  <dcterms:modified xsi:type="dcterms:W3CDTF">2005-04-30T17:26:36Z</dcterms:modified>
  <cp:revision>8</cp:revision>
  <dc:subject/>
  <dc:title>Sin título de diapositiva</dc:title>
</cp:coreProperties>
</file>