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5503863" cy="733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18B-5469-4191-A6EF-2CA36EC3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A69-5D60-4461-867B-8342F095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051-0332-435B-BB63-FD606C6B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92C-01E9-45C4-B215-C215DA20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C91-7BFB-4387-B5A2-314D5D6D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1BD-DA2D-4E69-AC1F-51360FBB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DA8-ED8E-45D5-A026-92D0C4A5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34A-E427-45F2-948F-B8D9A8D5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560-A443-43AA-A2D0-6948FE64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126-45D3-4FD1-BB00-EB395BA2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4B2-D759-45BF-9DEF-16D0D7C8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1CF-3439-432A-B6DC-EC57C52A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6230-79F9-48A0-91F2-C17D77884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7760" y="704880"/>
          <a:ext cx="74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704880"/>
                    <a:ext cx="74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92280" y="531720"/>
          <a:ext cx="8288280" cy="681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288280" cy="68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95360" y="655560"/>
          <a:ext cx="847260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39680" y="630360"/>
          <a:ext cx="75819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30360"/>
                    <a:ext cx="75819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6800" y="630360"/>
          <a:ext cx="804060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30360"/>
                    <a:ext cx="804060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04880" y="681120"/>
          <a:ext cx="804060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81120"/>
                    <a:ext cx="804060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1320" y="642960"/>
          <a:ext cx="77929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77929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04880" y="457200"/>
          <a:ext cx="80661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57200"/>
                    <a:ext cx="80661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606600"/>
          <a:ext cx="8647200" cy="65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647200" cy="65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5-01-27T20:21:25Z</cp:lastPrinted>
  <dcterms:modified xsi:type="dcterms:W3CDTF">2005-04-30T17:26:36Z</dcterms:modified>
  <cp:revision>8</cp:revision>
  <dc:subject/>
  <dc:title>Sin título de diapositiva</dc:title>
</cp:coreProperties>
</file>